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gif" ContentType="image/gif"/>
  <Override PartName="/ppt/media/image23.gif" ContentType="image/gif"/>
  <Override PartName="/ppt/media/image22.gif" ContentType="image/gif"/>
  <Override PartName="/ppt/media/image28.gif" ContentType="image/gif"/>
  <Override PartName="/ppt/media/image5.gif" ContentType="image/gif"/>
  <Override PartName="/ppt/media/image30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3.jpeg" ContentType="image/jpeg"/>
  <Override PartName="/ppt/media/image12.gif" ContentType="image/gif"/>
  <Override PartName="/ppt/media/image7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4.gif" ContentType="image/gif"/>
  <Override PartName="/ppt/media/image27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31.gif" ContentType="image/gif"/>
  <Override PartName="/ppt/media/image1.gif" ContentType="image/gif"/>
  <Override PartName="/ppt/media/image24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19.gif" ContentType="image/gif"/>
  <Override PartName="/ppt/media/image2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444-E23C-4389-BBCA-DD7A3372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2DEA-4843-4088-9A00-E5480FAB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E805-246D-4337-9DA6-8BC34D85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4EA-6AC0-4A60-85E6-C2103F86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D40C-3390-41EA-B660-1808BCE5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90EB-5561-4BC2-808B-F750C1C9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80F7-F0D7-4B5A-8D6D-B2FB730A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B831-32E7-49BA-8B07-A6ECB728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9E8F-DAC7-4174-B464-F510AE41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A458-E198-4709-96EA-2E5999CE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6410-C474-48BB-A071-EEDA1B56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29E0-694C-4F6B-A98C-40AA81DB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5DCC-AA77-4397-AAC3-446D1DD6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A0E1-2F3C-4AE9-91B8-5CF54A12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94F0-F426-462A-B354-4D5E3F99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580F-978F-4CC1-BB61-CC7F93BE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06CB-8F8C-4214-89D1-ECFCBC40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90483-7533-4FE1-B085-8F10EE6F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1C3EB-A050-436B-8C97-116F66B3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1E811-75D0-4CF1-ADED-BA808478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5AD98-F9D9-47F8-87DC-02687AA0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18605-2D66-4449-85E4-0FF632E6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3AB-7F9A-4638-8427-80CBF3BA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6B655-8DB4-4E3C-951F-CE58B00C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963AEF-C684-49BE-B529-828A2725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C5E48-B2EF-4CBC-8AA5-620C457B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B0B82-01EE-4F77-8425-1A2EE01C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E51DC-4EA8-457D-A0D8-9CC41DF6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AE717-2AB8-440F-A92F-D8357CC8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6BBCE-73A1-4673-963F-4FCBCFC6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663D7-8D5A-4616-B5C1-15CE714B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EC9C8-C7A0-4DC9-99B4-C8FA481F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615B7-D9AD-43A2-A9C6-790680AB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F6EA-C164-4276-99E6-13131A8F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1A4B8-56B7-4837-9334-825D673F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674A8-CEC6-4FC0-9DD1-3247778F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4602C-35F4-4B9A-B7F8-A0218BF4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A2DA7-16D5-4C34-AB2C-AEC2B1C1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8B0D1-88E9-45FE-82FC-44096371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2EECB-97EB-4B9B-9739-9509F8C0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9099C-DE30-484E-971D-7B148BEE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A391D-F5E7-4314-981A-0A6D4866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9843F-D4E3-4F5B-9FBE-700757F0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48E5C5-2591-4B1C-9B4F-6F31649F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88C3-E2E7-4EF8-9BD4-39EBACED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25B18F-5ACA-46C4-B20C-02D7FC17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141BD0-6951-477E-9403-400DA654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C31ADC-CF4E-41F1-8731-37F29CB1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8DAF7E-045F-45A9-A2E1-ECDBE4A0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57726-E4A7-428D-860F-93B54529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B0888-1150-4986-8DBF-B19EAF78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ADAB28-765A-467E-B9DA-9F7D94A5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F8C05F-6586-418E-B4DF-542DB150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18F9F2-70B7-4FCB-9F9B-7287E306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442168-1ABF-44C5-94C2-67FF23A1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B3C2-5109-4C51-AFDD-B699354A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0A9A24-488A-449F-AD94-10E9F958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080484-DC3E-4C8C-A9ED-3FF91E71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6B8040-9F31-4BF2-815D-C3B96B53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82EB2-E642-4C35-A7C8-0B83E059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5D1354-EEF1-4E43-A8AB-ED72D0EC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C71FF6-C37C-4675-87D3-3C8F3426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30638D-9449-4B03-ABF8-7AE51226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492920-CB20-43DB-9AD4-24D66465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721B76-FA8D-432B-ACF7-DB4854A9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5FCA9-583E-4B72-B78E-17E55009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467-B793-43D1-8CF9-2A2A07F5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F7E556-D361-4E43-B216-868BFD6E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A69ACE-58CE-42EB-8615-B1BD38B7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60A738-0465-4EAC-BE90-6A58F407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CA9C4A-8A9A-4814-B3BA-2E677869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4A5EAE-C215-4FAB-B533-48D9E7F9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BD731D-2232-4948-B403-58FD8C3F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0C308A-4ED3-4879-8B36-894478FD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D9963B-C666-4ADC-86E6-0743F4AF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1684C2-DDC3-4DCA-99F3-6C592B01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11BE9D-D7B2-4C23-BB1B-40A4AE24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718-44D8-49BC-BB34-7C3AE198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3D6FF1-29DE-4019-B73E-D54F8F6C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836490-4D4D-4B2D-BF8D-37719F89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826D1E-4DF6-4412-9FB7-9D6600B4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FEA464-50D5-4681-837A-538EF6BC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C6B1EB-F645-4E77-960D-6E84F0FB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77368-E02F-49FC-B12F-2EDB34A4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6F9A6-15EB-4224-A6B6-01707085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ECCA7-C215-4C13-8E8D-D1D0862B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FC628-CFA5-4EDF-94D6-EC298456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0B723-3372-4FD8-A133-F8DC4971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4D65-7C07-43B2-933A-4359791E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024CD-6995-43E0-90F2-C4CFC364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CE28A-CC20-4BE2-B7FD-955DCC5C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14E82-774C-4CEC-B37E-73C4EE83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C5A13-05AC-440B-B8A1-6FBA9FD6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06E69-BF9A-45FC-925C-FFA815B8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67C01-1F4C-4E56-9426-D7845B91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6A0D2-D210-45A6-8D5F-ACFE3533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8F03-4047-4FA4-9A42-0A19FB9330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47E1-9B3F-4D7C-B5BA-D2F068CC9BF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B8E5-3C6F-4C5C-BBB7-179E3165EB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AAF7-E2EF-41E1-881C-AD19491FB6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E953-6B78-4DDD-9A1B-01D7C248FB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CEA2-4625-477C-A0AE-10EF02BEB9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BCE7-C4D5-47E2-8D39-12AFB045F9B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6AAD-2037-46B6-B17D-78C8D0C49E5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image" Target="../media/image6.gif"/><Relationship Id="rId12" Type="http://schemas.openxmlformats.org/officeDocument/2006/relationships/image" Target="../media/image15.gif"/><Relationship Id="rId13" Type="http://schemas.openxmlformats.org/officeDocument/2006/relationships/image" Target="../media/image16.gif"/><Relationship Id="rId14" Type="http://schemas.openxmlformats.org/officeDocument/2006/relationships/image" Target="../media/image7.gif"/><Relationship Id="rId15" Type="http://schemas.openxmlformats.org/officeDocument/2006/relationships/image" Target="../media/image17.gif"/><Relationship Id="rId16" Type="http://schemas.openxmlformats.org/officeDocument/2006/relationships/image" Target="../media/image18.gif"/><Relationship Id="rId17" Type="http://schemas.openxmlformats.org/officeDocument/2006/relationships/image" Target="../media/image19.gif"/><Relationship Id="rId18" Type="http://schemas.openxmlformats.org/officeDocument/2006/relationships/image" Target="../media/image20.gif"/><Relationship Id="rId19" Type="http://schemas.openxmlformats.org/officeDocument/2006/relationships/image" Target="../media/image21.gif"/><Relationship Id="rId20" Type="http://schemas.openxmlformats.org/officeDocument/2006/relationships/image" Target="../media/image4.gif"/><Relationship Id="rId21" Type="http://schemas.openxmlformats.org/officeDocument/2006/relationships/image" Target="../media/image22.gif"/><Relationship Id="rId22" Type="http://schemas.openxmlformats.org/officeDocument/2006/relationships/image" Target="../media/image23.gif"/><Relationship Id="rId23" Type="http://schemas.openxmlformats.org/officeDocument/2006/relationships/image" Target="../media/image24.gif"/><Relationship Id="rId24" Type="http://schemas.openxmlformats.org/officeDocument/2006/relationships/image" Target="../media/image25.gif"/><Relationship Id="rId25" Type="http://schemas.openxmlformats.org/officeDocument/2006/relationships/image" Target="../media/image26.gif"/><Relationship Id="rId26" Type="http://schemas.openxmlformats.org/officeDocument/2006/relationships/image" Target="../media/image27.gif"/><Relationship Id="rId27" Type="http://schemas.openxmlformats.org/officeDocument/2006/relationships/image" Target="../media/image28.gif"/><Relationship Id="rId28" Type="http://schemas.openxmlformats.org/officeDocument/2006/relationships/image" Target="../media/image29.gif"/><Relationship Id="rId29" Type="http://schemas.openxmlformats.org/officeDocument/2006/relationships/image" Target="../media/image30.gif"/><Relationship Id="rId30" Type="http://schemas.openxmlformats.org/officeDocument/2006/relationships/image" Target="../media/image31.gif"/><Relationship Id="rId31" Type="http://schemas.openxmlformats.org/officeDocument/2006/relationships/image" Target="../media/image32.gif"/><Relationship Id="rId3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96960" y="466560"/>
            <a:ext cx="6966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1600" spc="-1" strike="noStrike">
                <a:solidFill>
                  <a:srgbClr val="102eac"/>
                </a:solidFill>
                <a:latin typeface="Century Schoolbook"/>
              </a:rPr>
              <a:t>МУНИЦИПАЛЬНОЕ КАЗЕННОЕ ОБЩЕОБРАЗОВАТЕЛЬНОЕ УЧРЕЖДЕНИЕ</a:t>
            </a:r>
            <a:br>
              <a:rPr sz="1600"/>
            </a:br>
            <a:r>
              <a:rPr b="1" lang="ru-RU" sz="1600" spc="-1" strike="noStrike">
                <a:solidFill>
                  <a:srgbClr val="102eac"/>
                </a:solidFill>
                <a:latin typeface="Century Schoolbook"/>
              </a:rPr>
              <a:t>ВЕНГЕРОВСКАЯ СРЕДНЯЯ ОБЩЕОБРАЗОВАТЕЛЬНАЯ ШКОЛА №2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102eac"/>
                </a:solidFill>
                <a:latin typeface="Century Schoolbook"/>
              </a:rPr>
              <a:t>ИГРА: «ПОЙМАЙ БАБОЧКУ!!»</a:t>
            </a:r>
            <a:br>
              <a:rPr sz="1600"/>
            </a:br>
            <a:r>
              <a:rPr b="1" lang="ru-RU" sz="1600" spc="-1" strike="noStrike">
                <a:solidFill>
                  <a:srgbClr val="102eac"/>
                </a:solidFill>
                <a:latin typeface="Century Schoolbook"/>
              </a:rPr>
              <a:t>(АНГЛИЙСКИЙ ЯЗЫК;</a:t>
            </a:r>
            <a:br>
              <a:rPr sz="1600"/>
            </a:br>
            <a:r>
              <a:rPr b="1" lang="ru-RU" sz="1600" spc="-1" strike="noStrike">
                <a:solidFill>
                  <a:srgbClr val="102eac"/>
                </a:solidFill>
                <a:latin typeface="Century Schoolbook"/>
              </a:rPr>
              <a:t>2 КЛАСС)</a:t>
            </a:r>
            <a:br>
              <a:rPr sz="1600"/>
            </a:b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2eac"/>
                </a:solidFill>
                <a:latin typeface="Century Schoolbook"/>
              </a:rPr>
              <a:t>Автор :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2eac"/>
                </a:solidFill>
                <a:latin typeface="Century Schoolbook"/>
              </a:rPr>
              <a:t>О.А. Булатошкина, учитель английского языка высшей квалификационной категории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2eac"/>
                </a:solidFill>
                <a:latin typeface="Century Schoolbook"/>
              </a:rPr>
              <a:t>2014-2015 учебный год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5" descr="1027_babochkiz"/>
          <p:cNvPicPr/>
          <p:nvPr/>
        </p:nvPicPr>
        <p:blipFill>
          <a:blip r:embed="rId1"/>
          <a:stretch/>
        </p:blipFill>
        <p:spPr>
          <a:xfrm>
            <a:off x="0" y="228600"/>
            <a:ext cx="762120" cy="28576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кошка аним"/>
          <p:cNvPicPr/>
          <p:nvPr/>
        </p:nvPicPr>
        <p:blipFill>
          <a:blip r:embed="rId2"/>
          <a:stretch/>
        </p:blipFill>
        <p:spPr>
          <a:xfrm>
            <a:off x="6553080" y="5410080"/>
            <a:ext cx="10670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r>
              <a:rPr b="0" lang="ru-RU" sz="2400" spc="-1" strike="noStrike">
                <a:solidFill>
                  <a:srgbClr val="102eac"/>
                </a:solidFill>
                <a:latin typeface="Times New Roman"/>
                <a:ea typeface="Times New Roman"/>
              </a:rPr>
              <a:t>ПРАВИЛА ИГРЫ</a:t>
            </a:r>
            <a:r>
              <a:rPr b="0" lang="ru-RU" sz="3000" spc="-1" strike="noStrike">
                <a:solidFill>
                  <a:srgbClr val="102eac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eac"/>
                </a:solidFill>
                <a:latin typeface="Times New Roman"/>
                <a:ea typeface="Times New Roman"/>
              </a:rPr>
              <a:t>По считалке учитель выбирает «ловца». Остальные обучающиеся называют буквы, «ловец» должен «поймать» бабочку, при помощи «сачка», которым является указка, после того, как все полюбовались бабочкой, он ее отпускает и «ловит» другую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eac"/>
                </a:solidFill>
                <a:latin typeface="Times New Roman"/>
                <a:ea typeface="Times New Roman"/>
              </a:rPr>
              <a:t>(игра используется для закрепления букв английского алфавита на начальном этапе обучения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4" descr="шарик маленький"/>
          <p:cNvPicPr/>
          <p:nvPr/>
        </p:nvPicPr>
        <p:blipFill>
          <a:blip r:embed="rId1"/>
          <a:stretch/>
        </p:blipFill>
        <p:spPr>
          <a:xfrm>
            <a:off x="6095880" y="228600"/>
            <a:ext cx="1525680" cy="15256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1006_babochkiz"/>
          <p:cNvPicPr/>
          <p:nvPr/>
        </p:nvPicPr>
        <p:blipFill>
          <a:blip r:embed="rId2"/>
          <a:stretch/>
        </p:blipFill>
        <p:spPr>
          <a:xfrm>
            <a:off x="0" y="0"/>
            <a:ext cx="1378080" cy="17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0800" y="286920"/>
            <a:ext cx="74768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A        DD      VV       U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63160" y="1598760"/>
            <a:ext cx="3616200" cy="2171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H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032000" y="1598760"/>
            <a:ext cx="3617640" cy="2171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00"/>
                </a:solidFill>
                <a:latin typeface="Century Schoolbook"/>
              </a:rPr>
              <a:t>Gg      Ee     Tt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Century Schoolbook"/>
              </a:rPr>
              <a:t>Pp           Ww        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Century Schoolbook"/>
              </a:rPr>
              <a:t>Zz         Yy         Ss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Century Schoolbook"/>
              </a:rPr>
              <a:t>Jj           Qq        Oo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560" y="2819160"/>
            <a:ext cx="3616200" cy="2173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Century Schoolbook"/>
              </a:rPr>
              <a:t>Ii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en-US" sz="2200" spc="-1" strike="noStrike">
                <a:solidFill>
                  <a:srgbClr val="ffff00"/>
                </a:solidFill>
                <a:latin typeface="Century Schoolbook"/>
              </a:rPr>
              <a:t>Kk           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entury Schoolbook"/>
              </a:rPr>
              <a:t>Rr            Cc         N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entury Schoolbook"/>
              </a:rPr>
              <a:t>Bb           Mm   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504960" y="7086240"/>
            <a:ext cx="36176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Picture 15" descr="1079_babochkiz"/>
          <p:cNvPicPr/>
          <p:nvPr/>
        </p:nvPicPr>
        <p:blipFill>
          <a:blip r:embed="rId1"/>
          <a:stretch/>
        </p:blipFill>
        <p:spPr>
          <a:xfrm>
            <a:off x="914400" y="380880"/>
            <a:ext cx="619200" cy="24066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6" descr="1069_babochkiz"/>
          <p:cNvPicPr/>
          <p:nvPr/>
        </p:nvPicPr>
        <p:blipFill>
          <a:blip r:embed="rId2"/>
          <a:stretch/>
        </p:blipFill>
        <p:spPr>
          <a:xfrm>
            <a:off x="3191040" y="287280"/>
            <a:ext cx="409320" cy="1381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7" descr="1056_babochkiz"/>
          <p:cNvPicPr/>
          <p:nvPr/>
        </p:nvPicPr>
        <p:blipFill>
          <a:blip r:embed="rId3"/>
          <a:stretch/>
        </p:blipFill>
        <p:spPr>
          <a:xfrm>
            <a:off x="7086600" y="2819520"/>
            <a:ext cx="666720" cy="7617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8" descr="1058_babochkiz"/>
          <p:cNvPicPr/>
          <p:nvPr/>
        </p:nvPicPr>
        <p:blipFill>
          <a:blip r:embed="rId4"/>
          <a:stretch/>
        </p:blipFill>
        <p:spPr>
          <a:xfrm>
            <a:off x="6686640" y="28728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9" descr="1080_babochkiz"/>
          <p:cNvPicPr/>
          <p:nvPr/>
        </p:nvPicPr>
        <p:blipFill>
          <a:blip r:embed="rId5"/>
          <a:stretch/>
        </p:blipFill>
        <p:spPr>
          <a:xfrm>
            <a:off x="0" y="1219320"/>
            <a:ext cx="420840" cy="13176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0" descr="1070_babochkiz"/>
          <p:cNvPicPr/>
          <p:nvPr/>
        </p:nvPicPr>
        <p:blipFill>
          <a:blip r:embed="rId6"/>
          <a:stretch/>
        </p:blipFill>
        <p:spPr>
          <a:xfrm>
            <a:off x="152280" y="2209680"/>
            <a:ext cx="777960" cy="6955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1" descr="1074_babochkiz"/>
          <p:cNvPicPr/>
          <p:nvPr/>
        </p:nvPicPr>
        <p:blipFill>
          <a:blip r:embed="rId7"/>
          <a:stretch/>
        </p:blipFill>
        <p:spPr>
          <a:xfrm>
            <a:off x="1066680" y="3429000"/>
            <a:ext cx="298440" cy="9954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3" descr="1038_babochkiz"/>
          <p:cNvPicPr/>
          <p:nvPr/>
        </p:nvPicPr>
        <p:blipFill>
          <a:blip r:embed="rId8"/>
          <a:stretch/>
        </p:blipFill>
        <p:spPr>
          <a:xfrm>
            <a:off x="2000160" y="1503360"/>
            <a:ext cx="1209600" cy="1268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4" descr="1004_babochkiz"/>
          <p:cNvPicPr/>
          <p:nvPr/>
        </p:nvPicPr>
        <p:blipFill>
          <a:blip r:embed="rId9"/>
          <a:stretch/>
        </p:blipFill>
        <p:spPr>
          <a:xfrm>
            <a:off x="4073400" y="3935520"/>
            <a:ext cx="981360" cy="11271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5" descr="1065_babochkiz"/>
          <p:cNvPicPr/>
          <p:nvPr/>
        </p:nvPicPr>
        <p:blipFill>
          <a:blip r:embed="rId10"/>
          <a:stretch/>
        </p:blipFill>
        <p:spPr>
          <a:xfrm>
            <a:off x="6913440" y="1584360"/>
            <a:ext cx="762120" cy="25812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6" descr="1069_babochkiz"/>
          <p:cNvPicPr/>
          <p:nvPr/>
        </p:nvPicPr>
        <p:blipFill>
          <a:blip r:embed="rId11"/>
          <a:stretch/>
        </p:blipFill>
        <p:spPr>
          <a:xfrm>
            <a:off x="3382920" y="1530360"/>
            <a:ext cx="746280" cy="25146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7" descr="1063_babochkiz"/>
          <p:cNvPicPr/>
          <p:nvPr/>
        </p:nvPicPr>
        <p:blipFill>
          <a:blip r:embed="rId12"/>
          <a:stretch/>
        </p:blipFill>
        <p:spPr>
          <a:xfrm>
            <a:off x="4605480" y="2023920"/>
            <a:ext cx="1114200" cy="733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8" descr="1055_babochkiz"/>
          <p:cNvPicPr/>
          <p:nvPr/>
        </p:nvPicPr>
        <p:blipFill>
          <a:blip r:embed="rId13"/>
          <a:stretch/>
        </p:blipFill>
        <p:spPr>
          <a:xfrm>
            <a:off x="4564080" y="4802040"/>
            <a:ext cx="1349280" cy="9464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9" descr="1056_babochkiz"/>
          <p:cNvPicPr/>
          <p:nvPr/>
        </p:nvPicPr>
        <p:blipFill>
          <a:blip r:embed="rId14"/>
          <a:stretch/>
        </p:blipFill>
        <p:spPr>
          <a:xfrm>
            <a:off x="6019920" y="3048120"/>
            <a:ext cx="666720" cy="7617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0" descr="1054_babochkiz"/>
          <p:cNvPicPr/>
          <p:nvPr/>
        </p:nvPicPr>
        <p:blipFill>
          <a:blip r:embed="rId15"/>
          <a:stretch/>
        </p:blipFill>
        <p:spPr>
          <a:xfrm>
            <a:off x="1523880" y="3505320"/>
            <a:ext cx="952560" cy="237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1" descr="1026_babochkiz"/>
          <p:cNvPicPr/>
          <p:nvPr/>
        </p:nvPicPr>
        <p:blipFill>
          <a:blip r:embed="rId16"/>
          <a:stretch/>
        </p:blipFill>
        <p:spPr>
          <a:xfrm>
            <a:off x="762120" y="556272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2" descr="1060_babochkiz"/>
          <p:cNvPicPr/>
          <p:nvPr/>
        </p:nvPicPr>
        <p:blipFill>
          <a:blip r:embed="rId17"/>
          <a:stretch/>
        </p:blipFill>
        <p:spPr>
          <a:xfrm>
            <a:off x="1066680" y="4416480"/>
            <a:ext cx="1220760" cy="12207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3" descr="1022_babochkiz"/>
          <p:cNvPicPr/>
          <p:nvPr/>
        </p:nvPicPr>
        <p:blipFill>
          <a:blip r:embed="rId18"/>
          <a:stretch/>
        </p:blipFill>
        <p:spPr>
          <a:xfrm>
            <a:off x="4605480" y="52560"/>
            <a:ext cx="1266840" cy="1266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4" descr="1023_babochkiz"/>
          <p:cNvPicPr/>
          <p:nvPr/>
        </p:nvPicPr>
        <p:blipFill>
          <a:blip r:embed="rId19"/>
          <a:stretch/>
        </p:blipFill>
        <p:spPr>
          <a:xfrm>
            <a:off x="5537160" y="4003560"/>
            <a:ext cx="1638360" cy="916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5" descr="1006_babochkiz"/>
          <p:cNvPicPr/>
          <p:nvPr/>
        </p:nvPicPr>
        <p:blipFill>
          <a:blip r:embed="rId20"/>
          <a:stretch/>
        </p:blipFill>
        <p:spPr>
          <a:xfrm>
            <a:off x="4419720" y="5943600"/>
            <a:ext cx="360360" cy="453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7" descr="1035_babochkiz"/>
          <p:cNvPicPr/>
          <p:nvPr/>
        </p:nvPicPr>
        <p:blipFill>
          <a:blip r:embed="rId21"/>
          <a:stretch/>
        </p:blipFill>
        <p:spPr>
          <a:xfrm>
            <a:off x="5791320" y="5181480"/>
            <a:ext cx="565200" cy="1440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8" descr="1040_babochkiz"/>
          <p:cNvPicPr/>
          <p:nvPr/>
        </p:nvPicPr>
        <p:blipFill>
          <a:blip r:embed="rId22"/>
          <a:stretch/>
        </p:blipFill>
        <p:spPr>
          <a:xfrm>
            <a:off x="6858000" y="4876920"/>
            <a:ext cx="565200" cy="16747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1" descr="1001_babochkiz"/>
          <p:cNvPicPr/>
          <p:nvPr/>
        </p:nvPicPr>
        <p:blipFill>
          <a:blip r:embed="rId23"/>
          <a:stretch/>
        </p:blipFill>
        <p:spPr>
          <a:xfrm>
            <a:off x="210960" y="3429000"/>
            <a:ext cx="636840" cy="3049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4" descr="1066_babochkiz"/>
          <p:cNvPicPr/>
          <p:nvPr/>
        </p:nvPicPr>
        <p:blipFill>
          <a:blip r:embed="rId24"/>
          <a:stretch/>
        </p:blipFill>
        <p:spPr>
          <a:xfrm>
            <a:off x="2535120" y="4498920"/>
            <a:ext cx="1309680" cy="1069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6" descr="1081_babochkiz"/>
          <p:cNvPicPr/>
          <p:nvPr/>
        </p:nvPicPr>
        <p:blipFill>
          <a:blip r:embed="rId25"/>
          <a:stretch/>
        </p:blipFill>
        <p:spPr>
          <a:xfrm>
            <a:off x="0" y="4343400"/>
            <a:ext cx="557280" cy="18637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8" descr="1034_babochkiz"/>
          <p:cNvPicPr/>
          <p:nvPr/>
        </p:nvPicPr>
        <p:blipFill>
          <a:blip r:embed="rId26"/>
          <a:stretch/>
        </p:blipFill>
        <p:spPr>
          <a:xfrm>
            <a:off x="2590920" y="2895480"/>
            <a:ext cx="525240" cy="17766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9" descr="1029_babochkiz"/>
          <p:cNvPicPr/>
          <p:nvPr/>
        </p:nvPicPr>
        <p:blipFill>
          <a:blip r:embed="rId27"/>
          <a:stretch/>
        </p:blipFill>
        <p:spPr>
          <a:xfrm>
            <a:off x="5719680" y="1068480"/>
            <a:ext cx="857160" cy="28573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0" descr="1049_babochkiz"/>
          <p:cNvPicPr/>
          <p:nvPr/>
        </p:nvPicPr>
        <p:blipFill>
          <a:blip r:embed="rId28"/>
          <a:stretch/>
        </p:blipFill>
        <p:spPr>
          <a:xfrm>
            <a:off x="2971800" y="5867280"/>
            <a:ext cx="824040" cy="8748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2" descr="1002_babochkiz"/>
          <p:cNvPicPr/>
          <p:nvPr/>
        </p:nvPicPr>
        <p:blipFill>
          <a:blip r:embed="rId29"/>
          <a:stretch/>
        </p:blipFill>
        <p:spPr>
          <a:xfrm>
            <a:off x="4876920" y="5880240"/>
            <a:ext cx="931680" cy="9777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3" descr="1064_babochkiz"/>
          <p:cNvPicPr/>
          <p:nvPr/>
        </p:nvPicPr>
        <p:blipFill>
          <a:blip r:embed="rId30"/>
          <a:stretch/>
        </p:blipFill>
        <p:spPr>
          <a:xfrm>
            <a:off x="7086600" y="3581280"/>
            <a:ext cx="355680" cy="10861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54" descr="1015_babochkiz"/>
          <p:cNvPicPr/>
          <p:nvPr/>
        </p:nvPicPr>
        <p:blipFill>
          <a:blip r:embed="rId31"/>
          <a:stretch/>
        </p:blipFill>
        <p:spPr>
          <a:xfrm>
            <a:off x="762120" y="2209680"/>
            <a:ext cx="11984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echka</dc:creator>
  <dc:description/>
  <dc:language>en-US</dc:language>
  <cp:lastModifiedBy>User</cp:lastModifiedBy>
  <dcterms:modified xsi:type="dcterms:W3CDTF">2015-01-15T10:30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