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B2E-3960-4945-B5CC-FC48E026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1611-1CB2-49C6-B460-8AE0EEAC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FB5-00DF-4680-A975-0A877277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DE7-8CA0-4D9A-8794-072C369F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FF2A-6298-4B6D-8B14-8C3E7F6B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296-6459-4F10-8C91-20A6A81F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0F6-7002-4498-BC1B-86062D2F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9A91-19C4-4E6D-AE4D-10510389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6248-4EC8-4F89-B041-7D6175BD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1EE-4E56-44B2-9C03-2FE35D8D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1630-B9A6-4B52-BEA4-AF51BF5E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42F9-9B7F-47A5-9D22-92A1F5F0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C4E9-A90B-45BE-856B-FBF2C1EB4B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Рамка 5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42" name="Рамка 5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09520" y="209520"/>
              <a:ext cx="8724960" cy="643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Прямоугольник 8"/>
          <p:cNvSpPr/>
          <p:nvPr/>
        </p:nvSpPr>
        <p:spPr>
          <a:xfrm>
            <a:off x="685800" y="121932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 Black"/>
              </a:rPr>
              <a:t>Формирование метапредметных результатов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Arial Black"/>
              </a:rPr>
              <a:t>УМК «Школа Росс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0" y="181080"/>
            <a:ext cx="9144000" cy="6545160"/>
          </a:xfrm>
          <a:prstGeom prst="rect">
            <a:avLst/>
          </a:prstGeom>
          <a:ln w="0">
            <a:noFill/>
          </a:ln>
        </p:spPr>
      </p:pic>
      <p:grpSp>
        <p:nvGrpSpPr>
          <p:cNvPr id="93" name="Рамка 5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94" name="Рамка 5" descr=""/>
            <p:cNvPicPr/>
            <p:nvPr/>
          </p:nvPicPr>
          <p:blipFill>
            <a:blip r:embed="rId2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09520" y="209520"/>
              <a:ext cx="8724960" cy="643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6"/>
          <p:cNvSpPr/>
          <p:nvPr/>
        </p:nvSpPr>
        <p:spPr>
          <a:xfrm>
            <a:off x="1752480" y="1143000"/>
            <a:ext cx="61722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е прекрасное зрелище на свете – это вид ребенка, уверенно идущего по жизненной дороге после того, как вы показали ему этот п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Рамка 5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46" name="Рамка 5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09520" y="209520"/>
              <a:ext cx="8724960" cy="643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AutoShape 6"/>
          <p:cNvSpPr/>
          <p:nvPr/>
        </p:nvSpPr>
        <p:spPr>
          <a:xfrm>
            <a:off x="914400" y="457200"/>
            <a:ext cx="7238880" cy="563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 Black"/>
              </a:rPr>
              <a:t>Всему, что необходим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 Black"/>
              </a:rPr>
              <a:t>знать, научить нельз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03300"/>
                </a:solidFill>
                <a:latin typeface="Arial Black"/>
              </a:rPr>
              <a:t>учитель может сдел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 Black"/>
              </a:rPr>
              <a:t>только од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03300"/>
                </a:solidFill>
                <a:latin typeface="Arial Black"/>
              </a:rPr>
              <a:t>- указать дорог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 Black"/>
              </a:rPr>
              <a:t>(Ричард Олдингтон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Users\User\Desktop\Attachment.jpeg"/>
          <p:cNvPicPr/>
          <p:nvPr/>
        </p:nvPicPr>
        <p:blipFill>
          <a:blip r:embed="rId1"/>
          <a:stretch/>
        </p:blipFill>
        <p:spPr>
          <a:xfrm>
            <a:off x="533520" y="3505320"/>
            <a:ext cx="2133360" cy="28573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2286000" y="8380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User\Desktop\т.jpeg"/>
          <p:cNvPicPr/>
          <p:nvPr/>
        </p:nvPicPr>
        <p:blipFill>
          <a:blip r:embed="rId2"/>
          <a:stretch/>
        </p:blipFill>
        <p:spPr>
          <a:xfrm>
            <a:off x="2514600" y="2590920"/>
            <a:ext cx="2200320" cy="2857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Users\User\Desktop\р.jpeg"/>
          <p:cNvPicPr/>
          <p:nvPr/>
        </p:nvPicPr>
        <p:blipFill>
          <a:blip r:embed="rId3"/>
          <a:stretch/>
        </p:blipFill>
        <p:spPr>
          <a:xfrm>
            <a:off x="4572000" y="3733920"/>
            <a:ext cx="2362320" cy="2762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Users\User\Desktop\ю.jpeg"/>
          <p:cNvPicPr/>
          <p:nvPr/>
        </p:nvPicPr>
        <p:blipFill>
          <a:blip r:embed="rId4"/>
          <a:stretch/>
        </p:blipFill>
        <p:spPr>
          <a:xfrm>
            <a:off x="6705720" y="2362320"/>
            <a:ext cx="213336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7"/>
          <p:cNvSpPr/>
          <p:nvPr/>
        </p:nvSpPr>
        <p:spPr>
          <a:xfrm>
            <a:off x="457200" y="685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1295280" y="380880"/>
            <a:ext cx="6705720" cy="190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чебни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 и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остаетс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основным средством обуч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Рамка 5"/>
          <p:cNvGrpSpPr/>
          <p:nvPr/>
        </p:nvGrpSpPr>
        <p:grpSpPr>
          <a:xfrm>
            <a:off x="-115920" y="0"/>
            <a:ext cx="9259920" cy="6967440"/>
            <a:chOff x="-115920" y="0"/>
            <a:chExt cx="9259920" cy="6967440"/>
          </a:xfrm>
        </p:grpSpPr>
        <p:pic>
          <p:nvPicPr>
            <p:cNvPr id="57" name="Рамка 5" descr=""/>
            <p:cNvPicPr/>
            <p:nvPr/>
          </p:nvPicPr>
          <p:blipFill>
            <a:blip r:embed="rId1"/>
            <a:stretch/>
          </p:blipFill>
          <p:spPr>
            <a:xfrm>
              <a:off x="-115920" y="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54080" y="246240"/>
              <a:ext cx="8724960" cy="64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AutoShape 10"/>
          <p:cNvSpPr/>
          <p:nvPr/>
        </p:nvSpPr>
        <p:spPr>
          <a:xfrm flipV="1" rot="10800000">
            <a:off x="609480" y="913320"/>
            <a:ext cx="7925040" cy="472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мплект УМК «Школа России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могает решить задач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 формировани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ниверсальных учебных действ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914400" y="1753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424b"/>
                </a:solidFill>
                <a:latin typeface="Times New Roman"/>
                <a:ea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Рамка 5"/>
          <p:cNvGrpSpPr/>
          <p:nvPr/>
        </p:nvGrpSpPr>
        <p:grpSpPr>
          <a:xfrm>
            <a:off x="-115920" y="0"/>
            <a:ext cx="9259920" cy="6967440"/>
            <a:chOff x="-115920" y="0"/>
            <a:chExt cx="9259920" cy="6967440"/>
          </a:xfrm>
        </p:grpSpPr>
        <p:pic>
          <p:nvPicPr>
            <p:cNvPr id="62" name="Рамка 5" descr=""/>
            <p:cNvPicPr/>
            <p:nvPr/>
          </p:nvPicPr>
          <p:blipFill>
            <a:blip r:embed="rId1"/>
            <a:stretch/>
          </p:blipFill>
          <p:spPr>
            <a:xfrm>
              <a:off x="-115920" y="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54080" y="246240"/>
              <a:ext cx="8724960" cy="64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AutoShape 10"/>
          <p:cNvSpPr/>
          <p:nvPr/>
        </p:nvSpPr>
        <p:spPr>
          <a:xfrm flipV="1" rot="10800000">
            <a:off x="349200" y="379800"/>
            <a:ext cx="81532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Новые руб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914400" y="175464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424b"/>
                </a:solidFill>
                <a:latin typeface="Times New Roman"/>
                <a:ea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User\Desktop\х.jpeg"/>
          <p:cNvPicPr/>
          <p:nvPr/>
        </p:nvPicPr>
        <p:blipFill>
          <a:blip r:embed="rId2"/>
          <a:stretch/>
        </p:blipFill>
        <p:spPr>
          <a:xfrm>
            <a:off x="228600" y="1219320"/>
            <a:ext cx="388620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Users\User\Desktop\ы.gif"/>
          <p:cNvPicPr/>
          <p:nvPr/>
        </p:nvPicPr>
        <p:blipFill>
          <a:blip r:embed="rId3"/>
          <a:stretch/>
        </p:blipFill>
        <p:spPr>
          <a:xfrm>
            <a:off x="2590920" y="1676520"/>
            <a:ext cx="3504960" cy="25905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C:\Documents and Settings\OPodymova\Desktop\Наташа\98-99.jpg"/>
          <p:cNvPicPr/>
          <p:nvPr/>
        </p:nvPicPr>
        <p:blipFill>
          <a:blip r:embed="rId4"/>
          <a:stretch/>
        </p:blipFill>
        <p:spPr>
          <a:xfrm>
            <a:off x="457200" y="4038480"/>
            <a:ext cx="388620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Picture 2" descr="C:\Documents and Settings\iigusheva\Мои документы\Игушева Ирина Александровна\Школа России\Презентация Школа России Математика\Джипек\2-2\Moro_2-2__065_080_07.jpg"/>
          <p:cNvPicPr/>
          <p:nvPr/>
        </p:nvPicPr>
        <p:blipFill>
          <a:blip r:embed="rId5"/>
          <a:stretch/>
        </p:blipFill>
        <p:spPr>
          <a:xfrm>
            <a:off x="6019920" y="1371600"/>
            <a:ext cx="2476440" cy="312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0" name="Picture 4" descr="Y:\Полученные файлы\от Веры Верженской\3 december\122_3k2'h-8.jpg"/>
          <p:cNvPicPr/>
          <p:nvPr/>
        </p:nvPicPr>
        <p:blipFill>
          <a:blip r:embed="rId6"/>
          <a:stretch/>
        </p:blipFill>
        <p:spPr>
          <a:xfrm>
            <a:off x="4876920" y="3581280"/>
            <a:ext cx="2147760" cy="3121200"/>
          </a:xfrm>
          <a:prstGeom prst="rect">
            <a:avLst/>
          </a:prstGeom>
          <a:ln w="9360">
            <a:solidFill>
              <a:srgbClr val="e4f3f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Рамка 5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72" name="Рамка 5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09520" y="209520"/>
              <a:ext cx="8724960" cy="643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AutoShape 10"/>
          <p:cNvSpPr/>
          <p:nvPr/>
        </p:nvSpPr>
        <p:spPr>
          <a:xfrm>
            <a:off x="457200" y="380880"/>
            <a:ext cx="8381880" cy="12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 Black"/>
              </a:rPr>
              <a:t>Формирование регулятив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 Black"/>
              </a:rPr>
              <a:t>учебны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914400" y="2057400"/>
            <a:ext cx="800100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Развитие умения выполнять учебные действия в соответствии с поставленной задач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Развитие умения высказывать своё предположение на основе работы с материалом учеб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Развитие умения прогнозировать предстоящую работу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витие умения осуществлять познавательную и личностную рефлексию (использую метод самооцен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Рамка 5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77" name="Рамка 5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09520" y="209520"/>
              <a:ext cx="8724960" cy="643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AutoShape 10"/>
          <p:cNvSpPr/>
          <p:nvPr/>
        </p:nvSpPr>
        <p:spPr>
          <a:xfrm>
            <a:off x="609480" y="380880"/>
            <a:ext cx="792504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 Black"/>
              </a:rPr>
              <a:t>Формирование познава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 Black"/>
              </a:rPr>
              <a:t>учебны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57200" y="1608480"/>
            <a:ext cx="84582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Развитие умения извлекать информацию из текстов схем, иллюстр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Перерабатывать информацию и представлять в виде схем, моделей, сообщ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Анализировать, сравнивать, группировать объекты, явления, фа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Отбирать необходимые источники информации для изучения нового материала  среди словарей, энциклопедий, справочников, сети Интернет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Рамка 5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82" name="Рамка 5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209520" y="209520"/>
              <a:ext cx="8724960" cy="643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10"/>
          <p:cNvSpPr/>
          <p:nvPr/>
        </p:nvSpPr>
        <p:spPr>
          <a:xfrm>
            <a:off x="609480" y="380880"/>
            <a:ext cx="792504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 Black"/>
              </a:rPr>
              <a:t>Формирование  коммуникатив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 Black"/>
              </a:rPr>
              <a:t>учеб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85800" y="1656720"/>
            <a:ext cx="81532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ю умения слушать и понимать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Строить речевое высказывание в соответствии с поставленными задач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Оформлять свои мысли в устной форме, аргументировано отстаивать свою точку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ние работать в паре, групп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Рамка 5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87" name="Рамка 5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09520" y="209520"/>
              <a:ext cx="8724960" cy="643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AutoShape 10"/>
          <p:cNvSpPr/>
          <p:nvPr/>
        </p:nvSpPr>
        <p:spPr>
          <a:xfrm>
            <a:off x="609480" y="380880"/>
            <a:ext cx="792504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 Black"/>
              </a:rPr>
              <a:t>Формирование личнос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 Black"/>
              </a:rPr>
              <a:t>учеб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685800" y="3117960"/>
            <a:ext cx="815328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457200" y="2026440"/>
            <a:ext cx="79246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Развитие умения выказывать своё отношение к героям, выражать свои эмо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Оценивать поступки в соответствии с определённой ситу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Развитие мотивов учеб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3-11-01T05:55:02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