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F3C-8D64-473F-8D33-2BEBE005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9F4-9014-42F2-BB0E-B4AA912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9CD-338F-4E35-AAB4-A9F51386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5AA-AE98-4EB1-9D4A-EE2DC4DD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F705-29A0-4277-BD12-D006DCE6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2EC4-68DE-452E-A11D-49C7E385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2B9E-730D-4A3F-AA4F-145E7D9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C151-90AC-4BF3-8022-BA295CC6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094C-958D-4553-8354-F9C51FC3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CADA-C58A-4931-A457-A32B95AA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B7C2-8359-474D-99E3-5E860D4E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7A6-D901-4FF3-A47F-1805FCBB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601B-709B-4E2E-9996-888CA2A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913A-005A-4DF3-AA42-0981128F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7740-5CE8-4D95-A0F0-274078EE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72A2-DA28-48F9-914F-E3A61FC1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4192-D8C8-4177-BAC2-75B460C5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D1D8B-0D3E-4C56-9BF8-845F2DF3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6719E-C648-4DBB-906D-4C554A72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7A44C-9C21-4897-A078-7D1EE9F9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BE30B-8BEE-4668-9882-D01F1DF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68251-0519-46C4-B792-461DCB15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B39-3983-4C43-91A0-E9077F89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83D7B-14A3-4ECD-B843-9ABDCB87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802F2-EF52-4C12-A88B-32300D4C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1E361-095E-4B3B-918F-FE09023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2C124-A2CA-49E3-8964-7CD2E60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3AB4A-2167-4569-99FD-72EFE35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6A84B-2C60-468F-A469-559D29A7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CF56F-978F-4E21-BE88-B4DD5FC4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C279-9964-496D-A1E9-3185A6E2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5F0D-4BED-4871-8A6C-1865F9C5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A8E5-8EE0-4880-8C41-9DA02A95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FE5-B9F7-4400-AA29-334EFF53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47CA-3403-47C9-8478-4C5C9A86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5D6D-3318-4862-84D2-1A78AA50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AEFD-EAFC-474D-9CA6-E643922D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E72D-A66D-4354-8358-75C0C088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747B-7B6E-46B3-B761-88B282B1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7E93-D02D-42E9-A5AB-103C170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3AD91-E047-46B9-82F3-BA3415D4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664E-69AE-4D98-A599-00911E5C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780D-445A-4553-8D6A-23B1E2B8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A9DEF-422B-4D1C-BEC4-9452A64E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842-21A5-42B8-87DA-6E821956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7F0B8-D346-4427-8B76-6DAB9EDB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B3CE4-B033-4242-9083-F86BEE91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7CB36-C5C5-4159-B031-A1EE7716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DF572-5FE0-4E59-9B53-22739480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52AFB-DE06-40E0-8B58-91E5D8D2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36FBF-6AFA-47FC-839B-C0DB368B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9A170-1D77-4434-885A-C1220F6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E4C72-3273-49D2-9806-85CBAD5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3CFF0-DA06-4301-9EA7-08A3E25C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EBC6E-57B0-41F1-847C-05DC9961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56D-549E-45D2-94A0-04872197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F4C6E-FAAD-4468-B004-2AC7D1BD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0EFF7-47DF-482C-935B-4045AC82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96420-761D-4DE7-BCB7-E32F4C01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2BDE9-1CE1-4BDF-8C7D-E46D9287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FBF6A-546F-4904-8DD8-5FE5AD0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B3A84-18FD-4817-A686-960D325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92F8E-F4A5-4570-A177-E1D9BC5E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AEF54-72CB-4FB5-A461-4A084EA1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DD5B6-D13A-41D8-B7BB-5E95B1A5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13A73-9C91-4470-954B-A739C4B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6AD-5C7E-4DB9-8E57-1F765C2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854FC-86FC-431A-BBC5-779223FD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5D84C-95D1-4CEE-B2E1-9CCAADCB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7ABDA-6D51-43B9-8834-ED35990F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2CA9E-DA8A-4CE4-884B-1A656123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30974-B1DC-4D11-828B-3B6B62CB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A9A7D-40BB-4BA7-855E-0EBF4D0B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30720-E150-4B9A-A9F1-B2327E4F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A6228-103E-4B70-89E5-C5828C3B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6AE8E-3A6C-4126-B478-4B6FF6D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3B181-9492-4705-880C-43983376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6FF-C00C-4229-B84A-4A76320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1870D-6E5F-43F8-BAD8-BE6B1E51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7453B-3472-4D5F-93B1-046C509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A37C3-BB77-4C59-9793-7AB3E941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770BD-EB64-4C0F-9811-03E8CC59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1CBBC-C2C8-4B52-8692-BFED323F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7D9-250D-47CE-8C25-AEFA8FD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0698-2604-4AF3-9EBA-25D401644F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30F9-E3F3-4079-95C5-CF0C6FA8B07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4849-D454-4140-9930-DC33A68D37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dc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bddc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E2F3-5B8D-4EC4-8FB5-7391353E63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E57-F690-4932-9641-AC159CBE5C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6DA5-0AA8-4B88-A0E2-D9F731E0BA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3258-546E-473C-98F4-82EB4E42CF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4720" y="5516640"/>
            <a:ext cx="485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РУССКОГО ЯЗЫК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КЛАСС</a:t>
            </a:r>
            <a:endParaRPr b="0" lang="en-US" sz="28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2" name="Выноска-облако 3"/>
          <p:cNvSpPr/>
          <p:nvPr/>
        </p:nvSpPr>
        <p:spPr>
          <a:xfrm>
            <a:off x="1258920" y="692280"/>
            <a:ext cx="7634160" cy="345744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обобщения зн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мя числительно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916000" y="3499920"/>
            <a:ext cx="5776920" cy="23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а  15,40,581 – записать  в форме родительного и предложного падеж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Выноска-облако 4"/>
          <p:cNvSpPr/>
          <p:nvPr/>
        </p:nvSpPr>
        <p:spPr>
          <a:xfrm>
            <a:off x="1547640" y="260280"/>
            <a:ext cx="6553440" cy="259236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заменационн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2195640" y="2420640"/>
            <a:ext cx="67118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ый международный телефонный разговор состоялся 31 декабря 1898 год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ьшая глубина Балтийского моря – около 459 метров, а Азовского – не более 14 метров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ировом океане обитает свыше 1800 видов рыб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ина этого участка  около 840 метров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емействе колибри – 123 рода, 319 видов, 656 разновидностей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взмахов птички колибри колеблется от 30 до 100 в секунд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ходе было более 300 школьников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Юннаты вырастили сад с 30 яблонями, 25 грушами, 55 вишням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тчик – космонавт беседовал с 45 учениками нашей школы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Выноска-облако 4"/>
          <p:cNvSpPr/>
          <p:nvPr/>
        </p:nvSpPr>
        <p:spPr>
          <a:xfrm>
            <a:off x="1042920" y="333360"/>
            <a:ext cx="7632720" cy="1871640"/>
          </a:xfrm>
          <a:prstGeom prst="cloudCallout">
            <a:avLst>
              <a:gd name="adj1" fmla="val -49069"/>
              <a:gd name="adj2" fmla="val 85837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фоэпическ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«Я диктор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Выноска-облако 6"/>
          <p:cNvSpPr/>
          <p:nvPr/>
        </p:nvSpPr>
        <p:spPr>
          <a:xfrm>
            <a:off x="1547640" y="836640"/>
            <a:ext cx="7093080" cy="3960720"/>
          </a:xfrm>
          <a:prstGeom prst="cloudCallout">
            <a:avLst>
              <a:gd name="adj1" fmla="val -47296"/>
              <a:gd name="adj2" fmla="val 7235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думать рассказ, используя в нем все виды числ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7-10 предлож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2411280" y="4581360"/>
            <a:ext cx="673272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имя числительное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Выноска-облако 6"/>
          <p:cNvSpPr/>
          <p:nvPr/>
        </p:nvSpPr>
        <p:spPr>
          <a:xfrm>
            <a:off x="1547640" y="836640"/>
            <a:ext cx="7093080" cy="280836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3059280" y="1773360"/>
            <a:ext cx="453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едение итог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979280" y="1557000"/>
            <a:ext cx="5832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это знал и повторил – красное облачк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а! Я это знаю! – синее облачк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Я многое узнал только сегодня на уроке – белое облачк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Выноска-облако 6"/>
          <p:cNvSpPr/>
          <p:nvPr/>
        </p:nvSpPr>
        <p:spPr>
          <a:xfrm flipV="1" rot="9506400">
            <a:off x="7543440" y="880200"/>
            <a:ext cx="1189080" cy="846360"/>
          </a:xfrm>
          <a:prstGeom prst="cloudCallout">
            <a:avLst>
              <a:gd name="adj1" fmla="val 121611"/>
              <a:gd name="adj2" fmla="val 6145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Выноска-облако 10"/>
          <p:cNvSpPr/>
          <p:nvPr/>
        </p:nvSpPr>
        <p:spPr>
          <a:xfrm flipV="1" rot="9506400">
            <a:off x="7565760" y="2248920"/>
            <a:ext cx="1190520" cy="846360"/>
          </a:xfrm>
          <a:prstGeom prst="cloudCallout">
            <a:avLst>
              <a:gd name="adj1" fmla="val 101319"/>
              <a:gd name="adj2" fmla="val 51606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-облако 11"/>
          <p:cNvSpPr/>
          <p:nvPr/>
        </p:nvSpPr>
        <p:spPr>
          <a:xfrm flipV="1" rot="9506400">
            <a:off x="7278840" y="3761640"/>
            <a:ext cx="1188720" cy="846360"/>
          </a:xfrm>
          <a:prstGeom prst="cloudCallout">
            <a:avLst>
              <a:gd name="adj1" fmla="val 99449"/>
              <a:gd name="adj2" fmla="val 98425"/>
            </a:avLst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носка-облако 15"/>
          <p:cNvSpPr/>
          <p:nvPr/>
        </p:nvSpPr>
        <p:spPr>
          <a:xfrm>
            <a:off x="1619280" y="260280"/>
            <a:ext cx="5329080" cy="1297080"/>
          </a:xfrm>
          <a:prstGeom prst="cloudCallout">
            <a:avLst>
              <a:gd name="adj1" fmla="val -62314"/>
              <a:gd name="adj2" fmla="val 116282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флекс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700360" y="2781000"/>
            <a:ext cx="59752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 понятия о числительном как  о части реч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правописание «Ь» в числительных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виды числительных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ь навыки употребления числительных в устной реч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Выноска-облако 6"/>
          <p:cNvSpPr/>
          <p:nvPr/>
        </p:nvSpPr>
        <p:spPr>
          <a:xfrm>
            <a:off x="2050920" y="333360"/>
            <a:ext cx="5616720" cy="165564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63640" y="1989000"/>
            <a:ext cx="70725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еоретическое » - ответы на вопросы учител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интаксическое »  - разбор предложений у дос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рфологическое » – буквенный диктан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рфемное » – определение видов числительны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кзаменационное » - проверка зна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рфоэпическое » - игра «Я  диктор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ворческое » -  домашнее зад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Выноска-облако 5"/>
          <p:cNvSpPr/>
          <p:nvPr/>
        </p:nvSpPr>
        <p:spPr>
          <a:xfrm>
            <a:off x="755640" y="260280"/>
            <a:ext cx="7777080" cy="151308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ешествие по  обла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Выноска-облако 6"/>
          <p:cNvSpPr/>
          <p:nvPr/>
        </p:nvSpPr>
        <p:spPr>
          <a:xfrm>
            <a:off x="1835280" y="333360"/>
            <a:ext cx="5832360" cy="2158920"/>
          </a:xfrm>
          <a:prstGeom prst="cloudCallout">
            <a:avLst>
              <a:gd name="adj1" fmla="val -41736"/>
              <a:gd name="adj2" fmla="val 7404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2556000" y="1125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еоретическое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8"/>
          <p:cNvSpPr/>
          <p:nvPr/>
        </p:nvSpPr>
        <p:spPr>
          <a:xfrm>
            <a:off x="1403280" y="2565360"/>
            <a:ext cx="774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то такое имя числитель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ем отличается имя числительное от других частей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 какие две группы делятся числительные по значе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зовите  разряды  количественных числ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ем отличаются  простые числительные от состав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огда пишется мягкий знак в середине числительных, а когда в кон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акие числительные имеют только две падежные формы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736640" y="3068640"/>
            <a:ext cx="7407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писать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ожения у доски под диктовку учител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ыполнить зада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подчеркнуть числительные как члены предло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елите шесть на тр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живем на втором этаж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а брата отдыхали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я спортивной секции начинается в три ча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Выноска-облако 4"/>
          <p:cNvSpPr/>
          <p:nvPr/>
        </p:nvSpPr>
        <p:spPr>
          <a:xfrm>
            <a:off x="1692360" y="333360"/>
            <a:ext cx="6767280" cy="201600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интаксическое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Выноска-облако 7"/>
          <p:cNvSpPr/>
          <p:nvPr/>
        </p:nvSpPr>
        <p:spPr>
          <a:xfrm>
            <a:off x="2771640" y="549360"/>
            <a:ext cx="5472360" cy="2448000"/>
          </a:xfrm>
          <a:prstGeom prst="cloudCallout">
            <a:avLst>
              <a:gd name="adj1" fmla="val -66782"/>
              <a:gd name="adj2" fmla="val 5597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8"/>
          <p:cNvSpPr/>
          <p:nvPr/>
        </p:nvSpPr>
        <p:spPr>
          <a:xfrm>
            <a:off x="1692360" y="306864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зываю слова, а вы должны определить, какая это часть речи: существительное, прилагательное, числительное, глагол, записывая начальную букву в строчку через запят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Пятерка» за ответ, пять товарищей, трехколесный велосипед, утроить усилия, второй по списку, шесть деревьев, пятилетний сын, новенький пятак, стал шестиклассником, пять секунд, семиэтаж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195280" y="3933720"/>
            <a:ext cx="6497640" cy="23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       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«5» - правильных 10,11 от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«4» - правильных 9,8 ответ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«3» - правильных 7,6 от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«2» - правильных ответов  меньше пят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Выноска-облако 4"/>
          <p:cNvSpPr/>
          <p:nvPr/>
        </p:nvSpPr>
        <p:spPr>
          <a:xfrm>
            <a:off x="900000" y="620640"/>
            <a:ext cx="7775640" cy="266400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проверка от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,ч,п,г,ч,ч,п,с,с,ч,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916000" y="3142800"/>
            <a:ext cx="58482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ете ли вы виды числительны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стое – поднять правую ру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ставное – поднять левую ру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жное – поднять обе ру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Выноска-облако 3"/>
          <p:cNvSpPr/>
          <p:nvPr/>
        </p:nvSpPr>
        <p:spPr>
          <a:xfrm>
            <a:off x="324000" y="0"/>
            <a:ext cx="7993080" cy="270828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entury Schoolboo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1979640" y="558972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, 25, 200, 221, двухтысячный, двухсотый, 10, 173, третий, 40, 100, 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059280" y="3284280"/>
            <a:ext cx="570528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но ответить на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году вы родилис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лет вы проучились в   нашей школ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лет вашим маме, пап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детей в вашей семь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Выноска-облако 6"/>
          <p:cNvSpPr/>
          <p:nvPr/>
        </p:nvSpPr>
        <p:spPr>
          <a:xfrm>
            <a:off x="1187280" y="333360"/>
            <a:ext cx="6769440" cy="1943280"/>
          </a:xfrm>
          <a:prstGeom prst="cloudCallout">
            <a:avLst>
              <a:gd name="adj1" fmla="val -31282"/>
              <a:gd name="adj2" fmla="val 88796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заменацион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09:19:57Z</dcterms:created>
  <dc:creator>Admin</dc:creator>
  <dc:description/>
  <dc:language>en-US</dc:language>
  <cp:lastModifiedBy>я</cp:lastModifiedBy>
  <dcterms:modified xsi:type="dcterms:W3CDTF">2015-01-15T14:20:37Z</dcterms:modified>
  <cp:revision>35</cp:revision>
  <dc:subject/>
  <dc:title>Урок русского языка 6 класс</dc:title>
</cp:coreProperties>
</file>