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22.gif" ContentType="image/gif"/>
  <Override PartName="/ppt/media/image25.jpeg" ContentType="image/jpeg"/>
  <Override PartName="/ppt/media/image11.gif" ContentType="image/gi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4.jpeg" ContentType="image/jpeg"/>
  <Override PartName="/ppt/media/image1.jpeg" ContentType="image/jpeg"/>
  <Override PartName="/ppt/media/image21.jpeg" ContentType="image/jpeg"/>
  <Override PartName="/ppt/media/image20.png" ContentType="image/png"/>
  <Override PartName="/ppt/media/image18.gif" ContentType="image/gif"/>
  <Override PartName="/ppt/media/image15.jpeg" ContentType="image/jpeg"/>
  <Override PartName="/ppt/media/image16.wmf" ContentType="image/x-wmf"/>
  <Override PartName="/ppt/media/image14.jpeg" ContentType="image/jpeg"/>
  <Override PartName="/ppt/media/image3.png" ContentType="image/png"/>
  <Override PartName="/ppt/media/image23.gif" ContentType="image/gif"/>
  <Override PartName="/ppt/media/image17.jpeg" ContentType="image/jpeg"/>
  <Override PartName="/ppt/media/image19.jpeg" ContentType="image/jpe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33BA-A2C1-4A61-9177-352A74C874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5919-2E01-4C15-BE63-BE039E6A90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DBB-E24D-4519-BACD-BCE66061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2AE-B767-45D0-8CF0-9D41BAFE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87A-410F-414F-B926-6C5D9A64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F30-B776-4088-8871-A3C6C03D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28A9-E1FE-4E7E-A814-B75BEF61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D14F-05A7-43B9-BD75-2F677DF7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932F-8D07-4443-B289-BA63ADAE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753A-36F7-4E20-987B-7DC8234D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0B40-8F17-41F7-B67C-0C6165C3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238D-7EAE-44E4-95DF-D9DF30D7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9CAB-3D05-41E1-9574-0A8EEB7F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8E8-6DDD-4874-9908-B5B6A45E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1F49-CC5A-45A4-962F-80FCA9B2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01C4-061C-4684-A9C8-CC83A499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D637-3BE2-4A92-9F2B-4A7F31BF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4B2E-2DD7-4AEE-A848-BEC95C45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E9DA-E494-4F5F-A141-0E42DC14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61506-06D5-47B0-8DA7-A3815329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CBDB5-57ED-4ED5-9E11-E596931E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C648-82ED-48EE-8A70-1249A5C1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AEED4-6213-4273-87BC-7C463873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DD764-F430-4559-817B-81F18D2E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7D1-1E55-4B9C-B72F-E19B320F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ABD3D-D27F-400D-BFA6-BC8303EA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AB48-85CC-4A25-9F01-1991399A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275F0-CE71-4A9B-BD52-A744B59A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EB4B2-4C0B-43AB-A062-4EB3688C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23661-0655-41FE-A789-1037B896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75647-9F5F-4978-B0A4-7F4E85C7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985D5-4D53-4950-984C-1EF815C7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B0BD0-3817-42AA-B3EA-F4C66A20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FF17E-97E1-4A7B-9980-2039F55C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DCF14-91CF-46CC-82F7-52CF1929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327-1F78-4320-9E05-0A70AAB9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501F1-9724-4215-8623-3F641C51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F0A93-C304-4CFF-AD6F-D32225AF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9D8A2-C808-4DFD-8179-857DE460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90402-DA8C-468A-9230-BAA9ED51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B42C7-A232-4897-89C2-50946903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6E886-ADFC-4350-8398-AEA1C6B4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EFAE2-BB7E-4801-A88E-E48CE29F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ED954-78F7-476B-855F-7773E2B2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3B80A-A9B6-4149-AF02-39C90BE9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0DB-9A2E-44CF-845B-630A90B6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150-BD57-42DB-A9B4-C79778CF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680-21B6-49C5-8185-B3988C3B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27C6-B9F3-4FB7-B48E-E6B4E19B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37CD-656A-4DE9-A35E-80CB3DE9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7E68-C05A-4457-9329-5977035F0D0E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A9C2-AC5D-41AA-85D3-A8EE531F9698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2F21-D899-433E-ABBE-8CAC2E685E99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ABCA-1D7D-4369-B0DE-0C5E855D3CFA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5"/>
          <p:cNvSpPr/>
          <p:nvPr/>
        </p:nvSpPr>
        <p:spPr>
          <a:xfrm>
            <a:off x="1403280" y="1268280"/>
            <a:ext cx="662472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ирование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оммуникативных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информационных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петенций учащихся на уроках русского языка и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абанова А.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Calibri"/>
              </a:rPr>
              <a:t>Искать:</a:t>
            </a:r>
            <a:br>
              <a:rPr sz="3600"/>
            </a:b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68360" y="1844280"/>
            <a:ext cx="82296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прашивать различные базы данны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ашивать окруже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нсультироваться у экспер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чать информаци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 работать с документами 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лассифицировать их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4" descr="C:\Users\8\AppData\Local\Microsoft\Windows\Temporary Internet Files\Content.IE5\TKWHLSQO\MCBD05500_0000[1].wmf"/>
          <p:cNvPicPr/>
          <p:nvPr/>
        </p:nvPicPr>
        <p:blipFill>
          <a:blip r:embed="rId1"/>
          <a:stretch/>
        </p:blipFill>
        <p:spPr>
          <a:xfrm>
            <a:off x="6588000" y="3933720"/>
            <a:ext cx="1465560" cy="16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Calibri"/>
              </a:rPr>
              <a:t>Думать:</a:t>
            </a:r>
            <a:br>
              <a:rPr sz="3600"/>
            </a:b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14300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овывать взаимосвязь прошлых и настоящих событ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итически относиться к тому или иному аспекту развития  обще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 противостоять неуверенности и слож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имать позицию в дискуссиях и выковывать свое собственное мне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идеть важность политического и экономического окружения, в котором проходит обучение и рабо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ценивать социальные привычки, связанные со здоровьем, потреблением, а также с окружающей средо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 оценивать произведения искусства и литературы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Calibri"/>
              </a:rPr>
              <a:t>Сотрудничать:</a:t>
            </a:r>
            <a:br>
              <a:rPr sz="3600"/>
            </a:b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 сотрудничать и работать в групп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нимать решения — улаживать разногласия и конфликт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 договариватьс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 разрабатывать 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олнять зада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4" descr="J0283214"/>
          <p:cNvPicPr/>
          <p:nvPr/>
        </p:nvPicPr>
        <p:blipFill>
          <a:blip r:embed="rId1"/>
          <a:stretch/>
        </p:blipFill>
        <p:spPr>
          <a:xfrm>
            <a:off x="5508720" y="3573360"/>
            <a:ext cx="27986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Calibri"/>
              </a:rPr>
              <a:t>Приниматься за дело:</a:t>
            </a:r>
            <a:br>
              <a:rPr sz="3600"/>
            </a:b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836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ключаться в проек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сти ответстве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ходить в группу или коллектив и вносить свой вкла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казывать солидар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 организовыва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ою работ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 пользоватьс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числительными 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делирующими прибор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5" descr="j0195384"/>
          <p:cNvPicPr/>
          <p:nvPr/>
        </p:nvPicPr>
        <p:blipFill>
          <a:blip r:embed="rId1"/>
          <a:stretch/>
        </p:blipFill>
        <p:spPr>
          <a:xfrm>
            <a:off x="5580000" y="3573360"/>
            <a:ext cx="237168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Calibri"/>
              </a:rPr>
              <a:t>Адаптироваться:</a:t>
            </a:r>
            <a:br>
              <a:rPr sz="3600"/>
            </a:b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 использовать новые технологии информации и коммуник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казывать гибкость перед лицом быстрых измене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казывать стойкость перед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рудностя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 находи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вые реш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5" descr="j0233018"/>
          <p:cNvPicPr/>
          <p:nvPr/>
        </p:nvPicPr>
        <p:blipFill>
          <a:blip r:embed="rId1"/>
          <a:stretch/>
        </p:blipFill>
        <p:spPr>
          <a:xfrm>
            <a:off x="5724360" y="3789360"/>
            <a:ext cx="257508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8686800" cy="80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83d68"/>
                </a:solidFill>
                <a:latin typeface="Calibri"/>
              </a:rPr>
              <a:t>Предметная  компетентность – это …</a:t>
            </a: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28760" y="1500120"/>
            <a:ext cx="8424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e66"/>
                </a:solidFill>
                <a:latin typeface="Constantia"/>
              </a:rPr>
              <a:t>   </a:t>
            </a:r>
            <a:r>
              <a:rPr b="0" lang="ru-RU" sz="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пособность решать проблемы, возникающие в  окружающей действительности, средствами предмет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спознавать проблемы, возникающие в окружающей действительност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улировать эти проблемы на языке данного предмет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шать эти проблемы, используя предметные знания и метод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ализировать использованные методы реш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терпретировать полученные результаты с учетом поставленной проблемы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формулировать  и записывать окончательные результаты решения поставленной проблем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13f9a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8360" y="692280"/>
            <a:ext cx="8229600" cy="56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Коммуникативная компетенц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определяется, как творческая способность обучающегося пользоваться инвентарем языковых средств, который складывается из знаний и готовности к их адекватному использованию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3" name="Picture 6" descr="3D Wallpapers Collection 40"/>
          <p:cNvPicPr/>
          <p:nvPr/>
        </p:nvPicPr>
        <p:blipFill>
          <a:blip r:embed="rId1"/>
          <a:stretch/>
        </p:blipFill>
        <p:spPr>
          <a:xfrm>
            <a:off x="3995640" y="3645000"/>
            <a:ext cx="4464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35344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Основными задачами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формирования коммуникативной компетенции являютс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ирование функциональной грамотности учащихся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ирование продуктивных навыков и умений в различных видах устной и письменной реч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ирование у учащихся “общелингвистической компетентности”, что необходимо для успешного овладения другими предмет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13f9a"/>
                </a:solidFill>
                <a:latin typeface="Calibri"/>
              </a:rPr>
              <a:t>Учащемуся 5-6 класса необходимо </a:t>
            </a:r>
            <a:r>
              <a:rPr b="1" i="1" lang="ru-RU" sz="3600" spc="-1" strike="noStrike" u="sng">
                <a:solidFill>
                  <a:srgbClr val="b13f9a"/>
                </a:solidFill>
                <a:uFillTx/>
                <a:latin typeface="Calibri"/>
              </a:rPr>
              <a:t>знать</a:t>
            </a:r>
            <a:r>
              <a:rPr b="1" i="1" lang="ru-RU" sz="3600" spc="-1" strike="noStrike">
                <a:solidFill>
                  <a:srgbClr val="b13f9a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нятие текста и его структуры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нятие стиля, виды стилей и их особенност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особы и средства связи предложений в тексте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ение абзаца и знание его функций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нятие стилистической окраски слова и его текстообразующей функци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ение диалога и монолога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особы передачи чужой реч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ение прямой и косвенной реч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обенности строения делового повествова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13f9a"/>
                </a:solidFill>
                <a:latin typeface="Calibri"/>
              </a:rPr>
              <a:t>Учащийся 5-6 класса должен </a:t>
            </a:r>
            <a:r>
              <a:rPr b="1" i="1" lang="ru-RU" sz="4000" spc="-1" strike="noStrike" u="sng">
                <a:solidFill>
                  <a:srgbClr val="b13f9a"/>
                </a:solidFill>
                <a:uFillTx/>
                <a:latin typeface="Calibri"/>
              </a:rPr>
              <a:t>уметь: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ладеть продуктивными навыками различных видов устной и письменной реч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вивать виды речевой деятель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вивать грамматический строй реч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огащать словарный запас сл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28400" y="92844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щеобразовательная школа не в состоянии сформировать уровень компетентности учеников, достаточный для эффективного решения проблем во всех сферах деятельности и во всех конкретных ситуациях, тем более в условиях быстро меняющегося общества, в котором появляются и новые сферы деятельности, и новые ситу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ь школы – формирование ключевых компетентност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13f9a"/>
                </a:solidFill>
                <a:latin typeface="Calibri"/>
              </a:rPr>
              <a:t>Учащийся 5-6 класса должен </a:t>
            </a:r>
            <a:r>
              <a:rPr b="1" i="1" lang="ru-RU" sz="3600" spc="-1" strike="noStrike" u="sng">
                <a:solidFill>
                  <a:srgbClr val="b13f9a"/>
                </a:solidFill>
                <a:uFillTx/>
                <a:latin typeface="Calibri"/>
              </a:rPr>
              <a:t>уметь</a:t>
            </a:r>
            <a:br>
              <a:rPr sz="3600"/>
            </a:br>
            <a:r>
              <a:rPr b="1" i="1" lang="ru-RU" sz="3600" spc="-1" strike="noStrike">
                <a:solidFill>
                  <a:srgbClr val="b13f9a"/>
                </a:solidFill>
                <a:latin typeface="Calibri"/>
              </a:rPr>
              <a:t>владеть продуктивными навыками различных видов устной и письменной речи:</a:t>
            </a: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стной научно-учебной реч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исьменной научно-учебной реч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стной разговорной реч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исьменной разговорной речи с элементами художественно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стной художественной реч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исьменной художественной реч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68000" y="1052640"/>
            <a:ext cx="776124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ути реализации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муникативной компетенции учащихся состоят в том, что формы, методы и приемы работы направлены на то, чтобы содержание учебного материала было источником для самостоятельного поиска решения проблемы. Исследовательский подход к темам литературных произведений помогает рассматривать жизнь литературного героя как учебное исследование. А дискуссия по результатам сочинений дает возможность высказать свою точку зрения, послушать других, поспорить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2"/>
          <p:cNvSpPr/>
          <p:nvPr/>
        </p:nvSpPr>
        <p:spPr>
          <a:xfrm>
            <a:off x="1979640" y="2276640"/>
            <a:ext cx="71280" cy="72720"/>
          </a:xfrm>
          <a:prstGeom prst="flowChartAlternateProcess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ubRRectCallout"/>
          <p:cNvSpPr/>
          <p:nvPr/>
        </p:nvSpPr>
        <p:spPr>
          <a:xfrm>
            <a:off x="468360" y="1125360"/>
            <a:ext cx="5904000" cy="2519640"/>
          </a:xfrm>
          <a:custGeom>
            <a:avLst/>
            <a:gdLst>
              <a:gd name="textAreaLeft" fmla="*/ 39600 w 5904000"/>
              <a:gd name="textAreaRight" fmla="*/ 5851800 w 5904000"/>
              <a:gd name="textAreaTop" fmla="*/ 16560 h 2519640"/>
              <a:gd name="textAreaBottom" fmla="*/ 1995480 h 25196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611280" y="3933720"/>
            <a:ext cx="2448000" cy="23749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492360" y="3933720"/>
            <a:ext cx="2448000" cy="23749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6300720" y="3933720"/>
            <a:ext cx="2448000" cy="23749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иентаци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755640" y="1484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составляющие коммуникативных компетенций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2"/>
          <p:cNvSpPr/>
          <p:nvPr/>
        </p:nvSpPr>
        <p:spPr>
          <a:xfrm>
            <a:off x="1979640" y="2276640"/>
            <a:ext cx="71280" cy="72720"/>
          </a:xfrm>
          <a:prstGeom prst="flowChartAlternateProcess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ubRRectCallout"/>
          <p:cNvSpPr/>
          <p:nvPr/>
        </p:nvSpPr>
        <p:spPr>
          <a:xfrm>
            <a:off x="468360" y="1125360"/>
            <a:ext cx="5904000" cy="2519640"/>
          </a:xfrm>
          <a:custGeom>
            <a:avLst/>
            <a:gdLst>
              <a:gd name="textAreaLeft" fmla="*/ 39600 w 5904000"/>
              <a:gd name="textAreaRight" fmla="*/ 5851800 w 5904000"/>
              <a:gd name="textAreaTop" fmla="*/ 16560 h 2519640"/>
              <a:gd name="textAreaBottom" fmla="*/ 1995480 h 25196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611280" y="3933720"/>
            <a:ext cx="2448000" cy="23749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492360" y="3933720"/>
            <a:ext cx="2448000" cy="23749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6300720" y="3933720"/>
            <a:ext cx="2448000" cy="23749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55640" y="148428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метно-информационная компет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/>
          <p:cNvSpPr/>
          <p:nvPr/>
        </p:nvSpPr>
        <p:spPr>
          <a:xfrm>
            <a:off x="1979640" y="2276640"/>
            <a:ext cx="71280" cy="72720"/>
          </a:xfrm>
          <a:prstGeom prst="flowChartAlternateProcess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ubRRectCallout"/>
          <p:cNvSpPr/>
          <p:nvPr/>
        </p:nvSpPr>
        <p:spPr>
          <a:xfrm>
            <a:off x="468360" y="476280"/>
            <a:ext cx="5904000" cy="2232000"/>
          </a:xfrm>
          <a:custGeom>
            <a:avLst/>
            <a:gdLst>
              <a:gd name="textAreaLeft" fmla="*/ 39600 w 5904000"/>
              <a:gd name="textAreaRight" fmla="*/ 5851800 w 5904000"/>
              <a:gd name="textAreaTop" fmla="*/ 14760 h 2232000"/>
              <a:gd name="textAreaBottom" fmla="*/ 1767600 h 2232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50920" y="2852640"/>
            <a:ext cx="1873080" cy="23749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2411280" y="3933720"/>
            <a:ext cx="1871640" cy="23749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рече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омпл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ц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4572000" y="2852640"/>
            <a:ext cx="2016000" cy="23749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468360" y="692280"/>
            <a:ext cx="59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еятельностно-коммуника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мпет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6877080" y="3860640"/>
            <a:ext cx="1944720" cy="23749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жайш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ам или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ubRRectCallout"/>
          <p:cNvSpPr/>
          <p:nvPr/>
        </p:nvSpPr>
        <p:spPr>
          <a:xfrm>
            <a:off x="468360" y="260280"/>
            <a:ext cx="5904000" cy="1584360"/>
          </a:xfrm>
          <a:custGeom>
            <a:avLst/>
            <a:gdLst>
              <a:gd name="textAreaLeft" fmla="*/ 39600 w 5904000"/>
              <a:gd name="textAreaRight" fmla="*/ 5851800 w 5904000"/>
              <a:gd name="textAreaTop" fmla="*/ 10440 h 1584360"/>
              <a:gd name="textAreaBottom" fmla="*/ 1254960 h 158436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95280" y="2565360"/>
            <a:ext cx="2448000" cy="201600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ствен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ать св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казы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ным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1979640" y="4869000"/>
            <a:ext cx="1727280" cy="15843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3276720" y="2565360"/>
            <a:ext cx="2303280" cy="201600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жданск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755640" y="47628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енностно-ориентационная компет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4788000" y="4869000"/>
            <a:ext cx="1655640" cy="15127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сл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иче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012000" y="2565360"/>
            <a:ext cx="2305080" cy="201600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Calibri"/>
              </a:rPr>
              <a:t>Уровни сформированности коммуникативной компетенции учащихся </a:t>
            </a:r>
            <a:br>
              <a:rPr sz="3200"/>
            </a:br>
            <a:r>
              <a:rPr b="1" lang="ru-RU" sz="3200" spc="-1" strike="noStrike">
                <a:solidFill>
                  <a:srgbClr val="b13f9a"/>
                </a:solidFill>
                <a:latin typeface="Calibri"/>
              </a:rPr>
              <a:t>в 5-6 классах определяю в %:</a:t>
            </a:r>
            <a:endParaRPr b="0" lang="en-US" sz="32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0% -  низкий уровень сформированност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0–70% - средний уровень сформированност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70–100% – высокий уровень сформированнос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0" name="Picture 4" descr="B_2007-10-10-15-53-496391"/>
          <p:cNvPicPr/>
          <p:nvPr/>
        </p:nvPicPr>
        <p:blipFill>
          <a:blip r:embed="rId1"/>
          <a:stretch/>
        </p:blipFill>
        <p:spPr>
          <a:xfrm>
            <a:off x="2556000" y="3573360"/>
            <a:ext cx="4321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Calibri"/>
              </a:rPr>
              <a:t>Уровни сформированности коммуникативных компетенций учащихся </a:t>
            </a:r>
            <a:br>
              <a:rPr sz="3200"/>
            </a:br>
            <a:r>
              <a:rPr b="1" lang="ru-RU" sz="3200" spc="-1" strike="noStrike">
                <a:solidFill>
                  <a:srgbClr val="b13f9a"/>
                </a:solidFill>
                <a:latin typeface="Calibri"/>
              </a:rPr>
              <a:t>5А и 5Б классов</a:t>
            </a:r>
            <a:endParaRPr b="0" lang="en-US" sz="32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322" name="Picture 13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61722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AutoShape 2"/>
          <p:cNvSpPr/>
          <p:nvPr/>
        </p:nvSpPr>
        <p:spPr>
          <a:xfrm>
            <a:off x="1979640" y="2276640"/>
            <a:ext cx="71280" cy="72720"/>
          </a:xfrm>
          <a:prstGeom prst="flowChartAlternateProcess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ubRRectCallout"/>
          <p:cNvSpPr/>
          <p:nvPr/>
        </p:nvSpPr>
        <p:spPr>
          <a:xfrm>
            <a:off x="468360" y="1125360"/>
            <a:ext cx="5904000" cy="2519640"/>
          </a:xfrm>
          <a:custGeom>
            <a:avLst/>
            <a:gdLst>
              <a:gd name="textAreaLeft" fmla="*/ 39600 w 5904000"/>
              <a:gd name="textAreaRight" fmla="*/ 5851800 w 5904000"/>
              <a:gd name="textAreaTop" fmla="*/ 16560 h 2519640"/>
              <a:gd name="textAreaBottom" fmla="*/ 1995480 h 25196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179280" y="3933720"/>
            <a:ext cx="2305080" cy="23749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етен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фе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2627280" y="3933720"/>
            <a:ext cx="2016000" cy="23749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4788000" y="3933720"/>
            <a:ext cx="1944720" cy="23749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т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755640" y="148428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539640" y="1557360"/>
            <a:ext cx="5688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лассифик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формационных компетен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877080" y="3933720"/>
            <a:ext cx="2087640" cy="23749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он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13f9a"/>
                </a:solidFill>
                <a:latin typeface="Calibri"/>
              </a:rPr>
              <a:t>компетенции в сфере первоначального информационного поиска:</a:t>
            </a:r>
            <a:endParaRPr b="0" lang="en-US" sz="32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делять ключевые слова для информационного поис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мостоятельно находить информацию в информационном пол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овать поиск в сети Интернет с применением различных поисковых механизмов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Calibri"/>
              </a:rPr>
              <a:t>Общеевропейские ключевые компетенции</a:t>
            </a: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итические и социальны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петенции, связанные с жизнью в многокультурном обществ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муникативная компетенц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ладение новыми информационными технологиям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петенции, реализующие способность и желание учи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13f9a"/>
                </a:solidFill>
                <a:latin typeface="Calibri"/>
              </a:rPr>
              <a:t>технологические компетенции:</a:t>
            </a:r>
            <a:br>
              <a:rPr sz="3600"/>
            </a:b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лять план обобщённого характер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бирать литературу по теме, пользуясь списком, систематическим и предметным каталог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водить информацию из одной формы представления в другу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ладеть технологическими навыками работы с пакетом прикладных программ Microsoft Offic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ьзовать базовые и расширенные возможности информационного поиска в сети Интерне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13f9a"/>
                </a:solidFill>
                <a:latin typeface="Calibri"/>
              </a:rPr>
              <a:t>предметно-аналитические компетенции:</a:t>
            </a:r>
            <a:endParaRPr b="0" lang="en-US" sz="32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делять в тексте главно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нализировать информаци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стематизировать информаци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мостоятельно делать выводы и обобщения на основе полученной информаци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13f9a"/>
                </a:solidFill>
                <a:latin typeface="Calibri"/>
              </a:rPr>
              <a:t>операционно-деятельностные компетенции:</a:t>
            </a:r>
            <a:r>
              <a:rPr b="0" lang="ru-RU" sz="4600" spc="-1" strike="noStrike">
                <a:solidFill>
                  <a:srgbClr val="b13f9a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дготовить реферат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ставлять тезисы выступлени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спользовать различные средства наглядности при выступлен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дбирать соответствующий материал для создания информационного продукта, представленного в различных видах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формлять информационный продукт в виде компьютерной презентации средствами программы Microsoft Power Poin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оммуникативные компетенции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дставлять собственный информационный продук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ботать с любым партнёром (учитель, другой учащийся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тстаивать собственную точку зрения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13f9a"/>
                </a:solidFill>
                <a:latin typeface="Calibri"/>
              </a:rPr>
              <a:t>учебно-информационные умения и навыки учащихся:</a:t>
            </a:r>
            <a:endParaRPr b="0" lang="en-US" sz="32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амостоятельно определять цель чтения различной литератур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амостоятельно изучать отдельные вопросы школьной программы,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ксировать в записях их основное содержани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нализировать учебный материал, выявлять аналог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ладеть приемами систематизации учебного материала внутри предмета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меть устанавливать межпредметные связ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менять знания в новых условиях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ладеть навыком аналитического подхода к текстам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меть в короткий срок подобрать необходимую научную, художественную,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правочную литератур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меть правильно и грамотно оформлять работы (доклады, рефераты, проекты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зентации и др.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13f9a"/>
                </a:solidFill>
                <a:latin typeface="Times New Roman"/>
              </a:rPr>
              <a:t>Успешному формированию коммуникативной компетенции будут способствовать своеобразные </a:t>
            </a:r>
            <a:br>
              <a:rPr sz="3200"/>
            </a:br>
            <a:r>
              <a:rPr b="1" i="1" lang="ru-RU" sz="3200" spc="-1" strike="noStrike">
                <a:solidFill>
                  <a:srgbClr val="b13f9a"/>
                </a:solidFill>
                <a:latin typeface="Times New Roman"/>
              </a:rPr>
              <a:t>ПАМЯТКИ для учащихся</a:t>
            </a:r>
            <a:endParaRPr b="0" lang="en-US" sz="32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79280" y="220500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ка участникам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йте отвечать на вопросы по часовой стрел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ледующий вопрос продолжает отвечать тот, на ком закончили обсуждение  предыдущего вопр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каждому вопросу высказывайтесь кратко, лаконично, по существу, но аргументирова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еребивайте друг друга, не кричите, не оскорбляйте. Несогласие можно начинать так: «Ты не прав…», «А я думаю так…», «Позволь не согласиться с тобой…»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имеет право на свое личное мнение по обсуждаемому вопро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е каждого должно быть выслуш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казанные мнения не обязательно должны совпа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человек имеет право на ошиб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ажайте мнения других! Будьте терпимы друг к другу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йте так, чтобы у вас была настоящая коман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13f9a"/>
                </a:solidFill>
                <a:latin typeface="Times New Roman"/>
              </a:rPr>
              <a:t>Успешному формированию коммуникативной компетенции будут способствовать своеобразные </a:t>
            </a:r>
            <a:br>
              <a:rPr sz="3200"/>
            </a:br>
            <a:r>
              <a:rPr b="1" i="1" lang="ru-RU" sz="3200" spc="-1" strike="noStrike">
                <a:solidFill>
                  <a:srgbClr val="b13f9a"/>
                </a:solidFill>
                <a:latin typeface="Times New Roman"/>
              </a:rPr>
              <a:t>ПАМЯТКИ для учащихся</a:t>
            </a:r>
            <a:r>
              <a:rPr b="0" lang="ru-RU" sz="4600" spc="-1" strike="noStrike">
                <a:solidFill>
                  <a:srgbClr val="b13f9a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вила говорящего: правила читающег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огично строю речь - читаю быстро (скорость чтения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сно излагаю мысли - понимаю прочитанно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теряю «нити» разговора - умею пользоваться библиотеко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авильно и красиво говорю - читаю художественную литературу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ладею интонацией - умею вести запис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13f9a"/>
                </a:solidFill>
                <a:latin typeface="Calibri"/>
              </a:rPr>
              <a:t>Правила работы с информацией: способы формирования умственных действий:</a:t>
            </a:r>
            <a:endParaRPr b="0" lang="en-US" sz="32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 слушать - выделение главного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 находить информацию - анализ и синтез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 читать - обобщение, абстрагирован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 конспектировать - индукция и дедукци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 понимать - классификаци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 запоминать - логическое мышлен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казательство - аргументирован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ворчество - исследовани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250920" y="991440"/>
            <a:ext cx="835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у формирования коммуникативной и информационной компетенций положен деятельностный подход, так как он обеспечивает самостоятельную творческую деятельность каждого ученика. Подход основан на положении П. Я. Гальперина о том, что в самостоятельной творческой деятельности каждого ученика надо идти от внешних практических материальных действий к действиям внутренним, теоретическим, идеальным. Т. е. обучение предполагает на первом этапе совместную учебно-познавательную деятельность под руководством учителя, а затем – самостоятельную. Речь идет о “зоне ближайшего развития”, которую необходимо учитывать при формировании коммуникативной и информацион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етенци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5" descr="tree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349" name="WordArt 4"/>
          <p:cNvSpPr txBox="1"/>
          <p:nvPr/>
        </p:nvSpPr>
        <p:spPr>
          <a:xfrm>
            <a:off x="914400" y="152280"/>
            <a:ext cx="7543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96000"/>
                  </a:srgbClr>
                </a:solidFill>
                <a:latin typeface="Times New Roman"/>
              </a:rPr>
              <a:t>ДРЕВО РАЗВИ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9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50" name="WordArt 6"/>
          <p:cNvSpPr txBox="1"/>
          <p:nvPr/>
        </p:nvSpPr>
        <p:spPr>
          <a:xfrm rot="5400000">
            <a:off x="3504960" y="396216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ЗВИТ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51" name="WordArt 7"/>
          <p:cNvSpPr txBox="1"/>
          <p:nvPr/>
        </p:nvSpPr>
        <p:spPr>
          <a:xfrm rot="2146200">
            <a:off x="2361960" y="3733560"/>
            <a:ext cx="1765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КРЕАТИВНОЕ</a:t>
            </a:r>
            <a:endParaRPr b="1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52" name="WordArt 8"/>
          <p:cNvSpPr txBox="1"/>
          <p:nvPr/>
        </p:nvSpPr>
        <p:spPr>
          <a:xfrm rot="2041200">
            <a:off x="2111040" y="2506320"/>
            <a:ext cx="2209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cc"/>
                </a:solidFill>
                <a:latin typeface="Arial"/>
              </a:rPr>
              <a:t>ЭМОЦИОНАЛЬНОЕ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99cc"/>
              </a:solidFill>
              <a:latin typeface="Arial"/>
              <a:ea typeface="Arial"/>
            </a:endParaRPr>
          </a:p>
        </p:txBody>
      </p:sp>
      <p:sp>
        <p:nvSpPr>
          <p:cNvPr id="353" name="WordArt 9"/>
          <p:cNvSpPr txBox="1"/>
          <p:nvPr/>
        </p:nvSpPr>
        <p:spPr>
          <a:xfrm rot="3730200">
            <a:off x="2955960" y="1483200"/>
            <a:ext cx="1809720" cy="24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ВОЛЕВОЕ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sp>
        <p:nvSpPr>
          <p:cNvPr id="354" name="WordArt 10"/>
          <p:cNvSpPr txBox="1"/>
          <p:nvPr/>
        </p:nvSpPr>
        <p:spPr>
          <a:xfrm rot="17631000">
            <a:off x="4357440" y="1526760"/>
            <a:ext cx="18288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СОЦИАЛЬНОЕ</a:t>
            </a:r>
            <a:endParaRPr b="1" lang="en-US" sz="2800" spc="1" strike="noStrike">
              <a:ln w="9360">
                <a:solidFill>
                  <a:srgbClr val="993366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355" name="WordArt 11"/>
          <p:cNvSpPr txBox="1"/>
          <p:nvPr/>
        </p:nvSpPr>
        <p:spPr>
          <a:xfrm rot="19541400">
            <a:off x="4998960" y="2447640"/>
            <a:ext cx="19177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КОГНИТИВНОЕ</a:t>
            </a: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pic>
        <p:nvPicPr>
          <p:cNvPr id="356" name="Picture 12" descr="image001"/>
          <p:cNvPicPr/>
          <p:nvPr/>
        </p:nvPicPr>
        <p:blipFill>
          <a:blip r:embed="rId2"/>
          <a:stretch/>
        </p:blipFill>
        <p:spPr>
          <a:xfrm>
            <a:off x="2286000" y="5029200"/>
            <a:ext cx="876240" cy="1057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1" descr=" "/>
          <p:cNvPicPr/>
          <p:nvPr/>
        </p:nvPicPr>
        <p:blipFill>
          <a:blip r:embed="rId3"/>
          <a:stretch/>
        </p:blipFill>
        <p:spPr>
          <a:xfrm>
            <a:off x="6172200" y="685800"/>
            <a:ext cx="762120" cy="685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2" descr="Картинка 3 из 6"/>
          <p:cNvPicPr/>
          <p:nvPr/>
        </p:nvPicPr>
        <p:blipFill>
          <a:blip r:embed="rId4"/>
          <a:stretch/>
        </p:blipFill>
        <p:spPr>
          <a:xfrm>
            <a:off x="5562720" y="4267080"/>
            <a:ext cx="1371600" cy="14256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359" name="AutoShape 13"/>
          <p:cNvSpPr/>
          <p:nvPr/>
        </p:nvSpPr>
        <p:spPr>
          <a:xfrm>
            <a:off x="609480" y="685800"/>
            <a:ext cx="2286000" cy="1295280"/>
          </a:xfrm>
          <a:prstGeom prst="cloudCallout">
            <a:avLst>
              <a:gd name="adj1" fmla="val -31319"/>
              <a:gd name="adj2" fmla="val 25365"/>
            </a:avLst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WordArt 14"/>
          <p:cNvSpPr txBox="1"/>
          <p:nvPr/>
        </p:nvSpPr>
        <p:spPr>
          <a:xfrm rot="21084000">
            <a:off x="5049720" y="2755440"/>
            <a:ext cx="2376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ечевое развитие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539640" y="1157400"/>
            <a:ext cx="7981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е, построенное на идеях, заложенных в теории человеческого капитала, оказало серьезное воздействие на экономическую политику государства.  Образовательные программы по подготовке компетентных выпускников на современном этапе стали рассматриваться как эффективное орудие борьбы с бедностью, возможно, более предпочтительное, чем прямое перераспределение дохо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эти идеи в педагогической науке легли в основу принципиально нового подхода – компетентностног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5" descr="(Laba-ws"/>
          <p:cNvPicPr/>
          <p:nvPr/>
        </p:nvPicPr>
        <p:blipFill>
          <a:blip r:embed="rId1"/>
          <a:stretch/>
        </p:blipFill>
        <p:spPr>
          <a:xfrm>
            <a:off x="2627280" y="4292640"/>
            <a:ext cx="3743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Calibri"/>
              </a:rPr>
              <a:t>Российский вариант ключевых компетенций</a:t>
            </a: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нностно-смысловые компетенци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щекультурные компетенци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ебно-познавательные компетенци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ционные компетенци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муникативные компетенци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циально-трудовые компетенци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петенции личностного самосовершенствовани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72" descr="j0284133"/>
          <p:cNvPicPr/>
          <p:nvPr/>
        </p:nvPicPr>
        <p:blipFill>
          <a:blip r:embed="rId1"/>
          <a:stretch/>
        </p:blipFill>
        <p:spPr>
          <a:xfrm>
            <a:off x="785880" y="2214720"/>
            <a:ext cx="2962080" cy="3178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3" descr="j0283869"/>
          <p:cNvPicPr/>
          <p:nvPr/>
        </p:nvPicPr>
        <p:blipFill>
          <a:blip r:embed="rId2"/>
          <a:stretch/>
        </p:blipFill>
        <p:spPr>
          <a:xfrm>
            <a:off x="5143680" y="2357280"/>
            <a:ext cx="3151080" cy="29354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4"/>
          <p:cNvSpPr/>
          <p:nvPr/>
        </p:nvSpPr>
        <p:spPr>
          <a:xfrm>
            <a:off x="1547640" y="98100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труд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13f9a"/>
                </a:solidFill>
                <a:latin typeface="Calibri"/>
              </a:rPr>
              <a:t>Сегодня нужны ясные, земные цели, совпадающие с реальными, обыденными устремлениями развивающегося человека. В современных условиях развития  российского общества не приемлемы решения вчерашнего дня</a:t>
            </a:r>
            <a:r>
              <a:rPr b="1" i="1" lang="ru-RU" sz="2400" spc="-1" strike="noStrike">
                <a:solidFill>
                  <a:srgbClr val="b13f9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367" name="Picture 4" descr="HD Mix_01"/>
          <p:cNvPicPr/>
          <p:nvPr/>
        </p:nvPicPr>
        <p:blipFill>
          <a:blip r:embed="rId1"/>
          <a:stretch/>
        </p:blipFill>
        <p:spPr>
          <a:xfrm>
            <a:off x="1476360" y="2997360"/>
            <a:ext cx="590400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3D Wallpapers Collection 39"/>
          <p:cNvPicPr/>
          <p:nvPr/>
        </p:nvPicPr>
        <p:blipFill>
          <a:blip r:embed="rId1"/>
          <a:stretch/>
        </p:blipFill>
        <p:spPr>
          <a:xfrm>
            <a:off x="826920" y="1413000"/>
            <a:ext cx="7561440" cy="52830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5"/>
          <p:cNvSpPr/>
          <p:nvPr/>
        </p:nvSpPr>
        <p:spPr>
          <a:xfrm>
            <a:off x="104292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83d68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д ключевыми компетентностями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менительно к школьному образованию понимается способность учащихся самостоятельно действовать в ситуации неопределённости при решении актуальных для них проблем.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а способность может быть реализована и за рамками школьного образования.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мпетентность – это способность действовать в ситуации неопределен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Calibri"/>
              </a:rPr>
              <a:t>Компетентностная направленность методов и приемов обучения</a:t>
            </a: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8284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компетентностном подходе на одно из первых мест выходят личностные качества, позволяющие человеку быть успешным в обществе. С этой точки зрения преимуществами активных, а также групповых и коллективных методов обучения являютс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9800" indent="-4698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• 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тие положительной самооценки, толерантности и эмпатии, понимания других людей и их потребност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9800" indent="-4698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• 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оритетное внимание к развитию умений сотрудничества, а не конкуренци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9800" indent="-4698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• 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еспечение возможности для учащихся - членов группы и их учителей признавать и ценить умения других, тем самым, получая подтверждение чувства собственного достоинств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9800" indent="-4698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• 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ощрение новаторства и творчеств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13f9a"/>
                </a:solidFill>
                <a:latin typeface="Calibri"/>
              </a:rPr>
              <a:t>Общепринятая точка зрения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временное образование развивается в контексте перехода от знаниевой парадигмы к компетентностн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714240" y="3500280"/>
            <a:ext cx="3457800" cy="2808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2"/>
          <a:stretch/>
        </p:blipFill>
        <p:spPr>
          <a:xfrm>
            <a:off x="5072040" y="3429000"/>
            <a:ext cx="3456000" cy="27367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2786040" y="457200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 зна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о…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5286240" y="471492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 зна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…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13f9a"/>
                </a:solidFill>
                <a:latin typeface="Calibri"/>
              </a:rPr>
              <a:t>В основе компетенций - интеллектуальные, коммуникативные и деловые умения:</a:t>
            </a:r>
            <a:r>
              <a:rPr b="0" lang="ru-RU" sz="5000" spc="-1" strike="noStrike">
                <a:solidFill>
                  <a:srgbClr val="b13f9a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faf4f7"/>
              </a:gs>
              <a:gs pos="50000">
                <a:srgbClr val="f4e7ed"/>
              </a:gs>
              <a:gs pos="100000">
                <a:srgbClr val="faf4f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f4e7ed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Arial"/>
              </a:rPr>
              <a:t>приниматься за д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Arial"/>
              </a:rPr>
              <a:t>сотрудни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Arial"/>
              </a:rPr>
              <a:t>дум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2268360" y="256536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Arial"/>
              </a:rPr>
              <a:t>иск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1765440" y="1820880"/>
            <a:ext cx="48225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Arial"/>
              </a:rPr>
              <a:t>изу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1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227" name="Oval 12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3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4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de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6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a7837"/>
                </a:gs>
                <a:gs pos="50000">
                  <a:srgbClr val="ffde66"/>
                </a:gs>
                <a:gs pos="100000">
                  <a:srgbClr val="8a78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7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8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234" name="Oval 19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0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1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de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2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a7837"/>
                </a:gs>
                <a:gs pos="50000">
                  <a:srgbClr val="ffde66"/>
                </a:gs>
                <a:gs pos="100000">
                  <a:srgbClr val="8a78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5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241" name="Oval 26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7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8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de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9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0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8a7837"/>
                </a:gs>
                <a:gs pos="50000">
                  <a:srgbClr val="ffde66"/>
                </a:gs>
                <a:gs pos="100000">
                  <a:srgbClr val="8a78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1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32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248" name="Oval 33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de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6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7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a7837"/>
                </a:gs>
                <a:gs pos="50000">
                  <a:srgbClr val="ffde66"/>
                </a:gs>
                <a:gs pos="100000">
                  <a:srgbClr val="8a78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8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39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255" name="Oval 40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41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42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de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43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44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8a7837"/>
                </a:gs>
                <a:gs pos="50000">
                  <a:srgbClr val="ffde66"/>
                </a:gs>
                <a:gs pos="100000">
                  <a:srgbClr val="8a78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45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7020000" y="4508640"/>
            <a:ext cx="17892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714240"/>
            <a:ext cx="783396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Calibri"/>
              </a:rPr>
              <a:t>Изучать: </a:t>
            </a:r>
            <a:br>
              <a:rPr sz="4000"/>
            </a:b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 извлекать пользу из опы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овывать взаимосвязь своих знаний и упорядочивать и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овывать свои собственные приемы изуч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 решать проблем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мостоятельно заниматься своим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учени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1" descr="C:\Users\8\AppData\Local\Microsoft\Windows\Temporary Internet Files\Content.IE5\TKWHLSQO\MCj04283010000[1].wmf"/>
          <p:cNvPicPr/>
          <p:nvPr/>
        </p:nvPicPr>
        <p:blipFill>
          <a:blip r:embed="rId1"/>
          <a:stretch/>
        </p:blipFill>
        <p:spPr>
          <a:xfrm>
            <a:off x="6659640" y="4508640"/>
            <a:ext cx="1841400" cy="181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8:17:56Z</dcterms:created>
  <dc:creator>8</dc:creator>
  <dc:description/>
  <dc:language>en-US</dc:language>
  <cp:lastModifiedBy>BabanovaAZ</cp:lastModifiedBy>
  <dcterms:modified xsi:type="dcterms:W3CDTF">2015-01-09T05:56:08Z</dcterms:modified>
  <cp:revision>26</cp:revision>
  <dc:subject/>
  <dc:title>Слайд 1</dc:title>
</cp:coreProperties>
</file>