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F94F-55CF-4C2A-B363-06C61C3FC0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FA07-23B7-44E7-986D-8B5777E280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867A-A281-4BFD-9355-7A169BD298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ECEA-A7C6-4DF5-98BA-B6134A8C00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F092-0CE7-4EC9-9D37-AE79D9B9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75EC-C316-472A-A483-493AB631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243-F031-465C-916B-0D4ED67E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D66-8F65-4325-9158-29ADB4D1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BB46-5FA8-490B-8C2E-324FB56C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6A88-43B0-4E50-96FA-CB839190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5494-E9B5-4D04-9CB2-B8C000DB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8FB1-8BD4-418A-B521-6E6747C1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7AE4-4D49-4F2A-9DFD-30A34FDE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375A-9ABD-4295-84A0-560309E2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D301-4AF6-41AF-A736-B44B63B1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A81-4FFA-441E-A366-1E1E48CE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6429-A7A2-4764-84F6-481FD728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977D-F37E-4DCF-9AEE-A6BCCABD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AD66-448D-4329-8973-08BDC0E6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0F97-1D2B-45F4-ABEE-B1DB500C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87F6-6728-44A6-8BE0-3B70818C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B023B-C849-4195-AA96-E8E30320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76BD5-2B90-4ECB-91C3-6841F925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1CC0-DA3D-4FB7-83D1-9103A28B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3145C-E703-41D7-B001-88E77092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6842-AD01-4E71-AAEB-D16FAE83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609-906F-42AA-9F6B-423C5F51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53B57-A9F0-4EDA-854F-A81CADBC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228D-8744-4124-9910-C976ABD0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BC96D-A579-409D-8C53-4191E887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9552F-C84A-4C4C-8432-DD659693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6F1E4-FB79-483B-90B1-28BF9510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0D369-4EB0-47F7-B5CB-67249810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AE53-5CBE-4C5A-AFB4-5DBC4189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0943B-C858-477B-9B87-1748301D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7CAB-8ABE-49B9-BF8C-1C98EA8D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5224C-613C-4640-B92A-339F7287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A01-F980-4FD3-B477-D8F42BC0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59B66-6BB3-44E8-814A-9948C50E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49734-72EE-4706-876F-352132F1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BB701-9E95-4789-B525-B279E2E2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9F4B1-8E98-493B-8BAD-1811D0C4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4E824-C617-4B21-80B0-240F1AAB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0818B-D613-4EA8-8097-CC491F51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8AE5F-F9C3-4F55-96D7-C78CE340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480D4-BBF6-4A7B-970E-B264CDB5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E12AD-FA0C-4FDC-9F35-9C8BAB0F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D093C-E16E-47BC-9606-22DA5981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F6E-26E5-4397-9009-11F2D817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A3E93-8CE0-4889-ACBC-AF273456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D6312-9785-455D-8856-DB340020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487EC-7B21-4AA9-A306-AB0A05C6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93038-1BF7-4984-83DC-7E9B6993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FF313-FE27-42AC-ABAB-F8756097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2242E-F03B-474E-9ABA-B3023244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DDC2F-95C6-4B2E-8FFA-6C0B788C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4977E-DB04-4EE2-AF92-D138AB1E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75BE9-3DEB-4452-AD7A-4A9A2142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78A22-8DAB-4A4B-B413-1F6696D0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060-BCBD-4045-8782-BE63D4C4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CF9B4-5FBA-4249-9D9F-ECF91601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030-3C5D-4DFD-BAC7-7D0CA94E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86E-C64F-464B-891A-F9C5E140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ECE-76A3-4394-A9FD-1FA08377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9A0B-DCDD-4C48-876D-D5973FC5B31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AADE-E2DD-4D73-8590-40938E3692A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D39A-BC3E-4A9F-BEBF-FA429C2758B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2997-85FF-479C-8BAF-40652C54833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8AC9-8251-4518-B17E-F260D6D95DC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копий Иванович Аврамков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2924280" cy="41911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охоронили сержанта в деревне Заболотье Новосокольнического района Калининской (ныне Псковской) области, а в послевоенные годы прах П. И. Аврамкова был перезахоронен в братскую могилу на восточной окраине деревни Теренино Новосокольнического района Псковской области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8d3e"/>
                </a:solidFill>
                <a:latin typeface="Verdana"/>
              </a:rPr>
              <a:t>Указом Президиума Верховного Совета СССР от 4 июня 1944 года за образцовое выполнение боевых заданий командования на фронте борьбы с немецко-фашистскими захватчиками и проявленные при этом мужество и героизм сержанту Аврамкову Прокопию Ивановичу посмертно присвоено звание Героя Советского Союза.</a:t>
            </a:r>
            <a:br>
              <a:rPr sz="3200"/>
            </a:b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0040" y="55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градной лист. Письмо родителям от военных..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Picture 5" descr="J:\Documents and Settings\Наталья\Рабочий стол\1.JPG"/>
          <p:cNvPicPr/>
          <p:nvPr/>
        </p:nvPicPr>
        <p:blipFill>
          <a:blip r:embed="rId1"/>
          <a:stretch/>
        </p:blipFill>
        <p:spPr>
          <a:xfrm>
            <a:off x="712800" y="1033560"/>
            <a:ext cx="3533760" cy="3381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J:\Documents and Settings\Наталья\Рабочий стол\1.JPG"/>
          <p:cNvPicPr/>
          <p:nvPr/>
        </p:nvPicPr>
        <p:blipFill>
          <a:blip r:embed="rId2"/>
          <a:stretch/>
        </p:blipFill>
        <p:spPr>
          <a:xfrm>
            <a:off x="4716360" y="765000"/>
            <a:ext cx="3181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J:\Documents and Settings\Наталья\Рабочий стол\1.JPG"/>
          <p:cNvPicPr/>
          <p:nvPr/>
        </p:nvPicPr>
        <p:blipFill>
          <a:blip r:embed="rId1"/>
          <a:stretch/>
        </p:blipFill>
        <p:spPr>
          <a:xfrm>
            <a:off x="436680" y="530280"/>
            <a:ext cx="3467160" cy="5346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J:\Documents and Settings\Наталья\Рабочий стол\1.JPG"/>
          <p:cNvPicPr/>
          <p:nvPr/>
        </p:nvPicPr>
        <p:blipFill>
          <a:blip r:embed="rId2"/>
          <a:stretch/>
        </p:blipFill>
        <p:spPr>
          <a:xfrm>
            <a:off x="4046400" y="530280"/>
            <a:ext cx="45370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граждён орденом Ленина.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6" name="Содержимое 4" descr="150px-Order_of_Lenin_type4.jpg"/>
          <p:cNvPicPr/>
          <p:nvPr/>
        </p:nvPicPr>
        <p:blipFill>
          <a:blip r:embed="rId1"/>
          <a:stretch/>
        </p:blipFill>
        <p:spPr>
          <a:xfrm>
            <a:off x="1528920" y="998640"/>
            <a:ext cx="1904760" cy="3454200"/>
          </a:xfrm>
          <a:prstGeom prst="rect">
            <a:avLst/>
          </a:prstGeom>
          <a:ln w="0">
            <a:noFill/>
          </a:ln>
        </p:spPr>
      </p:pic>
      <p:pic>
        <p:nvPicPr>
          <p:cNvPr id="267" name="Содержимое 5" descr="250px-Golden_Star_medal_473.jpg"/>
          <p:cNvPicPr/>
          <p:nvPr/>
        </p:nvPicPr>
        <p:blipFill>
          <a:blip r:embed="rId2"/>
          <a:stretch/>
        </p:blipFill>
        <p:spPr>
          <a:xfrm>
            <a:off x="4356000" y="1557360"/>
            <a:ext cx="35290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охоронили сержанта в деревне Заболотье Новосокольнического района Калининской (ныне Псковской) области, а в послевоенные годы прах П. И. Аврамкова был перезахоронен в братскую могилу на восточной окраине деревни Теренино Новосокольнического района Псковской области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9" name="Содержимое 3" descr="братская могила в Псковской области.jpg"/>
          <p:cNvPicPr/>
          <p:nvPr/>
        </p:nvPicPr>
        <p:blipFill>
          <a:blip r:embed="rId1"/>
          <a:stretch/>
        </p:blipFill>
        <p:spPr>
          <a:xfrm>
            <a:off x="2411280" y="476280"/>
            <a:ext cx="29689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В 1947 году над могилой установлен бетонный памятник-обелиск, высотой 2,8 метров, с макетом ордена Отечественной войны.</a:t>
            </a: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1" name="Picture 4" descr="C:\Documents and Settings\Admin\Мои документы\Panasonic\MFS\Scan\20120117_142543.jpg"/>
          <p:cNvPicPr/>
          <p:nvPr/>
        </p:nvPicPr>
        <p:blipFill>
          <a:blip r:embed="rId1"/>
          <a:stretch/>
        </p:blipFill>
        <p:spPr>
          <a:xfrm>
            <a:off x="4756320" y="1447920"/>
            <a:ext cx="3930480" cy="2554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J:\Documents and Settings\Наталья\Рабочий стол\1.JPG"/>
          <p:cNvPicPr/>
          <p:nvPr/>
        </p:nvPicPr>
        <p:blipFill>
          <a:blip r:embed="rId2"/>
          <a:stretch/>
        </p:blipFill>
        <p:spPr>
          <a:xfrm>
            <a:off x="1484280" y="492120"/>
            <a:ext cx="22957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одвиг А. Матросова был совершен многими солдатами.</a:t>
            </a: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4" name="Picture 4" descr="J:\Documents and Settings\Наталья\Рабочий стол\1.JPG"/>
          <p:cNvPicPr/>
          <p:nvPr/>
        </p:nvPicPr>
        <p:blipFill>
          <a:blip r:embed="rId1"/>
          <a:stretch/>
        </p:blipFill>
        <p:spPr>
          <a:xfrm>
            <a:off x="2771640" y="549360"/>
            <a:ext cx="30290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J:\Documents and Settings\Наталья\Рабочий стол\1.JPG"/>
          <p:cNvPicPr/>
          <p:nvPr/>
        </p:nvPicPr>
        <p:blipFill>
          <a:blip r:embed="rId1"/>
          <a:stretch/>
        </p:blipFill>
        <p:spPr>
          <a:xfrm>
            <a:off x="2341440" y="530280"/>
            <a:ext cx="374328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C:\Documents and Settings\Admin\Мои документы\Panasonic\MFS\Scan\20120117_143022.jpg"/>
          <p:cNvPicPr/>
          <p:nvPr/>
        </p:nvPicPr>
        <p:blipFill>
          <a:blip r:embed="rId1"/>
          <a:stretch/>
        </p:blipFill>
        <p:spPr>
          <a:xfrm>
            <a:off x="395280" y="530280"/>
            <a:ext cx="3537000" cy="5346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J:\Documents and Settings\Наталья\Рабочий стол\1.JPG"/>
          <p:cNvPicPr/>
          <p:nvPr/>
        </p:nvPicPr>
        <p:blipFill>
          <a:blip r:embed="rId2"/>
          <a:stretch/>
        </p:blipFill>
        <p:spPr>
          <a:xfrm>
            <a:off x="4284720" y="530280"/>
            <a:ext cx="386856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Родился 19 ноября 1923 года в деревне Покровка (ныне Родинский район, Алтайский край), куда из Могилёвской губернии переселились его родители — крестьяне. Белорус. Окончил 7 классов, работал трактористом в колхозе.</a:t>
            </a:r>
            <a:br>
              <a:rPr sz="3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7" name="Picture 4" descr="J:\Documents and Settings\Наталья\Рабочий стол\1.JPG"/>
          <p:cNvPicPr/>
          <p:nvPr/>
        </p:nvPicPr>
        <p:blipFill>
          <a:blip r:embed="rId1"/>
          <a:stretch/>
        </p:blipFill>
        <p:spPr>
          <a:xfrm>
            <a:off x="2556000" y="692280"/>
            <a:ext cx="24289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Его имя увековечено и на Мемориале Славы в административном центре Алтайского края - городе Барнауле. 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9" name="Picture 5" descr="J:\Documents and Settings\Наталья\Рабочий стол\1.JPG"/>
          <p:cNvPicPr/>
          <p:nvPr/>
        </p:nvPicPr>
        <p:blipFill>
          <a:blip r:embed="rId1"/>
          <a:stretch/>
        </p:blipFill>
        <p:spPr>
          <a:xfrm>
            <a:off x="798480" y="554040"/>
            <a:ext cx="3362400" cy="43434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J:\Documents and Settings\Наталья\Рабочий стол\1.JPG"/>
          <p:cNvPicPr/>
          <p:nvPr/>
        </p:nvPicPr>
        <p:blipFill>
          <a:blip r:embed="rId2"/>
          <a:stretch/>
        </p:blipFill>
        <p:spPr>
          <a:xfrm>
            <a:off x="4383000" y="981000"/>
            <a:ext cx="43038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ша школа, в которой учился Прокопий Иванович Аврамков, носит его им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2" name="Picture 4" descr="J:\Documents and Settings\Наталья\Рабочий стол\1.JPG"/>
          <p:cNvPicPr/>
          <p:nvPr/>
        </p:nvPicPr>
        <p:blipFill>
          <a:blip r:embed="rId1"/>
          <a:stretch/>
        </p:blipFill>
        <p:spPr>
          <a:xfrm>
            <a:off x="1725480" y="476280"/>
            <a:ext cx="54086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Герой Советского Союза П.И. Аврамков с семьей перед войной. В 1944 году Прокопий Иванович в возрасте 20 лет повторил подвиг Александра Матросова, закрыл грудью вражескую амбразуру. Снимок предоставлен Н.В. Герман.</a:t>
            </a: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Picture 4" descr="J:\Documents and Settings\Наталья\Рабочий стол\1.JPG"/>
          <p:cNvPicPr/>
          <p:nvPr/>
        </p:nvPicPr>
        <p:blipFill>
          <a:blip r:embed="rId1"/>
          <a:stretch/>
        </p:blipFill>
        <p:spPr>
          <a:xfrm>
            <a:off x="2268360" y="549360"/>
            <a:ext cx="45244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Снимок дома в Покровке, в котором жил Герой Советского Союза. Сейчас на этом месте стоит дом внучатой племянницы Н.В. Герман. Улица названа в честь Прокопия Ивановича.</a:t>
            </a: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1" name="Picture 4" descr="J:\Documents and Settings\Наталья\Рабочий стол\1.JPG"/>
          <p:cNvPicPr/>
          <p:nvPr/>
        </p:nvPicPr>
        <p:blipFill>
          <a:blip r:embed="rId1"/>
          <a:stretch/>
        </p:blipFill>
        <p:spPr>
          <a:xfrm>
            <a:off x="2160720" y="1062000"/>
            <a:ext cx="4867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J:\Documents and Settings\Наталья\Рабочий стол\1.JPG"/>
          <p:cNvPicPr/>
          <p:nvPr/>
        </p:nvPicPr>
        <p:blipFill>
          <a:blip r:embed="rId1"/>
          <a:stretch/>
        </p:blipFill>
        <p:spPr>
          <a:xfrm>
            <a:off x="1403280" y="476280"/>
            <a:ext cx="635328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J:\Documents and Settings\Наталья\Рабочий стол\1.JPG"/>
          <p:cNvPicPr/>
          <p:nvPr/>
        </p:nvPicPr>
        <p:blipFill>
          <a:blip r:embed="rId1"/>
          <a:stretch/>
        </p:blipFill>
        <p:spPr>
          <a:xfrm>
            <a:off x="1547640" y="333360"/>
            <a:ext cx="619776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 Красную Армию призван в сентябре 1941 года Родинским райвоенкоматом Алтайского края. С ноября 1941 года на фронте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5" name="Picture 4" descr="J:\Documents and Settings\Наталья\Рабочий стол\1.JPG"/>
          <p:cNvPicPr/>
          <p:nvPr/>
        </p:nvPicPr>
        <p:blipFill>
          <a:blip r:embed="rId1"/>
          <a:stretch/>
        </p:blipFill>
        <p:spPr>
          <a:xfrm>
            <a:off x="3564000" y="476280"/>
            <a:ext cx="2152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На рассвете 21(22) января 1944 года у деревни Омшары Новосокольнического района Калининской, ныне Псковской, области подразделения 2-го Прибалтийского фронта атаковали сильно укреплённую высоту неприятеля — важный в тактическом плане вражеский пункт, опоясанный сетью глубоких траншей. В один из ключевых моментов боя, когда когда советским пехотинцам до достижения цели оставались последние сто метров, из немецкого дзота застрочил пулемёт, заставивший солдат Красной Армии прижаться к земле.</a:t>
            </a:r>
            <a:br>
              <a:rPr sz="32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Командир стрелкового отделения 1344-го стрелкового полка (319-я стрелковая дивизия, 22-я армия, 2-й Прибалтийский фронт) комсомолец сержант Прокопий Аврамков и его сослуживец Яков Рудак поползли вперёд, и подобравшись ближе к огневой точке противника, бросили гранаты. Но пулемётчик продолжал стрельбу. Вскочивший на ноги Яков Рудак был убит. А Прокопий Аврамков несколькими прыжками преодолел расстояние, отделявшее его от дзота, и с разбегу закрыл своим телом амбразуру. Потрясённые таким поступком самопожертвования бойцы через мгновение рванулись вперёд, взяв высоту.</a:t>
            </a:r>
            <a:br>
              <a:rPr sz="3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6:18:40Z</dcterms:created>
  <dc:creator>Home</dc:creator>
  <dc:description/>
  <dc:language>en-US</dc:language>
  <cp:lastModifiedBy>Наталья</cp:lastModifiedBy>
  <dcterms:modified xsi:type="dcterms:W3CDTF">2015-01-15T17:22:16Z</dcterms:modified>
  <cp:revision>16</cp:revision>
  <dc:subject/>
  <dc:title>Прокопий Иванович Аврамков</dc:title>
</cp:coreProperties>
</file>