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87A-17E9-4447-8D3D-7E311E8C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DB6-B4E2-4D94-B30F-C18EFCCD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2BC-7C18-419B-BEAB-4054AEAA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882-6FA5-4AC4-831F-48273E4C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3C9-5AF2-4837-AB54-10E96BA5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B94-F4A5-49AF-BB92-B6459EC2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E10-C651-4E9D-B508-5DA098FA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60B-0DDE-4EB3-B33F-225732DC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FE5-7C5E-4DFF-A431-0CFEA705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8C5-BF4A-4706-8EE2-F059C03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2ED-4779-4AA8-B6A6-CD8D80D0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E2B-7675-4FD6-BC6C-2B19665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8470-71B8-4F30-AA54-A50FBA16C0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МАМА\Desktop\1.jpg"/>
          <p:cNvPicPr/>
          <p:nvPr/>
        </p:nvPicPr>
        <p:blipFill>
          <a:blip r:embed="rId1"/>
          <a:stretch/>
        </p:blipFill>
        <p:spPr>
          <a:xfrm>
            <a:off x="1219320" y="2895480"/>
            <a:ext cx="2666880" cy="307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МИХАИЛ ЮРЬЕВИЧ ЛЕРМОНТОВ - ХУДОЖНИК И ПОЭ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800600" y="3809880"/>
            <a:ext cx="38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Times New Roman"/>
              </a:rPr>
              <a:t>Автор: Квитко А.С.,  учитель русского языка и литерату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Times New Roman"/>
              </a:rPr>
              <a:t>Место работы: филиал МБОУ Уваровщинской  сош в селе Вяч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ccff"/>
                </a:solidFill>
                <a:latin typeface="Times New Roman"/>
              </a:rPr>
              <a:t>Тамбов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Картины Лермонт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По наброскам была написана </a:t>
            </a:r>
            <a:r>
              <a:rPr b="1" lang="ru-RU" sz="1800" spc="-1" strike="noStrike">
                <a:solidFill>
                  <a:srgbClr val="00ccff"/>
                </a:solidFill>
                <a:latin typeface="Tahoma"/>
              </a:rPr>
              <a:t>картина  Крестовая гора»,</a:t>
            </a: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 одна из лучших работ Лермонтова. Поэт подарил картину своему лучшему другу, писателю В.Ф. Одоевскому.     В 1966 году из Финляндии она привезена в Советский Союз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С 1971 года картина хранится в Государственном музее-заповеднике М.Ю. Лермонтова в Пятигорс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Суров и поэтичен горный пейзаж, изображенный на карти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7" descr="5"/>
          <p:cNvPicPr/>
          <p:nvPr/>
        </p:nvPicPr>
        <p:blipFill>
          <a:blip r:embed="rId1"/>
          <a:srcRect l="11804" t="8927" r="9078" b="17431"/>
          <a:stretch/>
        </p:blipFill>
        <p:spPr>
          <a:xfrm>
            <a:off x="4952880" y="2133720"/>
            <a:ext cx="3353040" cy="2700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4952880" y="5486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Arial"/>
              </a:rPr>
              <a:t>«Крестовая гора.1837-1838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Картины Лермонтов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В 1832 году, после прогулки по берегу моря поэт написал стихотворение «Парус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17" descr="new_pa6[1]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1219320" y="2793960"/>
            <a:ext cx="2666880" cy="1806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8"/>
          <p:cNvSpPr/>
          <p:nvPr/>
        </p:nvSpPr>
        <p:spPr>
          <a:xfrm>
            <a:off x="4648320" y="4191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«Белеет парус одино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В тумане моря голубом!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Что ищет он в стране далек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Что кинул он в краю родном?.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1410840" y="51055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«Парус. 1828-1832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Картины Лермонтов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5" descr="Вид Пятигорска"/>
          <p:cNvPicPr/>
          <p:nvPr/>
        </p:nvPicPr>
        <p:blipFill>
          <a:blip r:embed="rId1"/>
          <a:stretch/>
        </p:blipFill>
        <p:spPr>
          <a:xfrm>
            <a:off x="1219320" y="2971800"/>
            <a:ext cx="1600200" cy="1170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685800" y="4800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Arial"/>
              </a:rPr>
              <a:t>«Вид Пятигорска.1837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886200" y="2944800"/>
            <a:ext cx="473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«…Вчера я приехал в Пятигорск, наня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квартиру на краю города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Вид стрех сторон у меня чудесны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На запад пятиглавый Бешту сине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как «последняя туча рассеянной бури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на север подымается Машук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Tahoma"/>
              </a:rPr>
              <a:t>как мохнатая персидская шапка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Интернет – ресур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</a:rPr>
              <a:t>http://www.lermontow.org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tarhany.ru/museum/expo/housek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lermontov.biografy.ru/kartiny.ph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C:\Users\МАМА\Desktop\i (1).jpg"/>
          <p:cNvPicPr/>
          <p:nvPr/>
        </p:nvPicPr>
        <p:blipFill>
          <a:blip r:embed="rId1"/>
          <a:stretch/>
        </p:blipFill>
        <p:spPr>
          <a:xfrm>
            <a:off x="2971800" y="3733920"/>
            <a:ext cx="2978280" cy="27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ccff"/>
                </a:solidFill>
                <a:latin typeface="Tahoma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C:\Users\МАМА\Desktop\i (3).jpg"/>
          <p:cNvPicPr/>
          <p:nvPr/>
        </p:nvPicPr>
        <p:blipFill>
          <a:blip r:embed="rId1"/>
          <a:stretch/>
        </p:blipFill>
        <p:spPr>
          <a:xfrm>
            <a:off x="3429000" y="4022640"/>
            <a:ext cx="213372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Расширить знания  учащихся о жизни и  творчестве писателя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Способствовать развитию эмоциональной сферы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Пробудить интерес к личности  поэта и художника, земля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4440" y="380880"/>
            <a:ext cx="708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Дет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1972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ccff"/>
                </a:solidFill>
                <a:latin typeface="Tahoma"/>
              </a:rPr>
              <a:t>Родился Лермонтов 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3 октября 1814 г.</a:t>
            </a:r>
            <a:r>
              <a:rPr b="0" lang="ru-RU" sz="1600" spc="-1" strike="noStrike">
                <a:solidFill>
                  <a:srgbClr val="00ccff"/>
                </a:solidFill>
                <a:latin typeface="Tahoma"/>
              </a:rPr>
              <a:t> в Москве. В возрасте неполного года родители привезли его в имение бабушки Е.А. Арсеньевой - Тарханы. В три года Лермонтов остался без матери. В доме Арсеньевой Лермонтов получил хорошее домашнее образование, которое позже продолжил в Московском благородном пансионе. Начало поэтической деятельности Лермонтова относится ко времени учебы в пансионе.</a:t>
            </a: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11" descr="lermontov-1-small"/>
          <p:cNvPicPr/>
          <p:nvPr/>
        </p:nvPicPr>
        <p:blipFill>
          <a:blip r:embed="rId1"/>
          <a:stretch/>
        </p:blipFill>
        <p:spPr>
          <a:xfrm>
            <a:off x="1481040" y="1600200"/>
            <a:ext cx="2479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Воспоминания о поэ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0720" y="1676160"/>
            <a:ext cx="678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А.П. Шан-Гирей вспоминает о детских годах поэта: «…он был счастливо одарен способностями к искусствам, уже тогда рисовал акварелью довольно порядочно и лепил из крашеного воска целые картины…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Первые уроки рисования Лермонтову давал  художник А.С. Соловицкий, преподаватель Московского пансиона. Позднее серьезные занятия живописью с художником П.Е. Заболотским дали свои результа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C:\Documents and Settings\kja\Local Settings\Temporary Internet Files\Content.IE5\PH69XBRV\MCED00319_0000[1].wmf"/>
          <p:cNvPicPr/>
          <p:nvPr/>
        </p:nvPicPr>
        <p:blipFill>
          <a:blip r:embed="rId1"/>
          <a:stretch/>
        </p:blipFill>
        <p:spPr>
          <a:xfrm>
            <a:off x="0" y="4419720"/>
            <a:ext cx="22096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Талант Лермонт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426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Лермонтов получает прекрасное домашнее образование: он владел французским и немецким языками также свободно, как русским, изучал историю, географию, математику, играл на скрипке, фортепиано, хорошо рисовал акварел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Лермонтов часто болел, и бабушка возила внука на Кавказ.  Картины величавой природы сильно действовали на восприимчивую душу, рожденную для поэзии, и она распускалась скоро, как роза при ударе лучей утреннего солн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19920" y="5410080"/>
            <a:ext cx="279864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Талант Лермонт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17521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М.Ю. Лермонтов – один из непревзойденных гениев. Его талант повлиял на развитие не только литературы, но и отразился в других видах искусства. Природа щедро наделила Лермонтова не только высоким даром поэта и музыкальностью, но талантом художника. И если бы он занимался живописью и графикой более серьезно, профессионально, то, несомненно, стал бы большим мастер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C:\Users\МАМА\Desktop\i (2).jpg"/>
          <p:cNvPicPr/>
          <p:nvPr/>
        </p:nvPicPr>
        <p:blipFill>
          <a:blip r:embed="rId1"/>
          <a:stretch/>
        </p:blipFill>
        <p:spPr>
          <a:xfrm>
            <a:off x="0" y="3801960"/>
            <a:ext cx="2514600" cy="30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Лермонтов-художни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Некоторое воздействие на формирование Лермонтова как художника, живописца и графика оказал Рембрандт. Его влияние отчетливо проступает в юношеских работах (акварельных портретах), особенно в приеме светотеневых контрастов. Другую грань таланта Лермонтова-художника отмечала Е.П. Растопчина: «Главная его прелесть заключалась в описании местности; он сам, хороший пейзажист, дополнял поэта живописцем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6" descr="lermontov-5-small"/>
          <p:cNvPicPr/>
          <p:nvPr/>
        </p:nvPicPr>
        <p:blipFill>
          <a:blip r:embed="rId1"/>
          <a:srcRect l="17182" t="0" r="0" b="0"/>
          <a:stretch/>
        </p:blipFill>
        <p:spPr>
          <a:xfrm>
            <a:off x="6019920" y="2514600"/>
            <a:ext cx="168408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5715000" y="5334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ccff"/>
                </a:solidFill>
                <a:latin typeface="Arial"/>
              </a:rPr>
              <a:t>«Автопортрет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Лермонтов-художни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Лермонтов рисовал всю сознательную жизнь, с детства и до безвременной гибели. Многие его работы не сохранились. Однако и то, что до нас дошло более десяти картин маслом, более пятидесяти акварелей, свыше трехсот рисунков, – дает возможность составить достаточно полное представление о его художественном насле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6"/>
          <p:cNvPicPr/>
          <p:nvPr/>
        </p:nvPicPr>
        <p:blipFill>
          <a:blip r:embed="rId1"/>
          <a:srcRect l="10538" t="6062" r="12997" b="21217"/>
          <a:stretch/>
        </p:blipFill>
        <p:spPr>
          <a:xfrm>
            <a:off x="914400" y="2514600"/>
            <a:ext cx="3124080" cy="2427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533520" y="52578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ff"/>
                </a:solidFill>
                <a:latin typeface="Arial"/>
              </a:rPr>
              <a:t>«Военно-грузинская дорога близ Мхцеты.1837-1838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Кавказ  в творчестве поэ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049480"/>
            <a:ext cx="335268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ff"/>
                </a:solidFill>
                <a:latin typeface="Tahoma"/>
              </a:rPr>
              <a:t>Дарование Лермонтова-живописца раскрылось в полной мере во время и после первой ссылки. Почти все лучшие его произведения в области изобразительного искусства связаны с Кавказом. Он был одним из первых художников, начавших писать Кавказ, трактуя эту тему в духе романтической живописи. Известно, что только за время пребывания в Гродненском полку Лермонтов выполнил 12 картин на кавказские тем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ff"/>
                </a:solidFill>
                <a:latin typeface="Tahoma"/>
              </a:rPr>
              <a:t>К сожалению, эти рисунки и картины сохранились лишь частично. Впечатления от Кавказа так сильны, так глубоки, что с этими местами  трудно расстаться. И Лермонтов их зарисовывает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4"/>
          <p:cNvSpPr/>
          <p:nvPr/>
        </p:nvSpPr>
        <p:spPr>
          <a:xfrm flipH="1">
            <a:off x="4952160" y="5486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1600" spc="-1" strike="noStrike">
                <a:solidFill>
                  <a:srgbClr val="00ccff"/>
                </a:solidFill>
                <a:latin typeface="Arial"/>
              </a:rPr>
              <a:t>«Вид Тифлиса.1837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20" descr="3"/>
          <p:cNvPicPr/>
          <p:nvPr/>
        </p:nvPicPr>
        <p:blipFill>
          <a:blip r:embed="rId1"/>
          <a:srcRect l="11805" t="8446" r="9016" b="19776"/>
          <a:stretch/>
        </p:blipFill>
        <p:spPr>
          <a:xfrm>
            <a:off x="5105520" y="2384280"/>
            <a:ext cx="281916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А</dc:creator>
  <dc:description/>
  <dc:language>en-US</dc:language>
  <cp:lastModifiedBy>МАМА</cp:lastModifiedBy>
  <dcterms:modified xsi:type="dcterms:W3CDTF">2015-01-15T18:49:3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