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0AB-9CC6-4382-810D-324826EE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BC7-3204-4BD4-84C5-9FEF1C6A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79D-E3EC-4CD1-83D3-2A8EEBB8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B6E-B4E8-4E08-9FBB-3ECA0291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A3EB-59C0-4E96-99F7-1834AE0E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FAD4-2CF7-49FA-97FF-29EDBD36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9BB8-F63C-4AED-9213-386546EF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87F0-0825-40B5-B852-6B9FD2A8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B9A5-85D6-4E6E-81E4-4E82107F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3B3E-26CF-417D-B31C-D5F0DB5D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4CD0-0320-4E00-BF1A-B4C5545E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D9E-C8D0-413D-BAAA-0CB5BB2D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E381-F945-4509-9CF5-6DDED5EF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3DF6-E187-4312-AC8C-3F431F0C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23D7-2D81-4601-972B-D2243637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7070-D58E-40C3-BD9A-FAD0ED76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C2AE-15A9-4BFB-AE66-F55DA30F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5E9-206C-421E-88DF-90FF22F5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E75-29F5-412E-AE95-8E02A13D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C81-880D-4157-9F35-A0280FCE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C2A-2791-4FE0-840E-5AA9197F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F4D-1287-4F20-BA75-13FB06DF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215-0488-4DC6-BDEE-F8A26AE0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B2A-F03D-4563-B634-3D7FBCD1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453B-D6AE-481A-86DA-85B0AA5D1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B88A-CFBE-44E3-BE6B-F6FE826AF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Урок по ОБЖ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7 класс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МОУ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 C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ОШ №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ОБЖ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мофеева Наталия Анатолье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го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Основные поражающие факторы пожаров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Ого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ысокая температур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торичные факторы поражения (задымление, выгорание кислорода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пособы тушения лесных и торфяных пожаров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cc00"/>
                </a:solidFill>
                <a:latin typeface="Times New Roman"/>
              </a:rPr>
              <a:t>Непосредственное тушение огн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cc00"/>
                </a:solidFill>
                <a:latin typeface="Times New Roman"/>
              </a:rPr>
              <a:t>Косвенное тушение огн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Непосредственное тушение ог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Picture 5" descr="{ECCEA915-DFEC-4B12-8C57-E665AAC4B845}"/>
          <p:cNvPicPr/>
          <p:nvPr/>
        </p:nvPicPr>
        <p:blipFill>
          <a:blip r:embed="rId1"/>
          <a:stretch/>
        </p:blipFill>
        <p:spPr>
          <a:xfrm>
            <a:off x="539640" y="1125360"/>
            <a:ext cx="3456000" cy="2767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{FC60B9B2-4006-41B4-B9EB-28FD0CBC9692}"/>
          <p:cNvPicPr/>
          <p:nvPr/>
        </p:nvPicPr>
        <p:blipFill>
          <a:blip r:embed="rId2"/>
          <a:stretch/>
        </p:blipFill>
        <p:spPr>
          <a:xfrm>
            <a:off x="4643280" y="1125360"/>
            <a:ext cx="3478320" cy="2784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{3AC4F622-A524-493B-B7AF-700F01F204A4}"/>
          <p:cNvPicPr/>
          <p:nvPr/>
        </p:nvPicPr>
        <p:blipFill>
          <a:blip r:embed="rId3"/>
          <a:stretch/>
        </p:blipFill>
        <p:spPr>
          <a:xfrm>
            <a:off x="2268360" y="4076640"/>
            <a:ext cx="345600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свенное тушение пожар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усственное вызывание осад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менение химикатов для создания негорючих поло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усственный отжиг в сторону действующего пожа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2"/>
          <p:cNvGraphicFramePr/>
          <p:nvPr/>
        </p:nvGraphicFramePr>
        <p:xfrm>
          <a:off x="684360" y="692280"/>
          <a:ext cx="7740360" cy="54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92280"/>
                    <a:ext cx="774036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cc00"/>
                </a:solidFill>
                <a:latin typeface="Times New Roman"/>
              </a:rPr>
              <a:t>В пожароопасный сезон в лесу запрещено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4" descr="{C690BA2D-5381-4C98-83C2-7792A8675D77}"/>
          <p:cNvPicPr/>
          <p:nvPr/>
        </p:nvPicPr>
        <p:blipFill>
          <a:blip r:embed="rId1"/>
          <a:stretch/>
        </p:blipFill>
        <p:spPr>
          <a:xfrm>
            <a:off x="1042920" y="1557360"/>
            <a:ext cx="6985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Правила безопасного поведения в зоне лесного пожара и его тушени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5" descr="{F95EA03F-DE87-462D-9DD4-46B38B1247AB}"/>
          <p:cNvPicPr/>
          <p:nvPr/>
        </p:nvPicPr>
        <p:blipFill>
          <a:blip r:embed="rId1"/>
          <a:stretch/>
        </p:blipFill>
        <p:spPr>
          <a:xfrm>
            <a:off x="250920" y="1628640"/>
            <a:ext cx="2792160" cy="2235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{21E40FE6-7677-45A3-A747-1B9F9C36100E}"/>
          <p:cNvPicPr/>
          <p:nvPr/>
        </p:nvPicPr>
        <p:blipFill>
          <a:blip r:embed="rId2"/>
          <a:stretch/>
        </p:blipFill>
        <p:spPr>
          <a:xfrm>
            <a:off x="3203640" y="1628640"/>
            <a:ext cx="2779560" cy="2222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{D618A47F-A3D3-430E-963B-5391E745FB8C}"/>
          <p:cNvPicPr/>
          <p:nvPr/>
        </p:nvPicPr>
        <p:blipFill>
          <a:blip r:embed="rId3"/>
          <a:stretch/>
        </p:blipFill>
        <p:spPr>
          <a:xfrm>
            <a:off x="6156360" y="1700280"/>
            <a:ext cx="2708280" cy="2166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{6E374EC7-2238-4F87-A77A-AE8A259EF498}"/>
          <p:cNvPicPr/>
          <p:nvPr/>
        </p:nvPicPr>
        <p:blipFill>
          <a:blip r:embed="rId4"/>
          <a:stretch/>
        </p:blipFill>
        <p:spPr>
          <a:xfrm>
            <a:off x="179280" y="4005360"/>
            <a:ext cx="28432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оверь себ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cc00"/>
                </a:solidFill>
                <a:latin typeface="Times New Roman"/>
              </a:rPr>
              <a:t>1.Неконтролируемое горение растительности, стихийно распространяющееся по лесной территории, эт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тихийный пожа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родный пожа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Лесной пожа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00"/>
                </a:solidFill>
                <a:latin typeface="Times New Roman"/>
              </a:rPr>
              <a:t>2.По характеру распространения лесные пожары подразделяются на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изовы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аземны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ерховы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дземные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00"/>
                </a:solidFill>
                <a:latin typeface="Times New Roman"/>
              </a:rPr>
              <a:t>Найди неверный отве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00"/>
                </a:solidFill>
                <a:latin typeface="Times New Roman"/>
              </a:rPr>
              <a:t>3.К тушению лесных пожаров не допускаются лица моложе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4 ле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 ле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8 ле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0 ле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00"/>
                </a:solidFill>
                <a:latin typeface="Times New Roman"/>
              </a:rPr>
              <a:t>4.Что необходимо сделать, если вы оказались в лесу где возник пожар? Найди неверный отве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Кричать «караул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пределить направление ветр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Быстро выходить из леса в наветренную сторон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пределить направление распространения огн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00"/>
                </a:solidFill>
                <a:latin typeface="Times New Roman"/>
              </a:rPr>
              <a:t>5.Что запрещается делать в лесу в пожароопасный сезон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водить костё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еть песн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льзоваться открытым огнё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ставлять на освещённой поляне бутылки и осколки стек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обирать ягод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авильные 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00"/>
                </a:solidFill>
                <a:latin typeface="Times New Roman"/>
              </a:rPr>
              <a:t>1.Неконтролируемое горение растительности, стихийно распространяющееся по лесной территории, эт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3) лесной пожа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cc00"/>
                </a:solidFill>
                <a:latin typeface="Times New Roman"/>
              </a:rPr>
              <a:t>2. Найди неверный отв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00"/>
                </a:solidFill>
                <a:latin typeface="Times New Roman"/>
              </a:rPr>
              <a:t>По характеру распространения лесные пожары подразделяются н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2) наземны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cc00"/>
                </a:solidFill>
                <a:latin typeface="Times New Roman"/>
              </a:rPr>
              <a:t>3.К тушению лесных пожаров не допускаются лица моложе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3) 18 ле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cc00"/>
                </a:solidFill>
                <a:latin typeface="Times New Roman"/>
              </a:rPr>
              <a:t>4.Что необходимо сделать, если вы оказались в лесу где возник пожар? Найди неверный отв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1) кричать «Караул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cc00"/>
                </a:solidFill>
                <a:latin typeface="Times New Roman"/>
              </a:rPr>
              <a:t>5.Что запрещается делать в лесу в пожароопасный сезон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1)разводить костё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3) пользоваться открытым огнё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) оставлять на освещённой поляне бутылки и оскол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Я и ты за всё в ответе,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ак не забудьте об одном: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е стоит никому на свете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Шутить с огнём, играть с огнём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Эпиграф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Не стоит никому на свете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Шутить с огнём, играть с огнём!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итать главу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ветить на вопросы в конце глав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писи в тетради учи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лова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Лесной пожар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неконтролируемое горение растительности, стихийно распространяющееся по лесной территори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Локализация пожар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действия, направленные на предотвращение возможности дальнейшего распространения горения и создание условий для его успешной ликвидации, имеющимися силами и средства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еспечение пожарной безопасност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принятие и соблюдение нормативных правовых актов, правил и требований пожарной безопасности, а также проведение противопожарных мероприяти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жарная опасность в лесу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возможность возникновения и (или) развития лесного пожар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Эвакуация людей при пожар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организованный процесс удаления людей из зоны, где имеется возможность воздействия на них опасных факторов пожа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ема. Лесные и торфяные пожа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12" descr="j0297551"/>
          <p:cNvPicPr/>
          <p:nvPr/>
        </p:nvPicPr>
        <p:blipFill>
          <a:blip r:embed="rId1"/>
          <a:stretch/>
        </p:blipFill>
        <p:spPr>
          <a:xfrm>
            <a:off x="3247920" y="1844640"/>
            <a:ext cx="3019680" cy="460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Цель урок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знакомить учащихся с происхождением и классификацией лесных и торфяных пожа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пособами оповещения о лесных и торфяных пожар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знать о действиях по защите от лесных и торфяных пожа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ыяснить последствия лесных и торфяных пожа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знакомить учащихся со способами тушения лесных и торфяных пожа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од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лесным пожаром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понимают </a:t>
            </a:r>
            <a:r>
              <a:rPr b="0" i="1" lang="en-US" sz="2800" spc="-1" strike="noStrike">
                <a:solidFill>
                  <a:srgbClr val="feec94"/>
                </a:solidFill>
                <a:latin typeface="Times New Roman"/>
              </a:rPr>
              <a:t>неконтролируемое горение растительности, стихийно распространяющееся по лесной территории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Picture 9" descr="LESPOJNIZ"/>
          <p:cNvPicPr/>
          <p:nvPr/>
        </p:nvPicPr>
        <p:blipFill>
          <a:blip r:embed="rId1"/>
          <a:stretch/>
        </p:blipFill>
        <p:spPr>
          <a:xfrm>
            <a:off x="1258920" y="2924280"/>
            <a:ext cx="6481800" cy="35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5"/>
          <p:cNvGraphicFramePr/>
          <p:nvPr/>
        </p:nvGraphicFramePr>
        <p:xfrm>
          <a:off x="971640" y="333360"/>
          <a:ext cx="6751440" cy="56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33360"/>
                    <a:ext cx="675144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о характеру распространения лесные пожары подразделяют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cc00"/>
                </a:solidFill>
                <a:uFillTx/>
                <a:latin typeface="Times New Roman"/>
              </a:rPr>
              <a:t>Низовые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-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горается сухой травяной покров или сухая подстил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00"/>
                </a:solidFill>
                <a:uFillTx/>
                <a:latin typeface="Times New Roman"/>
              </a:rPr>
              <a:t>Верховые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 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хватывает верхний полог леса. Наиболее опасный для леса.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00"/>
                </a:solidFill>
                <a:uFillTx/>
                <a:latin typeface="Times New Roman"/>
              </a:rPr>
              <a:t>Подземные (торфяные) -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озникают на торфянистых почва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08 - Тореро.mp3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68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68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76685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cc00"/>
                </a:solidFill>
                <a:uFillTx/>
                <a:latin typeface="Times New Roman"/>
              </a:rPr>
              <a:t>Низов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00"/>
                </a:solidFill>
                <a:uFillTx/>
                <a:latin typeface="Times New Roman"/>
              </a:rPr>
              <a:t>Верхов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00"/>
                </a:solidFill>
                <a:uFillTx/>
                <a:latin typeface="Times New Roman"/>
              </a:rPr>
              <a:t>Подземные (торфяны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10" descr="Pozhar2"/>
          <p:cNvPicPr/>
          <p:nvPr/>
        </p:nvPicPr>
        <p:blipFill>
          <a:blip r:embed="rId1"/>
          <a:stretch/>
        </p:blipFill>
        <p:spPr>
          <a:xfrm>
            <a:off x="5292720" y="260280"/>
            <a:ext cx="3024360" cy="2082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pozhar_L"/>
          <p:cNvPicPr/>
          <p:nvPr/>
        </p:nvPicPr>
        <p:blipFill>
          <a:blip r:embed="rId2"/>
          <a:stretch/>
        </p:blipFill>
        <p:spPr>
          <a:xfrm>
            <a:off x="5219640" y="2421000"/>
            <a:ext cx="3025800" cy="2112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LesPojar_Fot_03"/>
          <p:cNvPicPr/>
          <p:nvPr/>
        </p:nvPicPr>
        <p:blipFill>
          <a:blip r:embed="rId3"/>
          <a:stretch/>
        </p:blipFill>
        <p:spPr>
          <a:xfrm>
            <a:off x="5219640" y="4724280"/>
            <a:ext cx="3025800" cy="19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cc00"/>
                </a:solidFill>
                <a:uFillTx/>
                <a:latin typeface="Times New Roman"/>
              </a:rPr>
              <a:t>Последствия лесных и торфяных пожаров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3" descr="{297E5C35-E0B4-4E15-8D63-21BB67C4FA3B}"/>
          <p:cNvPicPr/>
          <p:nvPr/>
        </p:nvPicPr>
        <p:blipFill>
          <a:blip r:embed="rId1"/>
          <a:stretch/>
        </p:blipFill>
        <p:spPr>
          <a:xfrm>
            <a:off x="900000" y="1295280"/>
            <a:ext cx="7417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9:30:41Z</dcterms:created>
  <dc:creator>Мама</dc:creator>
  <dc:description/>
  <dc:language>en-US</dc:language>
  <cp:lastModifiedBy>Admin</cp:lastModifiedBy>
  <dcterms:modified xsi:type="dcterms:W3CDTF">2015-01-15T10:27:32Z</dcterms:modified>
  <cp:revision>20</cp:revision>
  <dc:subject/>
  <dc:title>Слайд 1</dc:title>
</cp:coreProperties>
</file>