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76E-AF97-444E-B9EE-AE5996B3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3BB-FA84-42E3-ACEB-367B870C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997-20A1-4ED2-8D84-9F28A60B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4D3-0AC2-4D5C-9B13-6E95ACCD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8CB4-E3DC-49B5-A7FC-C4B178EE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6CEE-969E-4459-9E76-B012C144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62F4-A81A-491E-89D3-455A7249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C49B-634D-4CF6-9935-CCF2FBA4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BF1B-0731-4DBE-B906-1CB897E1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B944-6AEE-4C57-81FB-6235B99F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4514-1BE7-4CED-A093-8BA1293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046-783C-4B9D-A945-75BF8C70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DC91-1756-4C42-94C0-C20A7074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DB2F-B459-4BFF-BB62-F65D69A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34DE-27F7-4AE0-9916-1F42CDD9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4D4D-3F03-436D-9C09-D7CDFE15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A50B-CB09-4340-B4FB-DCCA137B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526-4208-4274-A564-5D66CF89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EDC-B9DA-4704-82D3-145DE81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9C3-9704-4B7C-BF64-1E6A81AB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95D-7B50-4110-BB69-EDC485B7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341-A8C0-463A-A086-31629828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101-4F41-4FA8-B964-D014F63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207-E17A-4474-877A-787A93F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817D-92DA-4FB3-81C4-D1209FC0D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FB79-800F-4D04-9BA2-8A6F4008D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b99f9"/>
                </a:solidFill>
                <a:latin typeface="Comic Sans MS"/>
              </a:rPr>
              <a:t>Метапредметные требования к результатам освоения ОП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 ноября 2014 г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держание програм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ограмма состоит из трёх раздел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ые первые проект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ы проектной деятельнос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над проек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В ходе проводимой работы ученик приобрет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щеучебные организационные ум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щеучебные умения поиска све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ворческие общеучебные ум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неджерские умения и навы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муникативные ум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Важной частью любого проекта, да и вообще любой учебной деятельности должна быть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активная рефлексия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 учеников после создания готового продукта обучения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реализации стандарта основного общего образования лежит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стемно - деятельностный подх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едполагающий широкое внедрение в практику обучения проектной и исследовательской деяте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снове реализации стандарта основного общего образования лежи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стемно - деятельностный подход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едполагающий широкое внедрение в практику обучения проектной и исследовательск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41964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Согласно ФГОС нового покол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спешность современного человека определяют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ориентированность на знания и использование новых технологий, активная жизненная позиция, установка на рациональное использование своего времени и проектирование своего будущего, активное финансовое поведение, эффективное социальное сотрудничество, здоровый и безопасный образ жиз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оретические аспекты понятия «метапредметные компетенции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щество нуждается в человеке, способном самообучаться, прогнозировать и принимать решения, в человеке, владеющем универсальными умениями информационного характер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2001960"/>
            <a:ext cx="449568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Стандарт устанавливает требования к результатам обучающихся, освоивших образовательную программу общего образования: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личностным,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ючающим готовность и способность обучающихся к саморазвитию; сформированность мотивации к обучению, познанию, выбору индивидуальной образовательной траектори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ценностно-смысловые установк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обучающихся, социальные компетен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етапредметным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включающим освоенные обучающимися универсальные учебные действия (познавательные, регулятивные и коммуникативные), обеспечивающие овладение ключевыми компетенциями, составляющими основу умения учиться, и межпредметные понят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редметным,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ючающим освоенный обучающимися в ходе изучения учебного предмета опыт   по получению нового знания, его преобразованию и применению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Метапредметные компетенции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риентация учащихся в различных областя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бщеучебные умения информационно-логического характер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рганизация собственной учебной дея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сновные универсальные умения информационного характер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использование средств информационных и 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инятие решений и управле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формирование навыков исследовательской дея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заимодействие и сотрудничество со сверстниками и взрослы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дачи и требования к формированию  учебных и надучебных компетенций учащихся в условиях перехода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 ФГОС НОО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бные исследования подразделяют на три вида: предметные, межпредметные и надпредмет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Метапредметное исследование предполагает совместную деятельность педагога и ученика, направленное на исследование конкретных личностно-значимых для учащихся пробл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иболее эффективным для формирования метапредметных компетентностей учащихся является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ектный метод - исследовательская работа школьников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обое внимание по формированию метапредметных компетентностей следует уделить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неклассной рабо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65480" y="1447920"/>
            <a:ext cx="2633400" cy="3581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2576520" cy="3505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134040" y="3657600"/>
            <a:ext cx="240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1T14:23:56Z</dcterms:created>
  <dc:creator>связной</dc:creator>
  <dc:description/>
  <dc:language>en-US</dc:language>
  <cp:lastModifiedBy>связной</cp:lastModifiedBy>
  <dcterms:modified xsi:type="dcterms:W3CDTF">2014-10-31T15:27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