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2AB-A6DC-4D8C-B2A9-C8DD0A52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FD7-7147-4834-815C-9595B1F5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21D-9BD1-42E1-B519-E6607817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16A-F1A7-40A6-865E-FD87AC70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7AF0-1839-4357-BC52-282F08B5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96F3-D14D-4407-B12C-3DAA31B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099-10FA-495A-9118-804F920A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5B2-BDC1-4DD4-98DF-476712A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E94-8EF0-4EEA-809C-7DCC3B0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6B9-32DB-4DC2-9471-D94AAF0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882B-9734-4BB2-8A44-2105779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CA2-3AB5-46C0-AA9A-24B3304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80F-860D-4983-9382-1EC55388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781-AF66-4CDE-9480-D5BA4C3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318B-971F-4B46-B30A-ACC1EF58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2FFF-2686-491D-B265-D1E7EFAD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B5F1-B692-4A25-A3C1-4E419B0D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002-C349-4DF2-B68D-C421C9A4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34B-5B60-4E26-933B-6D041C1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982-D50E-4F4D-B04B-7225036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7C6-C140-473F-A91A-E190013F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EAB-EEA9-499A-84B9-752573C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E39-5D81-4A3E-8654-697E896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470-2009-4225-BAB8-9FE19C9B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302-C84E-4DC8-BA18-32203547FA2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2F8D-0BA0-49A6-A8FA-75F89F38189A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оя любимая книга-»Лесси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сси-это история о собаке, которая благодаря верности к своему хозяину, вернулась домо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скажу поподробнее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679440" descr=""/>
          <p:cNvPicPr/>
          <p:nvPr/>
        </p:nvPicPr>
        <p:blipFill>
          <a:blip r:embed="rId1"/>
          <a:stretch/>
        </p:blipFill>
        <p:spPr>
          <a:xfrm>
            <a:off x="1281240" y="1981080"/>
            <a:ext cx="261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4120" y="883080"/>
            <a:ext cx="25905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-360"/>
            <a:ext cx="79246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сси-это собака,хозяева которой (отец Сем Керраклаф его жена и их сын Джо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из-за бедности в семье решают продать её. Конечно, Джо не хочет продавать собаку.Лесси всегда встречает его после школы. Но собаку всё-таки продали,и увезли в Шотландию (само действие происходит в Англии). Лесси не нравился её новый дом. Шотландия находится рядом с Англией, но дом Лесси был всё-таки очень далеко (ведь через всю страну собаке просто не пройти). Но собака,через холод и голод (приближалась зима) всё-таки добралась до дома. Оттощавшую,бедную собаку герцог(покупатель собаки) не захотел принять в свой дом. И собака благополучно вернулась домой,к своим дорогим хозяинам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ораль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Животные могут быть настолько верны своему хозяину,что сделают всё что бы оказаться с ним рядом. А мы в ответе за тех кого мы приручили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Lassie" descr=""/>
          <p:cNvPicPr/>
          <p:nvPr/>
        </p:nvPicPr>
        <p:blipFill>
          <a:blip r:embed="rId1"/>
          <a:stretch/>
        </p:blipFill>
        <p:spPr>
          <a:xfrm>
            <a:off x="1023840" y="1981080"/>
            <a:ext cx="313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7:05:23Z</dcterms:created>
  <dc:creator>Даша</dc:creator>
  <dc:description/>
  <dc:language>en-US</dc:language>
  <cp:lastModifiedBy>D</cp:lastModifiedBy>
  <dcterms:modified xsi:type="dcterms:W3CDTF">2014-12-03T19:19:08Z</dcterms:modified>
  <cp:revision>2</cp:revision>
  <dc:subject/>
  <dc:title>PowerPoint Presentation</dc:title>
</cp:coreProperties>
</file>