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B18-A9CB-4446-9A49-FC196E3C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E0F-74CD-4736-9791-4C98C1B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73A-B2CC-4737-810B-E343985D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937-850F-4168-8C70-600C9FDE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BC7B-AB3F-4952-9A8C-23A1ABA0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BF7-0262-48E7-B353-E664FB09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591B-4EE5-417A-9D41-9780B502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C76F-4113-4DB6-976C-7407DF5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3664-D302-45B8-8865-D156A72E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0EBB-6831-4F32-A655-9E2938FC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8FF7-3AFA-47C3-9997-FAD6320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E1C-83BF-4441-804D-F75629FA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3567-5871-4650-B011-14A3D21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66FC-758A-475D-BCE5-530FA8C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5A9A-0211-418F-953C-B707304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8F7C-8CFE-44CA-A712-8A8FBE71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F25-7C00-4D1B-86FB-F98FA78E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D0C-365A-4175-B826-78D7C23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117-8C05-4B6C-B42D-995F9849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575-D1E2-4D6D-9892-F322CDB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C3B-98CB-432B-A9AD-D1E08E7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267-BD2B-4F1C-B1D0-F5C4BA23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B21-F0C6-4063-9B25-7236D80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A59-1F76-4232-8049-198FB03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8123-4F4D-4A67-AA6D-4CE290C4F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D11-178A-43CA-808C-88C1DFD37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«Путь России от разорения к достатку – это путь трезвой России».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Алкоголизм делает больше опустошения, чем три исторических бича, вместе взятые: голод, чума и войн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ПИВО –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наркотик для начинающих!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4652640"/>
            <a:ext cx="854064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Скажи пив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НЕТ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3598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85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85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35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Times New Roman"/>
              </a:rPr>
              <a:t>Не СПИД, не туберкулез погубят Россию, 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пивной алкоголизм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Times New Roman"/>
              </a:rPr>
              <a:t>среди юного поколен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Главный санитарный вр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РФ Геннадий Онище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ПИВО –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наркотик для начинающих!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4652640"/>
            <a:ext cx="854064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Скажи пив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НЕТ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3598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5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85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35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«Путь России от разорения к достатку – это путь трезвой России».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Trajan Pro"/>
              </a:rPr>
              <a:t>Не погибай по неведению.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Сравнительные результаты среди студентов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1680" y="1676520"/>
          <a:ext cx="8271000" cy="4704840"/>
        </p:xfrm>
        <a:graphic>
          <a:graphicData uri="http://schemas.openxmlformats.org/drawingml/2006/table">
            <a:tbl>
              <a:tblPr/>
              <a:tblGrid>
                <a:gridCol w="3983040"/>
                <a:gridCol w="2016000"/>
                <a:gridCol w="2271960"/>
              </a:tblGrid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куря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не куря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. нерв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2. понижение слу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3. плохая 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4. плохое физическ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5. плохое умственн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6. нечистопло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7. плохие отм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8. медленно соображаю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7e7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08760"/>
          </a:xfrm>
          <a:prstGeom prst="rect">
            <a:avLst/>
          </a:prstGeom>
          <a:noFill/>
          <a:ln w="0">
            <a:noFill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Вы курите?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Если   ДА,   спросите себя,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почему вы 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хотите </a:t>
            </a:r>
            <a:r>
              <a:rPr b="0" lang="en-US" sz="9600" spc="-1" strike="noStrike">
                <a:solidFill>
                  <a:srgbClr val="e91505"/>
                </a:solidFill>
                <a:latin typeface="Arial"/>
              </a:rPr>
              <a:t>умереть?!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760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7e7ff"/>
                </a:solidFill>
                <a:latin typeface="Arial"/>
              </a:rPr>
              <a:t>СДЕЛАЙ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345440" cy="18716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7e7ff"/>
                </a:solidFill>
                <a:latin typeface="Arial"/>
              </a:rPr>
              <a:t>СВО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71640" y="4076640"/>
            <a:ext cx="7129440" cy="2376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b7e7ff"/>
                </a:solidFill>
                <a:latin typeface="Arial"/>
              </a:rPr>
              <a:t>ВЫБОР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31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d4d4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9800" y="1052640"/>
            <a:ext cx="8229600" cy="54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d4d4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развивающ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способствовать развитию умений делать нравственный выбор в жизненной ситуаци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создать условия для развития устойчивых жизненных ориентир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воспитательн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вовлечь студентов в активную сознательную деятельность по здоровому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образу жизн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1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8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СРЕДИ НЕПЬЮЩЕГО НАСЕЛЕНИЯ </a:t>
            </a:r>
            <a:br>
              <a:rPr sz="4800"/>
            </a:b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КУРИЛЬЩИКОВ 40%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СРЕДИ ЗЛОУПОТРЕБЛЯЮЩИХ АЛКОГОЛЕМ КУРИЛЬЩИКОВ УЖЕ 98%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«Путь России от разорения к достатку – это путь трезвой России».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Никакое богатство не сможет перекупить влияние обнародованной мысл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528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9:55:09Z</dcterms:created>
  <dc:creator>Customer</dc:creator>
  <dc:description/>
  <dc:language>en-US</dc:language>
  <cp:lastModifiedBy>Customer</cp:lastModifiedBy>
  <dcterms:modified xsi:type="dcterms:W3CDTF">2009-11-25T09:15:19Z</dcterms:modified>
  <cp:revision>19</cp:revision>
  <dc:subject/>
  <dc:title>Не погибай по неведению.</dc:title>
</cp:coreProperties>
</file>