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12F-DE7C-483D-ABFD-70D91F6E0D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8C8-56F3-4A2A-8E0C-C4D6ABF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722-D4AE-40B9-8D8F-A1AF5867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8EE-8F38-450C-9965-D5818566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4B5-D9EA-49A1-8E42-147F1810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507-CF95-4E4B-9532-59DED17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A8A-817A-4FD3-BC4E-B259A849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27A-EAA1-41F0-A620-F8DD83E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E96-025A-4196-9055-B3DC9AB7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BFC-20EF-4064-B0F1-60F69A2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749-F892-466C-BA90-9926248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6D0-2D09-4993-935B-E91A58F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7F6-39DA-4D06-91C4-6ADBA80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6B0E-2A9C-4A5D-984B-569FCA02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286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АРАЛЛЕЛЬНОСТЬ ПРЯМ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809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пределение.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ве прямые в пространстве называются параллельными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9760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45720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они лежат в одной 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152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икосаэдр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43000" y="4572000"/>
            <a:ext cx="7162920" cy="1790640"/>
            <a:chOff x="1143000" y="4572000"/>
            <a:chExt cx="7162920" cy="1790640"/>
          </a:xfrm>
        </p:grpSpPr>
        <p:sp>
          <p:nvSpPr>
            <p:cNvPr id="96" name=""/>
            <p:cNvSpPr/>
            <p:nvPr/>
          </p:nvSpPr>
          <p:spPr>
            <a:xfrm>
              <a:off x="1143000" y="457200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Для каждого ребра имеется только одно ребро, ему параллельное. У икосаэдра 30 ребер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3124080" y="5638680"/>
            <a:ext cx="101628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5638680"/>
                      <a:ext cx="10162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29923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152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додекаэдр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4572000"/>
            <a:ext cx="7162920" cy="1790640"/>
            <a:chOff x="1143000" y="4572000"/>
            <a:chExt cx="7162920" cy="1790640"/>
          </a:xfrm>
        </p:grpSpPr>
        <p:sp>
          <p:nvSpPr>
            <p:cNvPr id="102" name=""/>
            <p:cNvSpPr/>
            <p:nvPr/>
          </p:nvSpPr>
          <p:spPr>
            <a:xfrm>
              <a:off x="1143000" y="457200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Для каждого ребра имеется только одно ребро, ему параллельное. У додекаэдра 30 ребер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3124080" y="5638680"/>
            <a:ext cx="101628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5638680"/>
                      <a:ext cx="10162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48120" y="1219320"/>
            <a:ext cx="32050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5029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52280"/>
            <a:ext cx="6019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 1.</a:t>
            </a:r>
            <a:r>
              <a:rPr b="0" lang="ru-RU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Являются ли параллельными прямые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B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оходящие через вершины куба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971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397320" cy="3195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152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 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Являются ли параллельными прямые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B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, проходящие через вершины тетраэдра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BCD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029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5181480"/>
            <a:ext cx="533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28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Дан куб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…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Назовите прямые, проходящие через вершины этого куба и параллельные прямой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5181480"/>
            <a:ext cx="533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F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2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Назовите прямые, проходящие через вершины правильной шестиугольной призмы, параллельные прямой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52280"/>
            <a:ext cx="693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куба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…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971800" cy="28051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066680" y="4495680"/>
            <a:ext cx="7162920" cy="1791000"/>
            <a:chOff x="1066680" y="4495680"/>
            <a:chExt cx="7162920" cy="1791000"/>
          </a:xfrm>
        </p:grpSpPr>
        <p:sp>
          <p:nvSpPr>
            <p:cNvPr id="67" name=""/>
            <p:cNvSpPr/>
            <p:nvPr/>
          </p:nvSpPr>
          <p:spPr>
            <a:xfrm>
              <a:off x="1066680" y="449568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Каждое ребро участвует в трех парах параллельных прямых. У куба имеется 12 ребер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3124080" y="5562720"/>
            <a:ext cx="128268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5562720"/>
                      <a:ext cx="12826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5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правильной треугольной призмы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4419720"/>
            <a:ext cx="8458200" cy="2247840"/>
            <a:chOff x="380880" y="4419720"/>
            <a:chExt cx="8458200" cy="2247840"/>
          </a:xfrm>
        </p:grpSpPr>
        <p:sp>
          <p:nvSpPr>
            <p:cNvPr id="72" name=""/>
            <p:cNvSpPr/>
            <p:nvPr/>
          </p:nvSpPr>
          <p:spPr>
            <a:xfrm>
              <a:off x="380880" y="44197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Каждое ребро оснований участвует в одной паре параллельных прямых. Каждое боковое ребро участвует в двух парах параллельных прямых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5073480" y="5562720"/>
            <a:ext cx="151164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3480" y="5562720"/>
                      <a:ext cx="151164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457200" y="6095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1720800" y="5943600"/>
            <a:ext cx="151128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20800" y="5943600"/>
                      <a:ext cx="15112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971800" y="1143000"/>
            <a:ext cx="2978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15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правильной шестиугольной призмы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0719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80880" y="4419720"/>
            <a:ext cx="8458200" cy="2247840"/>
            <a:chOff x="380880" y="4419720"/>
            <a:chExt cx="8458200" cy="2247840"/>
          </a:xfrm>
        </p:grpSpPr>
        <p:sp>
          <p:nvSpPr>
            <p:cNvPr id="82" name=""/>
            <p:cNvSpPr/>
            <p:nvPr/>
          </p:nvSpPr>
          <p:spPr>
            <a:xfrm>
              <a:off x="380880" y="44197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Каждое ребро оснований участвует в трех парах параллельных прямых. Каждое боковое ребро участвует в пяти парах параллельных прямых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4800600" y="5562720"/>
            <a:ext cx="205740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5562720"/>
                      <a:ext cx="20574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457200" y="6095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1447920" y="5943600"/>
            <a:ext cx="205740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5943600"/>
                      <a:ext cx="20574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52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, содержащих ребра октаэдр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43000" y="4495680"/>
            <a:ext cx="7162920" cy="1791000"/>
            <a:chOff x="1143000" y="4495680"/>
            <a:chExt cx="7162920" cy="1791000"/>
          </a:xfrm>
        </p:grpSpPr>
        <p:sp>
          <p:nvSpPr>
            <p:cNvPr id="90" name=""/>
            <p:cNvSpPr/>
            <p:nvPr/>
          </p:nvSpPr>
          <p:spPr>
            <a:xfrm>
              <a:off x="1143000" y="449568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7c8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Для каждого ребра имеется только одно ребро, ему параллельное. У октаэдра 12 ребер. Следовательно, искомое число пар параллельных прямых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3124080" y="5562720"/>
            <a:ext cx="87660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5562720"/>
                      <a:ext cx="8766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2960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4:37:57Z</dcterms:created>
  <dc:creator>*</dc:creator>
  <dc:description/>
  <dc:language>en-US</dc:language>
  <cp:lastModifiedBy>*</cp:lastModifiedBy>
  <dcterms:modified xsi:type="dcterms:W3CDTF">2008-03-18T08:41:08Z</dcterms:modified>
  <cp:revision>9</cp:revision>
  <dc:subject/>
  <dc:title>Презентация PowerPoint</dc:title>
</cp:coreProperties>
</file>