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F28-4EBA-4F20-9617-44ABA6A3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F5A-8885-4392-9BCE-41E9E2FC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C02-354D-4DBA-95F5-91D8E075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F86-AFCE-4BFD-B832-509E6CB6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C375-9E77-4F70-9B4B-501511A8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1DE8-269F-41B3-852E-E80396B4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277C-5911-409F-8EB5-99445345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0D17-996E-4236-AAB8-6332653E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4176-839B-41E6-A3E1-D727395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D827-D282-4562-8DFA-DCEED891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3AD0-A200-45DC-99FF-E5DC3A6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F16-E6D7-4E2A-AC3F-CB7CFFAE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9E63-4E5E-4AA0-82E7-E8C05DFE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E30F-3B95-430B-B3AD-6DEDDF82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F21D-8834-4ED5-9B13-6D6D90A8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23EB-AED0-4838-83F5-783F45C3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F559-F532-4561-913E-A6137671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4390B-09C9-43FA-86A6-3538F159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4A050-D375-4CC9-8691-3D36B8E2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CE88-B3C7-47AE-B168-9EEB27E0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74DF-C26B-4ED1-AA26-EC0C6F30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49AD4-9B84-4D61-9719-1A559182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CE1-59FF-43D9-A543-EBE089AB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0970-2036-4ECC-9FD9-D8E4E621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DF17-CAE2-4554-B296-DA63A2D6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775A-E337-4E86-BBF6-B3B9272A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FEC6-963A-42E7-8088-4A8ED3CD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53C5-A069-40E9-8D6F-4836DF09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1B54-F9A6-4E00-8740-CF645A2A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E6DC-7A6E-497F-B4F2-1CB122D7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8A2D-647B-4B00-B447-6F32EA66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41C0E-003D-48D6-8030-7CC24C45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F23A5-CEBF-4D65-848C-1DB498AD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656-AEC5-4EA5-AFF2-48264A89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0C6D-2944-436F-BB96-83272868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86F94-F34B-4FE3-A636-36C9B3CB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8FA40-BFDB-44AC-AF55-49C0A7B4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64FB-5866-432D-9B59-E7A9420C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0493C-FE14-4A79-BD8E-4E191733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2A724-7F76-4E6E-BD71-6C515C9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32E6B-05BE-48FA-ACDD-9FCADA67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F47D-AB4A-4D82-B1EA-071D3C8F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8F104-C260-4CAD-B1F7-C79B127F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882A-4793-4F71-A918-B3DB0DCA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2FA-F595-4B3C-8D31-D35FFDF3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1BA4-4EA5-4E98-A1DD-B51DDD84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9CD05-0270-442C-BBF0-1A363C06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D0B4F-CBEA-4554-BAB8-3B691EA4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D0814-404C-4AA1-AF3C-17A8A54F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3958F-ADCC-41E0-9147-3B50E002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ADCFF-C26C-4C36-ADFB-29230E6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99269-353E-4FD8-9410-7CC662F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56A7-1A08-44F0-8F23-FED7566C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C6AA-B006-41F4-ABA5-6E1B05EE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69109-E4D5-4170-8AC3-19AD8E6A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2FC-5ABA-4DCB-BA67-3A7A1907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FCA24-368D-4FCF-9A40-5BCC5D05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D138B-00B9-4881-BBC5-107F8BA8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C48E2-5BBE-46F5-8E80-D4E8B5A8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B75A0-CB1B-4D4B-A8F8-EA64D5FF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F69D4-D6C8-4CD5-B734-1EB45941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232CB-3312-455B-8C76-57D8A426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D28C8-73C9-47FE-AB20-C35A19FA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8EFF7-CE37-4F60-BAD5-49C6E050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3BCE5-2422-4E60-9013-B4F48A0C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1DC71-1AD5-49C1-B41F-C53306E5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5FF-35E1-4FB2-AC87-2144588E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BDDB7-2BB3-46B5-845F-10D44C3E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9AB1B-6760-4BD7-A03B-4ED6A729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C8537-D16A-4824-B5A2-B033824F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5EB5F-0D93-4C42-A608-BE820FE1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BF18F-370A-41F3-9B40-164C9805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C6BFE-673D-4793-8B0A-40BD49C5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142B0-8615-4E2A-A7C2-1F2842DE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EF2C-95F0-4104-B3A7-CEABD17D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9F02A-897D-459F-BAE1-88596150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D04F7-E692-4B41-BE9B-BEE54681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24B-AF70-466C-8311-29A7F3E4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D328D-CFC4-48BF-8CBF-55A23D26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09238-35BA-4DAB-887B-41A908F6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D4CCE-4260-41ED-BF65-F6115688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C1B8C-24DD-403A-AC13-AEBBBD77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AF084-7732-4CD6-9903-E9BF9081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2B7B-9B3D-4C5C-9309-088971AD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DEA6C-A235-4D41-ABD4-34FA3117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D34A1-393D-495F-98C2-7464E6E4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39091-7E6B-4437-8334-9582623B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AD51F-F74B-4217-9DB0-F96AF42D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D76-23EB-42E6-B4F5-4D7EED4E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78992-638F-4D98-9902-C7EF6563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1C021-22FD-490E-902E-492FE322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F0C57-7D7A-47CE-82B3-5EA233ED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07654-F221-44C2-867A-E9B85E16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7D934-9573-489B-8224-76A445F5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FEB3A-3050-40EE-B05E-801DE958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50AFF-F76C-4D19-A90D-BE36AE61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43B9-E51E-464C-A1A0-344AE14F5B0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EF40-3717-4FD8-AD61-2DA174A76B9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8914-B2F9-49FA-BB36-ECE81161037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A123-3150-4834-B680-CA9C75C6366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A4F3-B2EB-41B1-A2A8-26F5EB9DBBE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3241-EAC0-4A33-837D-DBDD4FC1F03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23FC-DDC7-4E3D-A32D-5ED0217A560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CBB7-FF32-46AB-9AC9-9E228E89200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russnab.ru/books/Dopuski_i_posadki.pdf%20-" TargetMode="External"/><Relationship Id="rId2" Type="http://schemas.openxmlformats.org/officeDocument/2006/relationships/hyperlink" Target="http://www.russnab.ru/books/Dopuski_i_posadki.pdf%20-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AutoShape 10">
            <a:hlinkClick r:id="rId1" action="ppaction://hlinksldjump"/>
          </p:cNvPr>
          <p:cNvSpPr/>
          <p:nvPr/>
        </p:nvSpPr>
        <p:spPr>
          <a:xfrm>
            <a:off x="7524720" y="6093000"/>
            <a:ext cx="1079640" cy="504720"/>
          </a:xfrm>
          <a:prstGeom prst="rightArrow">
            <a:avLst>
              <a:gd name="adj1" fmla="val 50000"/>
              <a:gd name="adj2" fmla="val 534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WordArt 13"/>
          <p:cNvSpPr txBox="1"/>
          <p:nvPr/>
        </p:nvSpPr>
        <p:spPr>
          <a:xfrm>
            <a:off x="539640" y="907920"/>
            <a:ext cx="820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2" name="Picture 14" descr="j0300840"/>
          <p:cNvPicPr/>
          <p:nvPr/>
        </p:nvPicPr>
        <p:blipFill>
          <a:blip r:embed="rId4"/>
          <a:stretch/>
        </p:blipFill>
        <p:spPr>
          <a:xfrm>
            <a:off x="179280" y="3933720"/>
            <a:ext cx="3932280" cy="2448000"/>
          </a:xfrm>
          <a:prstGeom prst="rect">
            <a:avLst/>
          </a:prstGeom>
          <a:ln w="0">
            <a:noFill/>
          </a:ln>
        </p:spPr>
      </p:pic>
      <p:pic>
        <p:nvPicPr>
          <p:cNvPr id="373" name="TextBox 4" descr=""/>
          <p:cNvPicPr/>
          <p:nvPr/>
        </p:nvPicPr>
        <p:blipFill>
          <a:blip r:embed="rId5"/>
          <a:stretch/>
        </p:blipFill>
        <p:spPr>
          <a:xfrm>
            <a:off x="4206960" y="5761080"/>
            <a:ext cx="4833720" cy="69516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1403280" y="620640"/>
            <a:ext cx="7489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1" descr=""/>
          <p:cNvPicPr/>
          <p:nvPr/>
        </p:nvPicPr>
        <p:blipFill>
          <a:blip r:embed="rId6"/>
          <a:stretch/>
        </p:blipFill>
        <p:spPr>
          <a:xfrm>
            <a:off x="822240" y="231840"/>
            <a:ext cx="8004240" cy="13111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"/>
          <p:cNvSpPr/>
          <p:nvPr/>
        </p:nvSpPr>
        <p:spPr>
          <a:xfrm>
            <a:off x="611280" y="1589400"/>
            <a:ext cx="792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54a10"/>
                </a:solidFill>
                <a:latin typeface="Times New Roman"/>
                <a:ea typeface="Calibri"/>
              </a:rPr>
              <a:t>        </a:t>
            </a:r>
            <a:r>
              <a:rPr b="1" lang="ru-RU" sz="2000" spc="-1" strike="noStrike">
                <a:solidFill>
                  <a:srgbClr val="b54a10"/>
                </a:solidFill>
                <a:latin typeface="Times New Roman"/>
                <a:ea typeface="Calibri"/>
              </a:rPr>
              <a:t>Цель урока:    формирование знаний и умений  для определения параметров различных типов посадок; анализировать схемы расположения полей допусков для посадок различных ти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3571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л: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ый размер Ø55 мм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рхнее предельное отклонение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e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+  0.051 мм (табличное значение)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жнее предельное отклонение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ei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+ 0.032 мм (табличное значение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ые размеры вала,  мм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dmax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н +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e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55 + 0,51 = 55,051 мм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dmin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н +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ei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55 +  0,032 = 55.032 мм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уск вала, мм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Т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dmax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dmin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55.051 – 55.032 = 0,019 мм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адка с натягом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ак как размеры вала больше размеров отверстия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тяги в посадке этих деталей, мм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Nmax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=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dmax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Dmin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55,051 – 55,000 = 0,051 мм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Nmin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=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dmin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Dmax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55,032 – 55,030 = 0,002 мм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уск посадки с натягом, мм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TN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Nmax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Nmin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,051 – 0,002 = 0,049 мм,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TN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TD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+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Td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,030 + 0,019 = 0, 049мм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"/>
          <p:cNvPicPr/>
          <p:nvPr/>
        </p:nvPicPr>
        <p:blipFill>
          <a:blip r:embed="rId1"/>
          <a:srcRect l="25696" t="29090" r="22221" b="12239"/>
          <a:stretch/>
        </p:blipFill>
        <p:spPr>
          <a:xfrm>
            <a:off x="571680" y="714240"/>
            <a:ext cx="81849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Рисунок 1" descr=""/>
          <p:cNvPicPr/>
          <p:nvPr/>
        </p:nvPicPr>
        <p:blipFill>
          <a:blip r:embed="rId1"/>
          <a:srcRect l="7893" t="13376" r="28565" b="5518"/>
          <a:stretch/>
        </p:blipFill>
        <p:spPr>
          <a:xfrm>
            <a:off x="1258920" y="189000"/>
            <a:ext cx="71294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755640" y="42840"/>
            <a:ext cx="763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 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читайте предельные размеры отверстия и вала, допуски отверстия и вала, зазоры или натяги, определите характер соединения, допуск посадки, если на чертеже указан размер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; изобразите схему поса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верст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инальный размер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5 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хнее предельное отклонение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+0,030 мм (табличное знач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жнее предельное отклонен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0 (табличное знач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ельные размеры отверстия,  м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55 + 0,030 = 55,030 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55 + 0 = 55,00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уск отверстия, м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55,030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55,000 = 0,03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ал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инальный размер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5 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хнее предельное отклонен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+  0.030 мм (табличное знач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жнее предельное отклонен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+ 0.011 мм (табличное знач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ельные размеры вала,  м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55 + 0,030 = 55.030 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55 +  0,011 = 50.011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уск вала, м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55.030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55.011 = 0,019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Поле 599" descr=""/>
          <p:cNvPicPr/>
          <p:nvPr/>
        </p:nvPicPr>
        <p:blipFill>
          <a:blip r:embed="rId1"/>
          <a:stretch/>
        </p:blipFill>
        <p:spPr>
          <a:xfrm>
            <a:off x="3992400" y="2664000"/>
            <a:ext cx="682920" cy="64584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96"/>
          <p:cNvSpPr/>
          <p:nvPr/>
        </p:nvSpPr>
        <p:spPr>
          <a:xfrm>
            <a:off x="2678040" y="2670120"/>
            <a:ext cx="125748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97"/>
          <p:cNvSpPr/>
          <p:nvPr/>
        </p:nvSpPr>
        <p:spPr>
          <a:xfrm>
            <a:off x="1308240" y="3589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98"/>
          <p:cNvSpPr/>
          <p:nvPr/>
        </p:nvSpPr>
        <p:spPr>
          <a:xfrm>
            <a:off x="1308240" y="315288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00"/>
          <p:cNvSpPr/>
          <p:nvPr/>
        </p:nvSpPr>
        <p:spPr>
          <a:xfrm>
            <a:off x="2108160" y="2670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оле 655"/>
          <p:cNvSpPr/>
          <p:nvPr/>
        </p:nvSpPr>
        <p:spPr>
          <a:xfrm>
            <a:off x="2108160" y="2803680"/>
            <a:ext cx="4525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+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оле 655"/>
          <p:cNvSpPr/>
          <p:nvPr/>
        </p:nvSpPr>
        <p:spPr>
          <a:xfrm>
            <a:off x="3581280" y="2293920"/>
            <a:ext cx="354240" cy="3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оле 655"/>
          <p:cNvSpPr/>
          <p:nvPr/>
        </p:nvSpPr>
        <p:spPr>
          <a:xfrm>
            <a:off x="3137040" y="2982960"/>
            <a:ext cx="4572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H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оле 655"/>
          <p:cNvSpPr/>
          <p:nvPr/>
        </p:nvSpPr>
        <p:spPr>
          <a:xfrm>
            <a:off x="3594240" y="3606840"/>
            <a:ext cx="496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I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оле 655"/>
          <p:cNvSpPr/>
          <p:nvPr/>
        </p:nvSpPr>
        <p:spPr>
          <a:xfrm>
            <a:off x="851040" y="3409920"/>
            <a:ext cx="2728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оле 655"/>
          <p:cNvSpPr/>
          <p:nvPr/>
        </p:nvSpPr>
        <p:spPr>
          <a:xfrm>
            <a:off x="851040" y="2982960"/>
            <a:ext cx="2728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оле 655"/>
          <p:cNvSpPr/>
          <p:nvPr/>
        </p:nvSpPr>
        <p:spPr>
          <a:xfrm>
            <a:off x="855720" y="3848040"/>
            <a:ext cx="2365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е 655"/>
          <p:cNvSpPr/>
          <p:nvPr/>
        </p:nvSpPr>
        <p:spPr>
          <a:xfrm>
            <a:off x="7251840" y="3409920"/>
            <a:ext cx="2728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11"/>
          <p:cNvSpPr/>
          <p:nvPr/>
        </p:nvSpPr>
        <p:spPr>
          <a:xfrm>
            <a:off x="4622760" y="2670120"/>
            <a:ext cx="1486080" cy="571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012"/>
          <p:cNvSpPr/>
          <p:nvPr/>
        </p:nvSpPr>
        <p:spPr>
          <a:xfrm flipV="1">
            <a:off x="6051600" y="2657160"/>
            <a:ext cx="10857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015"/>
          <p:cNvSpPr/>
          <p:nvPr/>
        </p:nvSpPr>
        <p:spPr>
          <a:xfrm flipH="1">
            <a:off x="4198680" y="3241800"/>
            <a:ext cx="65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016"/>
          <p:cNvSpPr/>
          <p:nvPr/>
        </p:nvSpPr>
        <p:spPr>
          <a:xfrm>
            <a:off x="4336920" y="26701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017"/>
          <p:cNvSpPr/>
          <p:nvPr/>
        </p:nvSpPr>
        <p:spPr>
          <a:xfrm>
            <a:off x="5194440" y="32479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018"/>
          <p:cNvSpPr/>
          <p:nvPr/>
        </p:nvSpPr>
        <p:spPr>
          <a:xfrm>
            <a:off x="6566040" y="2670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019"/>
          <p:cNvSpPr/>
          <p:nvPr/>
        </p:nvSpPr>
        <p:spPr>
          <a:xfrm>
            <a:off x="7137360" y="2657520"/>
            <a:ext cx="0" cy="92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8"/>
          <p:cNvSpPr/>
          <p:nvPr/>
        </p:nvSpPr>
        <p:spPr>
          <a:xfrm>
            <a:off x="4479840" y="2293920"/>
            <a:ext cx="496800" cy="3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+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оле 655"/>
          <p:cNvSpPr/>
          <p:nvPr/>
        </p:nvSpPr>
        <p:spPr>
          <a:xfrm>
            <a:off x="5937120" y="2293920"/>
            <a:ext cx="398520" cy="3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025"/>
          <p:cNvSpPr/>
          <p:nvPr/>
        </p:nvSpPr>
        <p:spPr>
          <a:xfrm flipV="1">
            <a:off x="1873080" y="3584160"/>
            <a:ext cx="0" cy="83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Поле 1105" descr=""/>
          <p:cNvPicPr/>
          <p:nvPr/>
        </p:nvPicPr>
        <p:blipFill>
          <a:blip r:embed="rId4"/>
          <a:stretch/>
        </p:blipFill>
        <p:spPr>
          <a:xfrm>
            <a:off x="1500120" y="3840120"/>
            <a:ext cx="504720" cy="566640"/>
          </a:xfrm>
          <a:prstGeom prst="rect">
            <a:avLst/>
          </a:prstGeom>
          <a:ln w="0">
            <a:noFill/>
          </a:ln>
        </p:spPr>
      </p:pic>
      <p:pic>
        <p:nvPicPr>
          <p:cNvPr id="465" name="Поле 599" descr=""/>
          <p:cNvPicPr/>
          <p:nvPr/>
        </p:nvPicPr>
        <p:blipFill>
          <a:blip r:embed="rId5"/>
          <a:stretch/>
        </p:blipFill>
        <p:spPr>
          <a:xfrm>
            <a:off x="6791400" y="2676600"/>
            <a:ext cx="438120" cy="689040"/>
          </a:xfrm>
          <a:prstGeom prst="rect">
            <a:avLst/>
          </a:prstGeom>
          <a:ln w="0">
            <a:noFill/>
          </a:ln>
        </p:spPr>
      </p:pic>
      <p:sp>
        <p:nvSpPr>
          <p:cNvPr id="466" name="Поле 655"/>
          <p:cNvSpPr/>
          <p:nvPr/>
        </p:nvSpPr>
        <p:spPr>
          <a:xfrm>
            <a:off x="6002280" y="3270240"/>
            <a:ext cx="333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Поле 599" descr=""/>
          <p:cNvPicPr/>
          <p:nvPr/>
        </p:nvPicPr>
        <p:blipFill>
          <a:blip r:embed="rId6"/>
          <a:stretch/>
        </p:blipFill>
        <p:spPr>
          <a:xfrm>
            <a:off x="4853160" y="3243240"/>
            <a:ext cx="510840" cy="358920"/>
          </a:xfrm>
          <a:prstGeom prst="rect">
            <a:avLst/>
          </a:prstGeom>
          <a:ln w="0">
            <a:noFill/>
          </a:ln>
        </p:spPr>
      </p:pic>
      <p:sp>
        <p:nvSpPr>
          <p:cNvPr id="468" name="Поле 655"/>
          <p:cNvSpPr/>
          <p:nvPr/>
        </p:nvSpPr>
        <p:spPr>
          <a:xfrm>
            <a:off x="4398840" y="3270240"/>
            <a:ext cx="4572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Поле 599" descr=""/>
          <p:cNvPicPr/>
          <p:nvPr/>
        </p:nvPicPr>
        <p:blipFill>
          <a:blip r:embed="rId7"/>
          <a:stretch/>
        </p:blipFill>
        <p:spPr>
          <a:xfrm>
            <a:off x="6218280" y="2798640"/>
            <a:ext cx="474480" cy="505080"/>
          </a:xfrm>
          <a:prstGeom prst="rect">
            <a:avLst/>
          </a:prstGeom>
          <a:ln w="0">
            <a:noFill/>
          </a:ln>
        </p:spPr>
      </p:pic>
      <p:pic>
        <p:nvPicPr>
          <p:cNvPr id="470" name="Поле 599" descr=""/>
          <p:cNvPicPr/>
          <p:nvPr/>
        </p:nvPicPr>
        <p:blipFill>
          <a:blip r:embed="rId8"/>
          <a:stretch/>
        </p:blipFill>
        <p:spPr>
          <a:xfrm>
            <a:off x="1762200" y="2664000"/>
            <a:ext cx="809640" cy="755640"/>
          </a:xfrm>
          <a:prstGeom prst="rect">
            <a:avLst/>
          </a:prstGeom>
          <a:ln w="0">
            <a:noFill/>
          </a:ln>
        </p:spPr>
      </p:pic>
      <p:sp>
        <p:nvSpPr>
          <p:cNvPr id="471" name="Поле 655"/>
          <p:cNvSpPr/>
          <p:nvPr/>
        </p:nvSpPr>
        <p:spPr>
          <a:xfrm>
            <a:off x="5127480" y="2803680"/>
            <a:ext cx="4194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оле 14"/>
          <p:cNvSpPr/>
          <p:nvPr/>
        </p:nvSpPr>
        <p:spPr>
          <a:xfrm>
            <a:off x="2201760" y="2293920"/>
            <a:ext cx="476280" cy="3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+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999"/>
          <p:cNvSpPr/>
          <p:nvPr/>
        </p:nvSpPr>
        <p:spPr>
          <a:xfrm>
            <a:off x="1998720" y="2670120"/>
            <a:ext cx="240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0" y="1998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адка переходная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к как поля допусков отверстия и вала пересекаются пол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тяг и зазор в посадке, м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55,030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55,011 = 0,019 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ma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55,030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55,000 = 0,03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уск посадки, м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m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0.019 + 0.030 = 0.049 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0,030 + 0,019 = 0,049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хема расположения полей допус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0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4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5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7"/>
          <p:cNvSpPr/>
          <p:nvPr/>
        </p:nvSpPr>
        <p:spPr>
          <a:xfrm>
            <a:off x="2195640" y="3853800"/>
            <a:ext cx="51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переходной посадки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/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Поле 599" descr=""/>
          <p:cNvPicPr/>
          <p:nvPr/>
        </p:nvPicPr>
        <p:blipFill>
          <a:blip r:embed="rId1"/>
          <a:stretch/>
        </p:blipFill>
        <p:spPr>
          <a:xfrm>
            <a:off x="4108320" y="5699160"/>
            <a:ext cx="384480" cy="641160"/>
          </a:xfrm>
          <a:prstGeom prst="rect">
            <a:avLst/>
          </a:prstGeom>
          <a:ln w="0">
            <a:noFill/>
          </a:ln>
        </p:spPr>
      </p:pic>
      <p:pic>
        <p:nvPicPr>
          <p:cNvPr id="482" name="Поле 599" descr=""/>
          <p:cNvPicPr/>
          <p:nvPr/>
        </p:nvPicPr>
        <p:blipFill>
          <a:blip r:embed="rId2"/>
          <a:stretch/>
        </p:blipFill>
        <p:spPr>
          <a:xfrm>
            <a:off x="5919840" y="5407200"/>
            <a:ext cx="414360" cy="652320"/>
          </a:xfrm>
          <a:prstGeom prst="rect">
            <a:avLst/>
          </a:prstGeom>
          <a:ln w="0">
            <a:noFill/>
          </a:ln>
        </p:spPr>
      </p:pic>
      <p:pic>
        <p:nvPicPr>
          <p:cNvPr id="483" name="Поле 599" descr=""/>
          <p:cNvPicPr/>
          <p:nvPr/>
        </p:nvPicPr>
        <p:blipFill>
          <a:blip r:embed="rId3"/>
          <a:stretch/>
        </p:blipFill>
        <p:spPr>
          <a:xfrm>
            <a:off x="4956120" y="5510160"/>
            <a:ext cx="414360" cy="482760"/>
          </a:xfrm>
          <a:prstGeom prst="rect">
            <a:avLst/>
          </a:prstGeom>
          <a:ln w="0">
            <a:noFill/>
          </a:ln>
        </p:spPr>
      </p:pic>
      <p:pic>
        <p:nvPicPr>
          <p:cNvPr id="484" name="Поле 599" descr=""/>
          <p:cNvPicPr/>
          <p:nvPr/>
        </p:nvPicPr>
        <p:blipFill>
          <a:blip r:embed="rId4"/>
          <a:stretch/>
        </p:blipFill>
        <p:spPr>
          <a:xfrm>
            <a:off x="4370400" y="4664160"/>
            <a:ext cx="927000" cy="590400"/>
          </a:xfrm>
          <a:prstGeom prst="rect">
            <a:avLst/>
          </a:prstGeom>
          <a:ln w="0">
            <a:noFill/>
          </a:ln>
        </p:spPr>
      </p:pic>
      <p:pic>
        <p:nvPicPr>
          <p:cNvPr id="485" name="Поле 599" descr=""/>
          <p:cNvPicPr/>
          <p:nvPr/>
        </p:nvPicPr>
        <p:blipFill>
          <a:blip r:embed="rId5"/>
          <a:stretch/>
        </p:blipFill>
        <p:spPr>
          <a:xfrm>
            <a:off x="4370400" y="3932280"/>
            <a:ext cx="927000" cy="536400"/>
          </a:xfrm>
          <a:prstGeom prst="rect">
            <a:avLst/>
          </a:prstGeom>
          <a:ln w="0">
            <a:noFill/>
          </a:ln>
        </p:spPr>
      </p:pic>
      <p:pic>
        <p:nvPicPr>
          <p:cNvPr id="486" name="Поле 599" descr=""/>
          <p:cNvPicPr/>
          <p:nvPr/>
        </p:nvPicPr>
        <p:blipFill>
          <a:blip r:embed="rId6"/>
          <a:stretch/>
        </p:blipFill>
        <p:spPr>
          <a:xfrm>
            <a:off x="5400720" y="3932280"/>
            <a:ext cx="927000" cy="63972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794"/>
          <p:cNvSpPr/>
          <p:nvPr/>
        </p:nvSpPr>
        <p:spPr>
          <a:xfrm>
            <a:off x="2206800" y="3811680"/>
            <a:ext cx="2171520" cy="1600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795"/>
          <p:cNvSpPr/>
          <p:nvPr/>
        </p:nvSpPr>
        <p:spPr>
          <a:xfrm>
            <a:off x="1521000" y="4576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08"/>
          <p:cNvSpPr/>
          <p:nvPr/>
        </p:nvSpPr>
        <p:spPr>
          <a:xfrm>
            <a:off x="2205000" y="30114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809"/>
          <p:cNvSpPr/>
          <p:nvPr/>
        </p:nvSpPr>
        <p:spPr>
          <a:xfrm>
            <a:off x="4048200" y="38275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810"/>
          <p:cNvSpPr/>
          <p:nvPr/>
        </p:nvSpPr>
        <p:spPr>
          <a:xfrm>
            <a:off x="4048200" y="5411880"/>
            <a:ext cx="19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13"/>
          <p:cNvSpPr/>
          <p:nvPr/>
        </p:nvSpPr>
        <p:spPr>
          <a:xfrm>
            <a:off x="4719600" y="3830760"/>
            <a:ext cx="0" cy="745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14"/>
          <p:cNvSpPr/>
          <p:nvPr/>
        </p:nvSpPr>
        <p:spPr>
          <a:xfrm>
            <a:off x="4719600" y="4576680"/>
            <a:ext cx="0" cy="85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17"/>
          <p:cNvSpPr/>
          <p:nvPr/>
        </p:nvSpPr>
        <p:spPr>
          <a:xfrm flipV="1">
            <a:off x="5291280" y="4576320"/>
            <a:ext cx="0" cy="176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818"/>
          <p:cNvSpPr/>
          <p:nvPr/>
        </p:nvSpPr>
        <p:spPr>
          <a:xfrm>
            <a:off x="5748480" y="3825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819"/>
          <p:cNvSpPr/>
          <p:nvPr/>
        </p:nvSpPr>
        <p:spPr>
          <a:xfrm flipV="1">
            <a:off x="6334200" y="3827520"/>
            <a:ext cx="0" cy="261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20"/>
          <p:cNvSpPr/>
          <p:nvPr/>
        </p:nvSpPr>
        <p:spPr>
          <a:xfrm flipV="1">
            <a:off x="4576680" y="5411520"/>
            <a:ext cx="0" cy="10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оле 655"/>
          <p:cNvSpPr/>
          <p:nvPr/>
        </p:nvSpPr>
        <p:spPr>
          <a:xfrm>
            <a:off x="1523880" y="3632040"/>
            <a:ext cx="63828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оле 655"/>
          <p:cNvSpPr/>
          <p:nvPr/>
        </p:nvSpPr>
        <p:spPr>
          <a:xfrm>
            <a:off x="1523880" y="5264280"/>
            <a:ext cx="6382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оле 655"/>
          <p:cNvSpPr/>
          <p:nvPr/>
        </p:nvSpPr>
        <p:spPr>
          <a:xfrm>
            <a:off x="1177920" y="4475160"/>
            <a:ext cx="277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оле 655"/>
          <p:cNvSpPr/>
          <p:nvPr/>
        </p:nvSpPr>
        <p:spPr>
          <a:xfrm>
            <a:off x="1406520" y="4168800"/>
            <a:ext cx="277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оле 655"/>
          <p:cNvSpPr/>
          <p:nvPr/>
        </p:nvSpPr>
        <p:spPr>
          <a:xfrm>
            <a:off x="1406520" y="4668840"/>
            <a:ext cx="2397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3"/>
          <p:cNvSpPr/>
          <p:nvPr/>
        </p:nvSpPr>
        <p:spPr>
          <a:xfrm>
            <a:off x="611280" y="79560"/>
            <a:ext cx="741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63c"/>
                </a:solidFill>
                <a:latin typeface="Times New Roman"/>
                <a:ea typeface="Calibri"/>
              </a:rPr>
              <a:t>ГРАФИЧЕСКОЕ ПОСТРОЕНИЕ ПОЛЯ ДОПУ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54a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54a10"/>
                </a:solidFill>
                <a:latin typeface="Times New Roman"/>
                <a:ea typeface="Calibri"/>
              </a:rPr>
              <a:t>От нулевой линии откладываются верхнее предельное и нижнее предельное откло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54a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54a10"/>
                </a:solidFill>
                <a:latin typeface="Times New Roman"/>
                <a:ea typeface="Calibri"/>
              </a:rPr>
              <a:t>Относительно нулевой линии проводятся небольшие по длине (одинаковые по размеру) параллельные линии, соответствующие величинам откло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54a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54a10"/>
                </a:solidFill>
                <a:latin typeface="Times New Roman"/>
                <a:ea typeface="Calibri"/>
              </a:rPr>
              <a:t>Эти линии соединяются перпендикулярными ли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54a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54a10"/>
                </a:solidFill>
                <a:latin typeface="Times New Roman"/>
                <a:ea typeface="Calibri"/>
              </a:rPr>
              <a:t>Полученный прямоугольник – это  поле допуска раз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0"/>
          <p:cNvSpPr/>
          <p:nvPr/>
        </p:nvSpPr>
        <p:spPr>
          <a:xfrm>
            <a:off x="4013280" y="52524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2"/>
          <p:cNvSpPr/>
          <p:nvPr/>
        </p:nvSpPr>
        <p:spPr>
          <a:xfrm>
            <a:off x="4481640" y="8902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4"/>
          <p:cNvSpPr/>
          <p:nvPr/>
        </p:nvSpPr>
        <p:spPr>
          <a:xfrm>
            <a:off x="4481640" y="13474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7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1116000" y="836640"/>
          <a:ext cx="7764480" cy="4459320"/>
        </p:xfrm>
        <a:graphic>
          <a:graphicData uri="http://schemas.openxmlformats.org/drawingml/2006/table">
            <a:tbl>
              <a:tblPr/>
              <a:tblGrid>
                <a:gridCol w="1400040"/>
                <a:gridCol w="2071800"/>
                <a:gridCol w="4292640"/>
              </a:tblGrid>
              <a:tr h="318960">
                <a:tc gridSpan="2"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УСЛОВНЫЕ ОБО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ПАРА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ОСНО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ДОПОЛНИ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н, </a:t>
                      </a: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Dmax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Dmin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Размеры отверстия (номинальный, наибольший, наименьший, действительны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, dmax, dmin, d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Размеры вала (номинальный, наибольший, наименьший, действительны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, Lmax, Lmin,L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Длина элемента (номинальная, наибольшая, наименьшая, действитель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ES, EI, E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Отклонение размера отверстия (верхнее, нижнее, действительно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es, ei, e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Отклонение размера вала (верхнее, нижнее, действительно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Smax, Smin, S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, S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с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Зазор (наибольший, наименьший, действительный, сред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Nmax, Nmin, N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, N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с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Натяг (наибольший, наименьший, действительный, сред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TD, Td, TS, T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Допуск (отверстия, вала, посадки с зазором, посадки с натяго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IT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1, </a:t>
                      </a:r>
                      <a:r>
                        <a:rPr b="1" lang="en-US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IT</a:t>
                      </a: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2 и т. 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b54a10"/>
                          </a:solidFill>
                          <a:latin typeface="Times New Roman"/>
                          <a:ea typeface="Calibri"/>
                        </a:rPr>
                        <a:t>Допуск размера по соответствующему квалит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Прямоугольник 4"/>
          <p:cNvSpPr/>
          <p:nvPr/>
        </p:nvSpPr>
        <p:spPr>
          <a:xfrm>
            <a:off x="2863800" y="260280"/>
            <a:ext cx="34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НЯТЫЕ ОБО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"/>
          <p:cNvSpPr/>
          <p:nvPr/>
        </p:nvSpPr>
        <p:spPr>
          <a:xfrm>
            <a:off x="468360" y="92016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мер 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ссчитайте предельные размеры отверстия и вала, допуски отверстия и вала, зазоры или натяги, определите характер соединения, допуск посадки, если на чертеже указан размер               ; изобразите схему пос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Рисунок 2" descr="http://tehinfor.ru/s_3/img/f110_2.gif"/>
          <p:cNvPicPr/>
          <p:nvPr/>
        </p:nvPicPr>
        <p:blipFill>
          <a:blip r:embed="rId1"/>
          <a:stretch/>
        </p:blipFill>
        <p:spPr>
          <a:xfrm>
            <a:off x="3203640" y="2708280"/>
            <a:ext cx="792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"/>
          <p:cNvSpPr/>
          <p:nvPr/>
        </p:nvSpPr>
        <p:spPr>
          <a:xfrm>
            <a:off x="395280" y="102240"/>
            <a:ext cx="73454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Параграф 3.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2. Конспект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3. Литература – учебная, информационная, справочная, техниче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образить графическое изображение переходной пос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611280" y="278640"/>
            <a:ext cx="7705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спользованные ресурс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гей Алексеевич Зайцев, Алексей Куранов, Андрей Толстов «Допуски и технические измерения», серия: "Профессиональное образование (Академия)". Учебник для учащихся НПО. Издательство "Академия", 201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гдасарова Татьяна Ануфриевна. Допуски и технические измерения. Рабочая тетрадь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Издательство "Академия", 201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шнепольский И.С. Техническое черчение. Учебник для учащихся НПО. Издательство Москва,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http://www.russnab.ru/books/Dopuski_i_posadki.pdf</a:t>
            </a:r>
            <a:r>
              <a:rPr b="0" lang="ru-RU" sz="2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 -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сайт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уски и посад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826920" y="1916280"/>
          <a:ext cx="7417080" cy="2657160"/>
        </p:xfrm>
        <a:graphic>
          <a:graphicData uri="http://schemas.openxmlformats.org/drawingml/2006/table">
            <a:tbl>
              <a:tblPr/>
              <a:tblGrid>
                <a:gridCol w="2232360"/>
                <a:gridCol w="744480"/>
                <a:gridCol w="1116000"/>
                <a:gridCol w="888840"/>
                <a:gridCol w="784440"/>
                <a:gridCol w="744480"/>
                <a:gridCol w="906480"/>
              </a:tblGrid>
              <a:tr h="5047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, проставленные на чертеже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±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тельные размеры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о год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бр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3203640" y="2492280"/>
            <a:ext cx="571320" cy="649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"/>
          <p:cNvPicPr/>
          <p:nvPr/>
        </p:nvPicPr>
        <p:blipFill>
          <a:blip r:embed="rId2"/>
          <a:stretch/>
        </p:blipFill>
        <p:spPr>
          <a:xfrm>
            <a:off x="3995640" y="2492280"/>
            <a:ext cx="792360" cy="576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3"/>
          <a:stretch/>
        </p:blipFill>
        <p:spPr>
          <a:xfrm>
            <a:off x="5867280" y="2565360"/>
            <a:ext cx="571680" cy="647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4"/>
          <a:stretch/>
        </p:blipFill>
        <p:spPr>
          <a:xfrm>
            <a:off x="6732720" y="2492280"/>
            <a:ext cx="576000" cy="649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" descr=""/>
          <p:cNvPicPr/>
          <p:nvPr/>
        </p:nvPicPr>
        <p:blipFill>
          <a:blip r:embed="rId5"/>
          <a:stretch/>
        </p:blipFill>
        <p:spPr>
          <a:xfrm>
            <a:off x="7380360" y="2565360"/>
            <a:ext cx="720720" cy="5763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900000" y="374040"/>
            <a:ext cx="669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r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 годность размеров валов по результатам измерений; установите вид брака в случае его налич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1" descr=""/>
          <p:cNvPicPr/>
          <p:nvPr/>
        </p:nvPicPr>
        <p:blipFill>
          <a:blip r:embed="rId1"/>
          <a:srcRect l="6892" t="12708" r="29551" b="5352"/>
          <a:stretch/>
        </p:blipFill>
        <p:spPr>
          <a:xfrm>
            <a:off x="1042920" y="333360"/>
            <a:ext cx="7129440" cy="26640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2" descr=""/>
          <p:cNvPicPr/>
          <p:nvPr/>
        </p:nvPicPr>
        <p:blipFill>
          <a:blip r:embed="rId2"/>
          <a:stretch/>
        </p:blipFill>
        <p:spPr>
          <a:xfrm>
            <a:off x="2343240" y="3141720"/>
            <a:ext cx="44575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468360" y="212760"/>
            <a:ext cx="719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САДКА С ЗАЗ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cc66"/>
                </a:solidFill>
                <a:uFillTx/>
                <a:latin typeface="Times New Roman"/>
                <a:ea typeface="Calibri"/>
              </a:rPr>
              <a:t>Посадка с зазором</a:t>
            </a:r>
            <a:r>
              <a:rPr b="0" lang="ru-RU" sz="1800" spc="-1" strike="noStrike">
                <a:solidFill>
                  <a:srgbClr val="00cc66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cc66"/>
                </a:solidFill>
                <a:latin typeface="Lucida Sans Unicode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cc66"/>
                </a:solidFill>
                <a:latin typeface="Times New Roman"/>
                <a:ea typeface="Calibri"/>
              </a:rPr>
              <a:t> посадка, при которой всегда образуется зазор в соединении, т. е. наименьший предельный размер отверстия больше наибольшего предельного размера вала или равен 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В соединениях с зазором определяют следующие основ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Lucida Sans Unicode"/>
              </a:rPr>
              <a:t>—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наибольший зазор (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max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cc66"/>
                </a:solidFill>
                <a:latin typeface="Lucida Sans Unicode"/>
              </a:rPr>
              <a:t>–</a:t>
            </a: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 разность между наибольшим предельным размером отверстия и наименьшим предельным размером вала в посадке с зазором или в переходной посад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max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 = D</a:t>
            </a: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max </a:t>
            </a:r>
            <a:r>
              <a:rPr b="1" lang="en-US" sz="1800" spc="-1" strike="noStrike">
                <a:solidFill>
                  <a:srgbClr val="00cc66"/>
                </a:solidFill>
                <a:latin typeface="Lucida Sans Unicode"/>
              </a:rPr>
              <a:t>–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 d</a:t>
            </a: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min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 = ES </a:t>
            </a:r>
            <a:r>
              <a:rPr b="1" lang="en-US" sz="1800" spc="-1" strike="noStrike">
                <a:solidFill>
                  <a:srgbClr val="00cc66"/>
                </a:solidFill>
                <a:latin typeface="Lucida Sans Unicode"/>
              </a:rPr>
              <a:t>–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 ei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Lucida Sans Unicode"/>
              </a:rPr>
              <a:t>—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наименьший зазор (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min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cc66"/>
                </a:solidFill>
                <a:latin typeface="Lucida Sans Unicode"/>
              </a:rPr>
              <a:t>–</a:t>
            </a: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 разность между наименьшим предельным размером отверстия и наибольшим предельным размером вала в посадке с зазор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min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 = D</a:t>
            </a: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min </a:t>
            </a:r>
            <a:r>
              <a:rPr b="1" lang="en-US" sz="1800" spc="-1" strike="noStrike">
                <a:solidFill>
                  <a:srgbClr val="00cc66"/>
                </a:solidFill>
                <a:latin typeface="Lucida Sans Unicode"/>
              </a:rPr>
              <a:t>–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 d</a:t>
            </a: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max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 = EI </a:t>
            </a:r>
            <a:r>
              <a:rPr b="1" lang="en-US" sz="1800" spc="-1" strike="noStrike">
                <a:solidFill>
                  <a:srgbClr val="00cc66"/>
                </a:solidFill>
                <a:latin typeface="Lucida Sans Unicode"/>
              </a:rPr>
              <a:t>–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 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Lucida Sans Unicode"/>
              </a:rPr>
              <a:t>—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средний зазор (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S</a:t>
            </a:r>
            <a:r>
              <a:rPr b="1" lang="ru-RU" sz="1600" spc="-1" strike="noStrike">
                <a:solidFill>
                  <a:srgbClr val="00cc66"/>
                </a:solidFill>
                <a:latin typeface="Times New Roman"/>
              </a:rPr>
              <a:t>ср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):     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S</a:t>
            </a:r>
            <a:r>
              <a:rPr b="1" lang="ru-RU" sz="1600" spc="-1" strike="noStrike">
                <a:solidFill>
                  <a:srgbClr val="00cc66"/>
                </a:solidFill>
                <a:latin typeface="Times New Roman"/>
              </a:rPr>
              <a:t>ср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 = (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max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 + 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min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) ⁄ 2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6" descr="Зазор"/>
          <p:cNvPicPr/>
          <p:nvPr/>
        </p:nvPicPr>
        <p:blipFill>
          <a:blip r:embed="rId1"/>
          <a:stretch/>
        </p:blipFill>
        <p:spPr>
          <a:xfrm>
            <a:off x="4643280" y="4292640"/>
            <a:ext cx="3459240" cy="1981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179280" y="135000"/>
            <a:ext cx="7921800" cy="67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читайте предельные размеры отверстия и вала, допуски отверстия и вала, зазоры или натяги, определите характер соединения, допуск посадки, если на чертеже указан размер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Ø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5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7/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7; изобразите схему посадк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верстие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оминальный размер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Ø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55 мм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ерхнее предельное отклонение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= +0,030мм (табличное значение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ижнее предельное отклонение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I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= 0 (табличное значени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дельные размеры отверстия,  м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max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 +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55 + 0,030 = 55,030 мм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 +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55 + 0 = 55,000 м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Допуск отверстия, м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max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55,03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55.000 = 0,030 м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Вал: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оминальный размер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Ø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55 мм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ерхнее предельное отклонение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- 0.030 мм (табличное значение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ижнее предельное отклонение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- 0.060 мм (табличное значени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дельные размеры вала,  м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max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 +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55 +(- 0,030) = 54,970 мм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min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 +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55 + (- 0,060) = 54,940 м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Допуск вала, м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max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54.97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54.940 = 0,030 м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осадка с зазором, так как размеры вала меньше размеров отверст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Зазоры в посадке этих деталей, м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max = Dmax 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dmin = 55,030 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54.940 = 0,090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min = Dmin 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dmax = 55.000 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54.970 = 0,030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Допуск посадки с зазором,  м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max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min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0,090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0,030 = 0,06 мм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D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d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= 0.030 + 0.030 = 0.06 м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хема расположения полей допусков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Поле 599" descr=""/>
          <p:cNvPicPr/>
          <p:nvPr/>
        </p:nvPicPr>
        <p:blipFill>
          <a:blip r:embed="rId1"/>
          <a:stretch/>
        </p:blipFill>
        <p:spPr>
          <a:xfrm>
            <a:off x="1743120" y="1384200"/>
            <a:ext cx="695160" cy="52380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903"/>
          <p:cNvSpPr/>
          <p:nvPr/>
        </p:nvSpPr>
        <p:spPr>
          <a:xfrm>
            <a:off x="2778120" y="1187280"/>
            <a:ext cx="125748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904"/>
          <p:cNvSpPr/>
          <p:nvPr/>
        </p:nvSpPr>
        <p:spPr>
          <a:xfrm>
            <a:off x="1349280" y="2101680"/>
            <a:ext cx="468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905"/>
          <p:cNvSpPr/>
          <p:nvPr/>
        </p:nvSpPr>
        <p:spPr>
          <a:xfrm>
            <a:off x="1409760" y="17575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908"/>
          <p:cNvSpPr/>
          <p:nvPr/>
        </p:nvSpPr>
        <p:spPr>
          <a:xfrm>
            <a:off x="2079720" y="1187280"/>
            <a:ext cx="491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09"/>
          <p:cNvSpPr/>
          <p:nvPr/>
        </p:nvSpPr>
        <p:spPr>
          <a:xfrm>
            <a:off x="2205000" y="1187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оле 655"/>
          <p:cNvSpPr/>
          <p:nvPr/>
        </p:nvSpPr>
        <p:spPr>
          <a:xfrm>
            <a:off x="2209680" y="893880"/>
            <a:ext cx="45252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оле 655"/>
          <p:cNvSpPr/>
          <p:nvPr/>
        </p:nvSpPr>
        <p:spPr>
          <a:xfrm>
            <a:off x="4114800" y="846000"/>
            <a:ext cx="390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оле 655"/>
          <p:cNvSpPr/>
          <p:nvPr/>
        </p:nvSpPr>
        <p:spPr>
          <a:xfrm>
            <a:off x="3235320" y="1469880"/>
            <a:ext cx="4572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H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оле 655"/>
          <p:cNvSpPr/>
          <p:nvPr/>
        </p:nvSpPr>
        <p:spPr>
          <a:xfrm>
            <a:off x="4114800" y="1712880"/>
            <a:ext cx="64944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I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оле 655"/>
          <p:cNvSpPr/>
          <p:nvPr/>
        </p:nvSpPr>
        <p:spPr>
          <a:xfrm>
            <a:off x="949320" y="1897200"/>
            <a:ext cx="2728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е 655"/>
          <p:cNvSpPr/>
          <p:nvPr/>
        </p:nvSpPr>
        <p:spPr>
          <a:xfrm>
            <a:off x="949320" y="1469880"/>
            <a:ext cx="2714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оле 655"/>
          <p:cNvSpPr/>
          <p:nvPr/>
        </p:nvSpPr>
        <p:spPr>
          <a:xfrm>
            <a:off x="949320" y="2324160"/>
            <a:ext cx="2365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ле 655"/>
          <p:cNvSpPr/>
          <p:nvPr/>
        </p:nvSpPr>
        <p:spPr>
          <a:xfrm>
            <a:off x="6093000" y="1897200"/>
            <a:ext cx="2728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939"/>
          <p:cNvSpPr/>
          <p:nvPr/>
        </p:nvSpPr>
        <p:spPr>
          <a:xfrm flipV="1">
            <a:off x="1747800" y="2101320"/>
            <a:ext cx="0" cy="185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40"/>
          <p:cNvSpPr/>
          <p:nvPr/>
        </p:nvSpPr>
        <p:spPr>
          <a:xfrm>
            <a:off x="4038480" y="3060720"/>
            <a:ext cx="1371600" cy="1155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941"/>
          <p:cNvSpPr/>
          <p:nvPr/>
        </p:nvSpPr>
        <p:spPr>
          <a:xfrm flipH="1">
            <a:off x="3006360" y="3062160"/>
            <a:ext cx="308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942"/>
          <p:cNvSpPr/>
          <p:nvPr/>
        </p:nvSpPr>
        <p:spPr>
          <a:xfrm>
            <a:off x="2308320" y="4216320"/>
            <a:ext cx="468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43"/>
          <p:cNvSpPr/>
          <p:nvPr/>
        </p:nvSpPr>
        <p:spPr>
          <a:xfrm>
            <a:off x="2433600" y="2101680"/>
            <a:ext cx="0" cy="211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946"/>
          <p:cNvSpPr/>
          <p:nvPr/>
        </p:nvSpPr>
        <p:spPr>
          <a:xfrm flipV="1">
            <a:off x="3247920" y="2101680"/>
            <a:ext cx="0" cy="959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47"/>
          <p:cNvSpPr/>
          <p:nvPr/>
        </p:nvSpPr>
        <p:spPr>
          <a:xfrm flipV="1">
            <a:off x="5972040" y="2101680"/>
            <a:ext cx="0" cy="959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948"/>
          <p:cNvSpPr/>
          <p:nvPr/>
        </p:nvSpPr>
        <p:spPr>
          <a:xfrm flipV="1">
            <a:off x="6781680" y="1182240"/>
            <a:ext cx="0" cy="30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оле 655"/>
          <p:cNvSpPr/>
          <p:nvPr/>
        </p:nvSpPr>
        <p:spPr>
          <a:xfrm>
            <a:off x="4505400" y="3411360"/>
            <a:ext cx="492120" cy="3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f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оле 655"/>
          <p:cNvSpPr/>
          <p:nvPr/>
        </p:nvSpPr>
        <p:spPr>
          <a:xfrm>
            <a:off x="3848040" y="2719440"/>
            <a:ext cx="5810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Поле 599" descr=""/>
          <p:cNvPicPr/>
          <p:nvPr/>
        </p:nvPicPr>
        <p:blipFill>
          <a:blip r:embed="rId4"/>
          <a:stretch/>
        </p:blipFill>
        <p:spPr>
          <a:xfrm>
            <a:off x="2882880" y="2316240"/>
            <a:ext cx="701640" cy="530280"/>
          </a:xfrm>
          <a:prstGeom prst="rect">
            <a:avLst/>
          </a:prstGeom>
          <a:ln w="0">
            <a:noFill/>
          </a:ln>
        </p:spPr>
      </p:pic>
      <p:pic>
        <p:nvPicPr>
          <p:cNvPr id="415" name="Поле 599" descr=""/>
          <p:cNvPicPr/>
          <p:nvPr/>
        </p:nvPicPr>
        <p:blipFill>
          <a:blip r:embed="rId5"/>
          <a:stretch/>
        </p:blipFill>
        <p:spPr>
          <a:xfrm>
            <a:off x="2084400" y="3139920"/>
            <a:ext cx="701640" cy="530280"/>
          </a:xfrm>
          <a:prstGeom prst="rect">
            <a:avLst/>
          </a:prstGeom>
          <a:ln w="0">
            <a:noFill/>
          </a:ln>
        </p:spPr>
      </p:pic>
      <p:sp>
        <p:nvSpPr>
          <p:cNvPr id="416" name="Поле 655"/>
          <p:cNvSpPr/>
          <p:nvPr/>
        </p:nvSpPr>
        <p:spPr>
          <a:xfrm>
            <a:off x="5292720" y="2719440"/>
            <a:ext cx="343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оле 655"/>
          <p:cNvSpPr/>
          <p:nvPr/>
        </p:nvSpPr>
        <p:spPr>
          <a:xfrm>
            <a:off x="3800520" y="4273560"/>
            <a:ext cx="58104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оле 655"/>
          <p:cNvSpPr/>
          <p:nvPr/>
        </p:nvSpPr>
        <p:spPr>
          <a:xfrm>
            <a:off x="5210280" y="4273560"/>
            <a:ext cx="515880" cy="2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Поле 599" descr=""/>
          <p:cNvPicPr/>
          <p:nvPr/>
        </p:nvPicPr>
        <p:blipFill>
          <a:blip r:embed="rId6"/>
          <a:stretch/>
        </p:blipFill>
        <p:spPr>
          <a:xfrm>
            <a:off x="5626080" y="2200320"/>
            <a:ext cx="1042920" cy="646200"/>
          </a:xfrm>
          <a:prstGeom prst="rect">
            <a:avLst/>
          </a:prstGeom>
          <a:ln w="0">
            <a:noFill/>
          </a:ln>
        </p:spPr>
      </p:pic>
      <p:pic>
        <p:nvPicPr>
          <p:cNvPr id="420" name="Поле 599" descr=""/>
          <p:cNvPicPr/>
          <p:nvPr/>
        </p:nvPicPr>
        <p:blipFill>
          <a:blip r:embed="rId7"/>
          <a:stretch/>
        </p:blipFill>
        <p:spPr>
          <a:xfrm>
            <a:off x="6431040" y="2316240"/>
            <a:ext cx="1036440" cy="639720"/>
          </a:xfrm>
          <a:prstGeom prst="rect">
            <a:avLst/>
          </a:prstGeom>
          <a:ln w="0">
            <a:noFill/>
          </a:ln>
        </p:spPr>
      </p:pic>
      <p:pic>
        <p:nvPicPr>
          <p:cNvPr id="421" name="Поле 599" descr=""/>
          <p:cNvPicPr/>
          <p:nvPr/>
        </p:nvPicPr>
        <p:blipFill>
          <a:blip r:embed="rId8"/>
          <a:stretch/>
        </p:blipFill>
        <p:spPr>
          <a:xfrm>
            <a:off x="1401840" y="3054240"/>
            <a:ext cx="695160" cy="470160"/>
          </a:xfrm>
          <a:prstGeom prst="rect">
            <a:avLst/>
          </a:prstGeom>
          <a:ln w="0">
            <a:noFill/>
          </a:ln>
        </p:spPr>
      </p:pic>
      <p:pic>
        <p:nvPicPr>
          <p:cNvPr id="422" name="Поле 599" descr=""/>
          <p:cNvPicPr/>
          <p:nvPr/>
        </p:nvPicPr>
        <p:blipFill>
          <a:blip r:embed="rId9"/>
          <a:stretch/>
        </p:blipFill>
        <p:spPr>
          <a:xfrm>
            <a:off x="1401840" y="2627280"/>
            <a:ext cx="585720" cy="84780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1"/>
          <p:cNvSpPr/>
          <p:nvPr/>
        </p:nvSpPr>
        <p:spPr>
          <a:xfrm>
            <a:off x="4481640" y="20484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4"/>
          <p:cNvSpPr/>
          <p:nvPr/>
        </p:nvSpPr>
        <p:spPr>
          <a:xfrm>
            <a:off x="1403280" y="4608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посадки с зазором Ø5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/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Рисунок 1" descr=""/>
          <p:cNvPicPr/>
          <p:nvPr/>
        </p:nvPicPr>
        <p:blipFill>
          <a:blip r:embed="rId1"/>
          <a:srcRect l="7089" t="9364" r="29634" b="9032"/>
          <a:stretch/>
        </p:blipFill>
        <p:spPr>
          <a:xfrm>
            <a:off x="755640" y="33336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rcRect l="28299" t="40738" r="26562" b="14488"/>
          <a:stretch/>
        </p:blipFill>
        <p:spPr>
          <a:xfrm>
            <a:off x="344520" y="785880"/>
            <a:ext cx="84898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500040" y="285480"/>
            <a:ext cx="805968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читайте предельные размеры отверстия и вала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уски отверстия и вала, зазоры или натяги, определите характер соединения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уск посадки, если на чертеже указан разме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Ø5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/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верстие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ый размер Ø55 мм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рхнее предельное отклонен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= +0,030мм (табличное значение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жнее предельное отклонен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= 0 (табличное значение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ые размеры отверстия,  мм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m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55 + 0,030 = 55,030 мм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m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55 + 0 = 55, 000 м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уск отверстия, мм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m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m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55,030 – 55,000 = 0,030 м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7:22:58Z</dcterms:created>
  <dc:creator>7777</dc:creator>
  <dc:description/>
  <dc:language>en-US</dc:language>
  <cp:lastModifiedBy>Пользователь</cp:lastModifiedBy>
  <dcterms:modified xsi:type="dcterms:W3CDTF">2015-01-11T10:13:01Z</dcterms:modified>
  <cp:revision>28</cp:revision>
  <dc:subject/>
  <dc:title>Автор</dc:title>
</cp:coreProperties>
</file>