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4.jpeg" ContentType="image/jpeg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5.png" ContentType="image/png"/>
  <Override PartName="/ppt/media/image43.jpeg" ContentType="image/jpeg"/>
  <Override PartName="/ppt/media/image13.jpeg" ContentType="image/jpeg"/>
  <Override PartName="/ppt/media/image23.png" ContentType="image/png"/>
  <Override PartName="/ppt/media/image11.jpeg" ContentType="image/jpeg"/>
  <Override PartName="/ppt/media/image30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9.png" ContentType="image/png"/>
  <Override PartName="/ppt/media/image38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3.jpeg" ContentType="image/jpeg"/>
  <Override PartName="/ppt/media/image32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12.jpeg" ContentType="image/jpeg"/>
  <Override PartName="/ppt/media/image6.png" ContentType="image/png"/>
  <Override PartName="/ppt/media/image29.png" ContentType="image/png"/>
  <Override PartName="/ppt/media/image3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B20D-5C81-42E1-BE26-19087C9BD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B643-50EF-4573-9769-DE7ADA3D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38F9-1924-471E-BFD3-9B1451A60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F00C-7B9B-43DE-9F72-DA4B3409B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B638-0934-46D1-B083-379F6242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EDEE-A9E0-4FDB-B7DB-6DF38155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B0E2-882E-40BF-8616-75D2F142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D3D8-F064-4F0D-A4F8-A35D390D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9191-FC16-4A12-8C49-C6BFFF50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B36A-A9A6-4882-A737-81F4A6F8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A9ED-174C-4624-890D-D66B1D99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B7D6-E7AC-4950-A430-FB88EADD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71FA-2CB9-42CD-AEC4-E1441A49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3A82-5CA3-4A59-9D31-F46EEDFD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10CA-13F7-4E6F-AA2F-1E6B0F38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FBF2-D258-4ADB-917D-9CC44E050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19C8-94DE-413F-A7E5-D75BF7DA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AA35A-168F-4BD9-AE4A-FD5FFA9CA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C51B6-C0CC-48C5-A092-E6F3C4EE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C5265-330D-4D8E-875E-DE3F9FB9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6652E-4A76-4910-9FD5-B384CC94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9C884-6CCC-4516-AD12-AB6B1E1F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6422-D312-42A3-B4A7-D74BF6B0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868BD-D2A5-42FB-AE22-F41DD27F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3FB13-C8F6-4424-961A-F8CE7868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A0A0F-25DC-4189-BF75-1405716C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F16C9-79B6-4F00-90FA-47076936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18103-E3FB-4423-A510-A0650867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1DF39-D6F7-4397-8590-ACE9FEC3A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47B85-B72D-445F-9FE0-C69CD99D8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4A7C0-717D-4539-AD03-3A67ADBA7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14253-7DFF-49F0-AA53-B9A8DE5C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74800-EB9D-4AE1-B8D0-FBA31433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67A3-48F7-4C3A-97BB-6154568D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34B55-771D-400F-ACF7-C80D2DCB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100F3-C3AC-4270-B81F-74DDBD42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D1064-EDE6-4DB9-A4FE-95B48863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70AEB-3DF3-4E65-9919-8998222D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48629-B82C-4A78-B55C-1CAB2A2D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EB72F-97E6-41B0-BB3C-2C991050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5E341-BD94-4EE7-9053-BC662D37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63D3F-5131-4917-BD2A-ADE2CFD0D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8CB81-6C18-487F-9DAA-D14EA812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55C9-2A91-416E-8F4B-009DD845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F52E-8163-48A1-BF68-59D7FC98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089E-E6B0-469A-9EAF-69FC0A50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9241-82D4-4B69-BBA9-BDE419D0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5AEE-DC81-4278-A5FB-2FCCF601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d5a26">
                  <a:alpha val="45098"/>
                </a:srgbClr>
              </a:gs>
              <a:gs pos="100000">
                <a:srgbClr val="9da56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b8158">
                  <a:alpha val="45098"/>
                </a:srgbClr>
              </a:gs>
              <a:gs pos="100000">
                <a:srgbClr val="dd6a2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5ab81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d80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5ab8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8b25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5a5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15a5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5a5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EF38-FD58-4D2B-9523-FB89DFAC935A}" type="slidenum">
              <a:rPr b="0" lang="ru-RU" sz="1200" spc="-1" strike="noStrike">
                <a:solidFill>
                  <a:srgbClr val="715a5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440" cy="648000"/>
            <a:chOff x="-19080" y="203040"/>
            <a:chExt cx="918144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360" cy="648000"/>
              <a:chOff x="-19080" y="203040"/>
              <a:chExt cx="916236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03040"/>
                <a:ext cx="9138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7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8720" y="247320"/>
              <a:ext cx="9181080" cy="562680"/>
              <a:chOff x="-18720" y="247320"/>
              <a:chExt cx="9181080" cy="56268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47320"/>
                <a:ext cx="9165240" cy="56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36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d5a26">
                  <a:alpha val="45098"/>
                </a:srgbClr>
              </a:gs>
              <a:gs pos="100000">
                <a:srgbClr val="9da56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b8158">
                  <a:alpha val="45098"/>
                </a:srgbClr>
              </a:gs>
              <a:gs pos="100000">
                <a:srgbClr val="dd6a2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5ab81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d80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5ab8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8b25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d3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3858-3465-4D5F-9B51-63F364BD4B20}" type="slidenum">
              <a:rPr b="0" lang="ru-RU" sz="12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d5a26">
                  <a:alpha val="45098"/>
                </a:srgbClr>
              </a:gs>
              <a:gs pos="100000">
                <a:srgbClr val="9da56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b8158">
                  <a:alpha val="45098"/>
                </a:srgbClr>
              </a:gs>
              <a:gs pos="100000">
                <a:srgbClr val="dd6a2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5ab81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d80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5ab8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8b25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d3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8D4F-D361-4D42-9BAB-C93B3190B204}" type="slidenum">
              <a:rPr b="0" lang="ru-RU" sz="12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d5a26">
                  <a:alpha val="45098"/>
                </a:srgbClr>
              </a:gs>
              <a:gs pos="100000">
                <a:srgbClr val="9da56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b8158">
                  <a:alpha val="45098"/>
                </a:srgbClr>
              </a:gs>
              <a:gs pos="100000">
                <a:srgbClr val="dd6a2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5ab81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d80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5ab8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8b25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5a5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15a5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5a5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4EAB-B1E9-4983-92AD-8852732313B5}" type="slidenum">
              <a:rPr b="0" lang="ru-RU" sz="1200" spc="-1" strike="noStrike">
                <a:solidFill>
                  <a:srgbClr val="715a5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Прямоугольник 9" descr=""/>
          <p:cNvPicPr/>
          <p:nvPr/>
        </p:nvPicPr>
        <p:blipFill>
          <a:blip r:embed="rId1"/>
          <a:stretch/>
        </p:blipFill>
        <p:spPr>
          <a:xfrm>
            <a:off x="281160" y="615960"/>
            <a:ext cx="8508960" cy="3986280"/>
          </a:xfrm>
          <a:prstGeom prst="rect">
            <a:avLst/>
          </a:prstGeom>
          <a:ln w="0">
            <a:noFill/>
          </a:ln>
        </p:spPr>
      </p:pic>
      <p:pic>
        <p:nvPicPr>
          <p:cNvPr id="196" name="Прямоугольник 13" descr=""/>
          <p:cNvPicPr/>
          <p:nvPr/>
        </p:nvPicPr>
        <p:blipFill>
          <a:blip r:embed="rId2"/>
          <a:stretch/>
        </p:blipFill>
        <p:spPr>
          <a:xfrm>
            <a:off x="152280" y="4292640"/>
            <a:ext cx="869328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285480" y="999720"/>
            <a:ext cx="84294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аблюдайте за самочувствием ребенка, никто, кроме Вас, не сможет во время заметить и предотвратить ухудшение состояния ребенка, связанное с переутомлением. Контролируйте  режим подготовки ребенка, не допускайте перегрузок, объясните ему, что он обязательно должен чередовать занятия с отдыхом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1" name="Picture 2" descr="C:\Documents and Settings\Admin\Рабочий стол\экзамены\картинки\2010-05-06_16-47-19_288694689.jpg"/>
          <p:cNvPicPr/>
          <p:nvPr/>
        </p:nvPicPr>
        <p:blipFill>
          <a:blip r:embed="rId1"/>
          <a:stretch/>
        </p:blipFill>
        <p:spPr>
          <a:xfrm>
            <a:off x="4357800" y="3143160"/>
            <a:ext cx="4476600" cy="3357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C:\Documents and Settings\Admin\Рабочий стол\экзамены\картинки\p30_gia2.jpg"/>
          <p:cNvPicPr/>
          <p:nvPr/>
        </p:nvPicPr>
        <p:blipFill>
          <a:blip r:embed="rId2"/>
          <a:stretch/>
        </p:blipFill>
        <p:spPr>
          <a:xfrm>
            <a:off x="357120" y="4286160"/>
            <a:ext cx="354348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566640" y="920880"/>
            <a:ext cx="7864560" cy="118908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5" name="Picture 2" descr="\\gerakl\adult_home$\ers\Мои документы\Мои рисунки\экзамены\hansgrohe-downpour-air-royale-14in-shower.jpg"/>
          <p:cNvPicPr/>
          <p:nvPr/>
        </p:nvPicPr>
        <p:blipFill>
          <a:blip r:embed="rId2"/>
          <a:stretch/>
        </p:blipFill>
        <p:spPr>
          <a:xfrm>
            <a:off x="214200" y="2286000"/>
            <a:ext cx="1270080" cy="16430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1643040" y="2071440"/>
            <a:ext cx="3643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349"/>
              </a:spcBef>
              <a:buClr>
                <a:srgbClr val="a5ab81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buClr>
                <a:srgbClr val="a5ab81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buClr>
                <a:srgbClr val="a5ab81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растный душ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7" name="Picture 2" descr="\\gerakl\adult_home$\ers\Мои документы\Мои рисунки\экзамены\f9.jpg"/>
          <p:cNvPicPr/>
          <p:nvPr/>
        </p:nvPicPr>
        <p:blipFill>
          <a:blip r:embed="rId3"/>
          <a:stretch/>
        </p:blipFill>
        <p:spPr>
          <a:xfrm>
            <a:off x="571680" y="4000680"/>
            <a:ext cx="2357280" cy="266688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8"/>
          <p:cNvSpPr/>
          <p:nvPr/>
        </p:nvSpPr>
        <p:spPr>
          <a:xfrm>
            <a:off x="3143160" y="500076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тье посу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\\gerakl\adult_home$\ers\Мои документы\Мои рисунки\экзамены\595154.jpg"/>
          <p:cNvPicPr/>
          <p:nvPr/>
        </p:nvPicPr>
        <p:blipFill>
          <a:blip r:embed="rId4"/>
          <a:stretch/>
        </p:blipFill>
        <p:spPr>
          <a:xfrm>
            <a:off x="5214960" y="2643120"/>
            <a:ext cx="1596960" cy="221472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13"/>
          <p:cNvSpPr/>
          <p:nvPr/>
        </p:nvSpPr>
        <p:spPr>
          <a:xfrm>
            <a:off x="6858000" y="32148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треть на горящую     свеч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C:\Documents and Settings\Admin\Рабочий стол\экзамены\картинки\i.jpeg1.jpeg"/>
          <p:cNvPicPr/>
          <p:nvPr/>
        </p:nvPicPr>
        <p:blipFill>
          <a:blip r:embed="rId5"/>
          <a:stretch/>
        </p:blipFill>
        <p:spPr>
          <a:xfrm>
            <a:off x="3214800" y="3571920"/>
            <a:ext cx="1857240" cy="1238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C:\Documents and Settings\Admin\Рабочий стол\экзамены\картинки\06-07-27-023.jpg"/>
          <p:cNvPicPr/>
          <p:nvPr/>
        </p:nvPicPr>
        <p:blipFill>
          <a:blip r:embed="rId6"/>
          <a:stretch/>
        </p:blipFill>
        <p:spPr>
          <a:xfrm>
            <a:off x="7429680" y="4214880"/>
            <a:ext cx="1520640" cy="13348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\\gerakl\adult_home$\ers\Мои документы\Мои рисунки\спорт.jpg"/>
          <p:cNvPicPr/>
          <p:nvPr/>
        </p:nvPicPr>
        <p:blipFill>
          <a:blip r:embed="rId7"/>
          <a:stretch/>
        </p:blipFill>
        <p:spPr>
          <a:xfrm>
            <a:off x="5857920" y="5214960"/>
            <a:ext cx="163656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56760" y="121392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кричать то громко, то тихо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дохнуть глубже до 10 раз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комкать газету и выбросить е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5" name="Picture 2" descr="C:\Documents and Settings\Admin\Рабочий стол\экзамены\картинки\1964.jpg"/>
          <p:cNvPicPr/>
          <p:nvPr/>
        </p:nvPicPr>
        <p:blipFill>
          <a:blip r:embed="rId1"/>
          <a:stretch/>
        </p:blipFill>
        <p:spPr>
          <a:xfrm>
            <a:off x="2000160" y="2857680"/>
            <a:ext cx="428652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920880" y="781200"/>
            <a:ext cx="7862760" cy="1035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571320" y="178596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еспечьте ребенку полноценный отдых, он должен отдохнуть и как следует выспатьс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8" name="Picture 2" descr="\\gerakl\adult_home$\ers\Мои документы\Мои рисунки\экзамены\9396907.jpg"/>
          <p:cNvPicPr/>
          <p:nvPr/>
        </p:nvPicPr>
        <p:blipFill>
          <a:blip r:embed="rId2"/>
          <a:stretch/>
        </p:blipFill>
        <p:spPr>
          <a:xfrm>
            <a:off x="4643280" y="3214800"/>
            <a:ext cx="3643560" cy="3143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\\gerakl\adult_home$\ers\Мои документы\Мои рисунки\экзамены\74eb9edce39bca02e70cf0c50f671fda_big.jpg"/>
          <p:cNvPicPr/>
          <p:nvPr/>
        </p:nvPicPr>
        <p:blipFill>
          <a:blip r:embed="rId3"/>
          <a:stretch/>
        </p:blipFill>
        <p:spPr>
          <a:xfrm>
            <a:off x="642960" y="3214800"/>
            <a:ext cx="36432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3" descr=""/>
          <p:cNvPicPr/>
          <p:nvPr/>
        </p:nvPicPr>
        <p:blipFill>
          <a:blip r:embed="rId1"/>
          <a:stretch/>
        </p:blipFill>
        <p:spPr>
          <a:xfrm>
            <a:off x="281160" y="1066680"/>
            <a:ext cx="8654760" cy="1895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C:\Documents and Settings\Admin\Рабочий стол\экзамены\картинки\img4542lowuh0.jpg"/>
          <p:cNvPicPr/>
          <p:nvPr/>
        </p:nvPicPr>
        <p:blipFill>
          <a:blip r:embed="rId2"/>
          <a:stretch/>
        </p:blipFill>
        <p:spPr>
          <a:xfrm>
            <a:off x="2143080" y="3286080"/>
            <a:ext cx="42148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469800" y="841320"/>
            <a:ext cx="8174160" cy="76824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42920" y="1785600"/>
            <a:ext cx="87868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кровенно говоря, когда я думаю о предстоящих экзаменах …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живаю-2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переживаю-3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олагаю, что завалю-2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новится страшно-2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имаю, что к ним надо готовиться-4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имаю, что пара готовить шпаргалки-1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лнуюсь-2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деюсь сдам хорошо-1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новится плохо-1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думаю что за месяц еще приготовлюсь-1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меня начинается икота-1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4" name="Picture 2" descr="C:\Documents and Settings\Admin\Рабочий стол\экзамены\картинки\i.jpeg2.jpeg"/>
          <p:cNvPicPr/>
          <p:nvPr/>
        </p:nvPicPr>
        <p:blipFill>
          <a:blip r:embed="rId2"/>
          <a:stretch/>
        </p:blipFill>
        <p:spPr>
          <a:xfrm>
            <a:off x="7215120" y="2214720"/>
            <a:ext cx="170496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42920" y="1214280"/>
            <a:ext cx="8786880" cy="54295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кровенно говоря, когда я готовлюсь к экзаменам …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учу и учу-3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все запоминаю-1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не боюсь его сдавать-2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знаю что делаю-1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ни о чем не думаю-3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понимаю, что делаю это для себя-1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думаю что сдам их хорошо-3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не становиться страшно-2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не мешает лень-1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меня болит голова-2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хорошо решаю все задания-1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285840" y="1142640"/>
            <a:ext cx="85723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хотел бы узнать, как во время экзаменов…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редоточиться и ничего не забыть-6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но списать-4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но похитрить-2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но обмануть-2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трястись и написать на «5»-2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сказать, написать все верно-1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ильно решить пример-1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но выйти-1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делать так, чтобы мне не мешали-1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Прямоугольник 2"/>
          <p:cNvSpPr/>
          <p:nvPr/>
        </p:nvSpPr>
        <p:spPr>
          <a:xfrm>
            <a:off x="4211640" y="260280"/>
            <a:ext cx="446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onstantia"/>
              </a:rPr>
              <a:t>Файл скачан с сайта http://psy.5igorsk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onstantia"/>
              </a:rPr>
              <a:t>Psy.5igorsk.ru - первый психологический портал Пятигор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213840" y="1071720"/>
            <a:ext cx="8572680" cy="17143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во «экзамен» переводится с латинского как «испытание». И именно испытаниями, сложными, подчас драматичными, становятся выпускные экзамены для девятиклассников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8" name="Picture 2" descr="C:\Documents and Settings\Admin\Рабочий стол\экзамены\картинки\ГИА.jpeg"/>
          <p:cNvPicPr/>
          <p:nvPr/>
        </p:nvPicPr>
        <p:blipFill>
          <a:blip r:embed="rId1"/>
          <a:stretch/>
        </p:blipFill>
        <p:spPr>
          <a:xfrm>
            <a:off x="5673600" y="2924280"/>
            <a:ext cx="3191040" cy="3786120"/>
          </a:xfrm>
          <a:prstGeom prst="rect">
            <a:avLst/>
          </a:prstGeom>
          <a:ln w="0">
            <a:noFill/>
          </a:ln>
        </p:spPr>
      </p:pic>
      <p:sp>
        <p:nvSpPr>
          <p:cNvPr id="199" name="Содержимое 2"/>
          <p:cNvSpPr/>
          <p:nvPr/>
        </p:nvSpPr>
        <p:spPr>
          <a:xfrm>
            <a:off x="142920" y="2786040"/>
            <a:ext cx="535788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кзамен - самый ответственный период жизни каждого старшеклассника. Именно на экзамене подводиться итог учебной деятельности каждого учащегося. Чтобы успешно сдать экзамен, к нему необходимо хорошо подготовиться. Поэтому родителям важно создать в семье благоприятные усло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головок 1" descr=""/>
          <p:cNvPicPr/>
          <p:nvPr/>
        </p:nvPicPr>
        <p:blipFill>
          <a:blip r:embed="rId1"/>
          <a:stretch/>
        </p:blipFill>
        <p:spPr>
          <a:xfrm>
            <a:off x="706320" y="706320"/>
            <a:ext cx="7785360" cy="10000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857320" y="1785960"/>
            <a:ext cx="5143320" cy="9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омендуем сутки разделить на три части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2" name="Picture 2" descr="C:\Documents and Settings\Admin\Рабочий стол\экзамены\картинки\81941.jpeg"/>
          <p:cNvPicPr/>
          <p:nvPr/>
        </p:nvPicPr>
        <p:blipFill>
          <a:blip r:embed="rId2"/>
          <a:stretch/>
        </p:blipFill>
        <p:spPr>
          <a:xfrm>
            <a:off x="214200" y="150012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C:\Documents and Settings\Admin\Рабочий стол\экзамены\картинки\j0409047.jpg"/>
          <p:cNvPicPr/>
          <p:nvPr/>
        </p:nvPicPr>
        <p:blipFill>
          <a:blip r:embed="rId3"/>
          <a:stretch/>
        </p:blipFill>
        <p:spPr>
          <a:xfrm>
            <a:off x="1285920" y="407196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11"/>
          <p:cNvSpPr/>
          <p:nvPr/>
        </p:nvSpPr>
        <p:spPr>
          <a:xfrm>
            <a:off x="1928880" y="278604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ка к экзаменам в школе и дома-8 ча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2"/>
          <p:cNvSpPr/>
          <p:nvPr/>
        </p:nvSpPr>
        <p:spPr>
          <a:xfrm>
            <a:off x="5572080" y="285768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рт, прогулки на свежем воздухе- 8 ча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C:\Documents and Settings\Admin\Рабочий стол\экзамены\картинки\walking1.jpg"/>
          <p:cNvPicPr/>
          <p:nvPr/>
        </p:nvPicPr>
        <p:blipFill>
          <a:blip r:embed="rId4"/>
          <a:stretch/>
        </p:blipFill>
        <p:spPr>
          <a:xfrm>
            <a:off x="6429240" y="3714840"/>
            <a:ext cx="2511720" cy="167148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14"/>
          <p:cNvSpPr/>
          <p:nvPr/>
        </p:nvSpPr>
        <p:spPr>
          <a:xfrm>
            <a:off x="3589560" y="4143240"/>
            <a:ext cx="27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н - не   менее 8 ча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C:\Documents and Settings\Admin\Рабочий стол\экзамены\картинки\sleeping_man.jpg"/>
          <p:cNvPicPr/>
          <p:nvPr/>
        </p:nvPicPr>
        <p:blipFill>
          <a:blip r:embed="rId5"/>
          <a:stretch/>
        </p:blipFill>
        <p:spPr>
          <a:xfrm>
            <a:off x="3857760" y="4643280"/>
            <a:ext cx="2344680" cy="1784520"/>
          </a:xfrm>
          <a:prstGeom prst="rect">
            <a:avLst/>
          </a:prstGeom>
          <a:ln w="0">
            <a:noFill/>
          </a:ln>
        </p:spPr>
      </p:pic>
      <p:cxnSp>
        <p:nvCxnSpPr>
          <p:cNvPr id="209" name="Прямая со стрелкой 17"/>
          <p:cNvCxnSpPr>
            <a:endCxn id="204" idx="0"/>
          </p:cNvCxnSpPr>
          <p:nvPr/>
        </p:nvCxnSpPr>
        <p:spPr>
          <a:xfrm flipH="1">
            <a:off x="3249000" y="2284920"/>
            <a:ext cx="203724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0" name="Прямая со стрелкой 19"/>
          <p:cNvCxnSpPr/>
          <p:nvPr/>
        </p:nvCxnSpPr>
        <p:spPr>
          <a:xfrm>
            <a:off x="5285880" y="2286000"/>
            <a:ext cx="200124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1" name="Прямая со стрелкой 21"/>
          <p:cNvCxnSpPr/>
          <p:nvPr/>
        </p:nvCxnSpPr>
        <p:spPr>
          <a:xfrm flipH="1">
            <a:off x="5285520" y="2286000"/>
            <a:ext cx="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4" descr=""/>
          <p:cNvPicPr/>
          <p:nvPr/>
        </p:nvPicPr>
        <p:blipFill>
          <a:blip r:embed="rId1"/>
          <a:stretch/>
        </p:blipFill>
        <p:spPr>
          <a:xfrm>
            <a:off x="706320" y="628560"/>
            <a:ext cx="7864560" cy="9190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357120" y="1571760"/>
            <a:ext cx="8501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Рекомендуем правильно питаться. Питание должно быть 3-4 разовым, калорийным, богатым витаминами. Полезно употреблять в пищу шоколад, овощи, фрукты, рыбу, мясо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4" name="Picture 2" descr="C:\Documents and Settings\Admin\Рабочий стол\экзамены\картинки\246151.jpg"/>
          <p:cNvPicPr/>
          <p:nvPr/>
        </p:nvPicPr>
        <p:blipFill>
          <a:blip r:embed="rId2"/>
          <a:stretch/>
        </p:blipFill>
        <p:spPr>
          <a:xfrm>
            <a:off x="214200" y="3357720"/>
            <a:ext cx="1874880" cy="2500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C:\Documents and Settings\Admin\Рабочий стол\экзамены\картинки\979651.jpeg"/>
          <p:cNvPicPr/>
          <p:nvPr/>
        </p:nvPicPr>
        <p:blipFill>
          <a:blip r:embed="rId3"/>
          <a:stretch/>
        </p:blipFill>
        <p:spPr>
          <a:xfrm>
            <a:off x="1857240" y="4357800"/>
            <a:ext cx="2952720" cy="2214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C:\Documents and Settings\Admin\Рабочий стол\экзамены\картинки\webshop_plade_forside1.jpg"/>
          <p:cNvPicPr/>
          <p:nvPr/>
        </p:nvPicPr>
        <p:blipFill>
          <a:blip r:embed="rId4"/>
          <a:stretch/>
        </p:blipFill>
        <p:spPr>
          <a:xfrm>
            <a:off x="4143240" y="3429000"/>
            <a:ext cx="2357640" cy="17683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C:\Documents and Settings\Admin\Рабочий стол\экзамены\картинки\04.jpg"/>
          <p:cNvPicPr/>
          <p:nvPr/>
        </p:nvPicPr>
        <p:blipFill>
          <a:blip r:embed="rId5"/>
          <a:stretch/>
        </p:blipFill>
        <p:spPr>
          <a:xfrm>
            <a:off x="5857920" y="4357800"/>
            <a:ext cx="305892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000680" y="1142640"/>
            <a:ext cx="5000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onstantia"/>
              </a:rPr>
              <a:t>Для улучшения памяти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морковь с растительным маслом, ананасовый сок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onstantia"/>
              </a:rPr>
              <a:t>Для концентрации внимания: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оловинка репчатого лука в день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onstantia"/>
              </a:rPr>
              <a:t>Для творческого озарения: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чай из тмина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(2 чайные ложки семян на чашку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onstantia"/>
              </a:rPr>
              <a:t>Для успеха в изучении наук: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капуста и лимон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onstantia"/>
              </a:rPr>
              <a:t>Для хорошего настроения: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бананы – «фрукты счастья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9" name="Picture 2" descr="C:\Documents and Settings\Admin\Рабочий стол\экзамены\картинки\8.jpg"/>
          <p:cNvPicPr/>
          <p:nvPr/>
        </p:nvPicPr>
        <p:blipFill>
          <a:blip r:embed="rId1"/>
          <a:stretch/>
        </p:blipFill>
        <p:spPr>
          <a:xfrm>
            <a:off x="214200" y="1071720"/>
            <a:ext cx="3571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285840" y="2071440"/>
            <a:ext cx="8572320" cy="4500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700"/>
              </a:spcBef>
              <a:buClr>
                <a:srgbClr val="a5ab81"/>
              </a:buClr>
              <a:buSzPct val="95000"/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Чередовать умственный и физический труд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a5ab81"/>
              </a:buClr>
              <a:buSzPct val="95000"/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Беречь от переутомления глаза, давать им отдых, переключать внимание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a5ab81"/>
              </a:buClr>
              <a:buSzPct val="95000"/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инимум телевизионных передач и работы за компьютером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a5ab81"/>
              </a:buClr>
              <a:buSzPct val="95000"/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тимулировать познавательные способности при помощи упражнений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a5ab81"/>
              </a:buClr>
              <a:buSzPct val="95000"/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днять настроение и наполнить себя свежей силой при помощи дыхательных упражнений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1" name="Прямоугольник 3" descr=""/>
          <p:cNvPicPr/>
          <p:nvPr/>
        </p:nvPicPr>
        <p:blipFill>
          <a:blip r:embed="rId1"/>
          <a:stretch/>
        </p:blipFill>
        <p:spPr>
          <a:xfrm>
            <a:off x="212760" y="1000080"/>
            <a:ext cx="879156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4" descr=""/>
          <p:cNvPicPr/>
          <p:nvPr/>
        </p:nvPicPr>
        <p:blipFill>
          <a:blip r:embed="rId1"/>
          <a:stretch/>
        </p:blipFill>
        <p:spPr>
          <a:xfrm>
            <a:off x="208080" y="785880"/>
            <a:ext cx="8654760" cy="8413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356760" y="1714680"/>
            <a:ext cx="8426520" cy="17856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рганизуйте для ребенка место для подготовки к экзаменам. Поставьте на стол предметы в желтой и фиолетовой тональности. Эти цвета повышают активность, работоспособность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Прямоугольник 5" descr=""/>
          <p:cNvPicPr/>
          <p:nvPr/>
        </p:nvPicPr>
        <p:blipFill>
          <a:blip r:embed="rId1"/>
          <a:stretch/>
        </p:blipFill>
        <p:spPr>
          <a:xfrm>
            <a:off x="1000080" y="785880"/>
            <a:ext cx="7070760" cy="920520"/>
          </a:xfrm>
          <a:prstGeom prst="rect">
            <a:avLst/>
          </a:prstGeom>
          <a:ln w="0">
            <a:noFill/>
          </a:ln>
        </p:spPr>
      </p:pic>
      <p:pic>
        <p:nvPicPr>
          <p:cNvPr id="225" name="Схема 8" descr=""/>
          <p:cNvPicPr/>
          <p:nvPr/>
        </p:nvPicPr>
        <p:blipFill>
          <a:blip r:embed="rId2"/>
          <a:stretch/>
        </p:blipFill>
        <p:spPr>
          <a:xfrm>
            <a:off x="-1073160" y="1689120"/>
            <a:ext cx="1021716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500280" y="785520"/>
            <a:ext cx="5245200" cy="39099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одбадривайте детей, хвалите их за то, что они делают хорошо. Повышайте их уверенность в себе, так как чем больше ребенок боится неудачи, тем более вероятности допущения  ошибок. Говорите чаще детям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Ты у меня все сможешь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Я уверена , ты справишься с экзаменами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Я тобой горжусь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Чтобы не случилось ты для меня самый лучший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7" name="Picture 6" descr="MPj04393460000[1]"/>
          <p:cNvPicPr/>
          <p:nvPr/>
        </p:nvPicPr>
        <p:blipFill>
          <a:blip r:embed="rId1"/>
          <a:stretch/>
        </p:blipFill>
        <p:spPr>
          <a:xfrm>
            <a:off x="214200" y="4387680"/>
            <a:ext cx="3214800" cy="2276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Documents and Settings\Admin\Рабочий стол\экзамены\картинки\t_dad_and_son_900.jpg"/>
          <p:cNvPicPr/>
          <p:nvPr/>
        </p:nvPicPr>
        <p:blipFill>
          <a:blip r:embed="rId2"/>
          <a:stretch/>
        </p:blipFill>
        <p:spPr>
          <a:xfrm>
            <a:off x="428760" y="928800"/>
            <a:ext cx="2643120" cy="3367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C:\Documents and Settings\Admin\Рабочий стол\экзамены\картинки\j0402626.jpg"/>
          <p:cNvPicPr/>
          <p:nvPr/>
        </p:nvPicPr>
        <p:blipFill>
          <a:blip r:embed="rId3"/>
          <a:stretch/>
        </p:blipFill>
        <p:spPr>
          <a:xfrm>
            <a:off x="5214960" y="4214880"/>
            <a:ext cx="36306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08:27:18Z</dcterms:created>
  <dc:creator>ers</dc:creator>
  <dc:description/>
  <dc:language>en-US</dc:language>
  <cp:lastModifiedBy>Марина</cp:lastModifiedBy>
  <dcterms:modified xsi:type="dcterms:W3CDTF">2015-01-12T12:22:43Z</dcterms:modified>
  <cp:revision>112</cp:revision>
  <dc:subject/>
  <dc:title>«Как помочь детям подготовиться к экзаменам?»</dc:title>
</cp:coreProperties>
</file>