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C4F8-7A42-4C4C-9077-5B84E9C6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8F99-5E69-48CA-8D99-38A4ACAE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F9E1-3490-4F97-8C79-0D1652192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DE96-4040-4FA3-8F93-05A8E5A05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600F-ACF6-4A35-8D92-BBFB68488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B365-8641-436D-80D0-00C16B59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AD9E-E919-4F6F-A29B-49B80C40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9EB5-0300-4C2E-A7D1-92CDF002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8488-1E18-4987-9A97-CE693472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2805-1654-4DBE-ADFA-F4A8429E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2F19-2C04-4D36-B51C-08CE9EBE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9332-544B-413A-9381-416F9E6E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CE4B-944C-49EB-A03A-377FF080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5D27-A5CE-4A0E-A641-900EB6FA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CD49-80B2-4128-8958-6A7BA978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B2F4-DF54-4C46-9052-CA701C48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3C07-3098-4877-B3F1-48AF46C32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E68E-6F35-4AA7-8E96-6AE8FC99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2FFF-675A-4C46-A8C4-90C0964C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6522-C29C-4DD7-8D9A-AD917183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82A2-82FA-4DCD-9AB2-B6ACA254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3863-BC9E-4EC4-9D11-7E3729B9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1627-1308-4B7C-8699-900C5D9D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E3E1-F16C-45ED-BF9D-4CDDAABB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4429-8005-4CEC-952C-E15788ADC9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59D5-B443-44BC-88CB-B4A20EBDC2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5800" y="304920"/>
            <a:ext cx="78487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ок математики в 8 классе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2543040" cy="2708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143000" y="2666880"/>
            <a:ext cx="691524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а: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исла, полученные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 измерении площади,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десятичные дроби.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09760" y="2981160"/>
            <a:ext cx="5934240" cy="3876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Самая древняя и самая мирная на земле профессия. Она появилась вместе с человеком. С незапамятных времен человек, владеющий этим делом, стал историком. И еще — географом, ведь это его усилиями возводились и возводятся города, изменяют свое течение реки, земля обретает новый лик. Он, подобно доброму сказочнику, опекает всех. Крыша над головой – его дар, и мост над рекой – тоже его дар. Тепло, электрический свет, уют детского сада, радость труда в светлом просторном цехе - все это от нег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Конечно, профессия не из лёгких. Это трудно: и в снег, и в ветер, и в жару не отступать, не сдавать позиций. Но попробуйте вообразить себе жизнь на земле без него? Как тогд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Так может быть он и должен открывать список самых нужных професси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8600" y="3048120"/>
            <a:ext cx="419112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оитель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4876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Times New Roman"/>
              </a:rPr>
              <a:t>Р = (длина +ширина) х 2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5257800" y="8380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Times New Roman"/>
              </a:rPr>
              <a:t>Линейные ме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4120" y="129528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Квадратные ме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295280"/>
            <a:ext cx="4876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 =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длина х шир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3880" y="304920"/>
            <a:ext cx="600084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Геометрический материа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363760" y="327672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Спальн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8880" y="4800600"/>
            <a:ext cx="12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Гости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58880" y="403848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Кухн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31200" y="42670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Веран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68320" y="2209680"/>
            <a:ext cx="6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7 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0" y="2209680"/>
            <a:ext cx="6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4 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5400" y="2209680"/>
            <a:ext cx="6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3 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6000" y="3352680"/>
            <a:ext cx="6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4 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6000" y="4800600"/>
            <a:ext cx="6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5 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078400" y="4800600"/>
            <a:ext cx="6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5 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6095880"/>
            <a:ext cx="7924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Площадь спальни = 28 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5943600"/>
            <a:ext cx="73915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                                    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2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Площадь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гостиной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= 35 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6111720"/>
            <a:ext cx="739116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                                    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2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Площадь кухни = 36 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6111720"/>
            <a:ext cx="739116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                                    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2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Площадь веранды = 15 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1523880" y="304920"/>
            <a:ext cx="600084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ставь пропущенное числ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1066680"/>
            <a:ext cx="43434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2                  2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1 см  = …    мм 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        2                 2    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1 дм  = …    см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       2                  2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1  м   = …    дм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       2                     2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1  м   = …       с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98960" y="1066680"/>
            <a:ext cx="4140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         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2               2 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1 мм  = …    см     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        2               2 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1 см  = …    дм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        2               2 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1 дм   = …    м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        2                  2 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1 см   = …        м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1676520"/>
            <a:ext cx="838080" cy="685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15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2895480"/>
            <a:ext cx="838080" cy="685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15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4114800"/>
            <a:ext cx="838080" cy="685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15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5257800"/>
            <a:ext cx="1447920" cy="685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15"/>
                </a:solidFill>
                <a:latin typeface="Times New Roman"/>
              </a:rPr>
              <a:t>10.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81680" y="1676520"/>
            <a:ext cx="990720" cy="685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15"/>
                </a:solidFill>
                <a:latin typeface="Times New Roman"/>
              </a:rPr>
              <a:t>0,0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2895480"/>
            <a:ext cx="990360" cy="685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15"/>
                </a:solidFill>
                <a:latin typeface="Times New Roman"/>
              </a:rPr>
              <a:t>0,0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0" y="4114800"/>
            <a:ext cx="990720" cy="685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15"/>
                </a:solidFill>
                <a:latin typeface="Times New Roman"/>
              </a:rPr>
              <a:t>0,0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0" y="5257800"/>
            <a:ext cx="1371600" cy="685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15"/>
                </a:solidFill>
                <a:latin typeface="Times New Roman"/>
              </a:rPr>
              <a:t>0,000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920" y="838080"/>
            <a:ext cx="8385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. 153  № 450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62564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228600" y="0"/>
            <a:ext cx="87058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дача.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ист железа имеет следующие размеры: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лина 5м, ширина 1м 20 см.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колько листов железа потребуется на крышу,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лощадь которой составляет 120 кв.м? 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68580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15"/>
                </a:solidFill>
                <a:latin typeface="Times New Roman"/>
              </a:rPr>
              <a:t>Вычислите площадь пола, если длина дома 11 м, а ширина 9 м.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9144000" cy="5838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371600" y="0"/>
            <a:ext cx="6324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верка заданий на карточках.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38280" y="137160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15"/>
                </a:solidFill>
                <a:latin typeface="Times New Roman"/>
              </a:rPr>
              <a:t>Ответ: площадь пола составляет 99 кв.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8288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Вычислите площадь стены, 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основание которой 9 м, а высота 2,5 м.</a:t>
            </a:r>
            <a:r>
              <a:rPr b="1" lang="en-US" sz="2400" spc="-1" strike="noStrike">
                <a:solidFill>
                  <a:srgbClr val="0033cc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266688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Ответ: площадь стены составляет 22,5 кв.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2767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Вычислите площадь стены,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основание которой 11 м, а высота 2,5 м.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426708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Ответ: площадь стены составляет 27,5 кв.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amond(in)" transition="out">
                                      <p:cBhvr additive="repl">
                                        <p:cTn id="13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762120" y="0"/>
            <a:ext cx="1036332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52280" y="5181480"/>
            <a:ext cx="2057400" cy="60984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15"/>
                </a:solidFill>
                <a:latin typeface="Times New Roman"/>
              </a:rPr>
              <a:t>               </a:t>
            </a:r>
            <a:r>
              <a:rPr b="1" lang="en-US" sz="1200" spc="-1" strike="noStrike">
                <a:solidFill>
                  <a:srgbClr val="ffff15"/>
                </a:solidFill>
                <a:latin typeface="Times New Roman"/>
              </a:rPr>
              <a:t>2             2</a:t>
            </a:r>
            <a:br>
              <a:rPr sz="1200"/>
            </a:br>
            <a:r>
              <a:rPr b="1" lang="en-US" sz="2000" spc="-1" strike="noStrike">
                <a:solidFill>
                  <a:srgbClr val="ffff15"/>
                </a:solidFill>
                <a:latin typeface="Times New Roman"/>
              </a:rPr>
              <a:t>17дм 8 см    х 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6095880"/>
            <a:ext cx="2057400" cy="60984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15"/>
                </a:solidFill>
                <a:latin typeface="Times New Roman"/>
              </a:rPr>
              <a:t>           </a:t>
            </a:r>
            <a:r>
              <a:rPr b="1" lang="en-US" sz="1200" spc="-1" strike="noStrike">
                <a:solidFill>
                  <a:srgbClr val="ffff15"/>
                </a:solidFill>
                <a:latin typeface="Times New Roman"/>
              </a:rPr>
              <a:t>2               2</a:t>
            </a:r>
            <a:br>
              <a:rPr sz="1200"/>
            </a:br>
            <a:r>
              <a:rPr b="1" lang="en-US" sz="2000" spc="-1" strike="noStrike">
                <a:solidFill>
                  <a:srgbClr val="ffff15"/>
                </a:solidFill>
                <a:latin typeface="Times New Roman"/>
              </a:rPr>
              <a:t>3дм 60 см    : 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5791320"/>
            <a:ext cx="2209680" cy="6094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15"/>
                </a:solidFill>
                <a:latin typeface="Times New Roman"/>
              </a:rPr>
              <a:t>               </a:t>
            </a:r>
            <a:r>
              <a:rPr b="1" lang="en-US" sz="1200" spc="-1" strike="noStrike">
                <a:solidFill>
                  <a:srgbClr val="ffff15"/>
                </a:solidFill>
                <a:latin typeface="Times New Roman"/>
              </a:rPr>
              <a:t>2                2</a:t>
            </a:r>
            <a:br>
              <a:rPr sz="1200"/>
            </a:br>
            <a:r>
              <a:rPr b="1" lang="en-US" sz="2000" spc="-1" strike="noStrike">
                <a:solidFill>
                  <a:srgbClr val="ffff15"/>
                </a:solidFill>
                <a:latin typeface="Times New Roman"/>
              </a:rPr>
              <a:t>14дм 30 см  х  1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62920" y="2286000"/>
            <a:ext cx="1371600" cy="609480"/>
          </a:xfrm>
          <a:prstGeom prst="rtTriangl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62920" y="2895480"/>
            <a:ext cx="1295280" cy="2514600"/>
          </a:xfrm>
          <a:prstGeom prst="rect">
            <a:avLst/>
          </a:prstGeom>
          <a:solidFill>
            <a:srgbClr val="ffff1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3505320"/>
            <a:ext cx="685800" cy="18288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0120" y="4419720"/>
            <a:ext cx="75960" cy="75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828800" y="4495680"/>
            <a:ext cx="5648400" cy="21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м построен, все довольны,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боту завершать пора,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вести итоги нужно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закончилась игра!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09760" y="2981160"/>
            <a:ext cx="5934240" cy="38768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609480" y="0"/>
            <a:ext cx="807732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за работу!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5-23T20:19:2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