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7542-4401-4F81-8713-3ED6F10EDB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D23B-45D4-4330-BC44-C11A02BA3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723-5CF1-4A59-94FE-B22E8ECF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C96-1DFB-49B3-AC5A-95EFF998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5B4-1C34-4BFE-B0F7-6ABCA23A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D963-396B-4B3C-85AB-FC4C03F0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B469-2945-4D7E-98E9-C22CEF9F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06AC-B772-44DC-B4D8-E07A79CB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F6A9-69BE-472C-B6A8-C21FC475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F273-8B97-4FF6-92AF-A3CDC71D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A689-4698-4F6A-B36C-2BC02576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986B-8B3F-443D-BC5C-545BE8D3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A935-19C7-4FAD-BB1E-26265545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5F8-5D10-4BD9-8711-45A5807D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FB41-4D21-4CE3-845D-E7FBEF4D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F9BA-4CA0-48E7-A54A-9B14D5CF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8B42-3AC0-46E7-933F-A442C5E2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744D-55FB-4AC1-9CCA-FDD036E4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E542-6D6B-49AD-88FE-14B234B5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D92-B1DE-49DD-9F0A-788EC4A1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C6E-05C7-4F65-B3DD-EC816969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2EF-207B-4F61-8B91-5DEFB1F5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17C-3BC5-4363-A434-D12CA577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3A13-CF6D-46DF-9646-417B2B44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45C-3A60-4A8C-9896-2EE3F3FF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3CE-7740-4305-A201-EFB2972B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5916-0A4B-4E10-91EA-E9BA2DDD120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5799-F2FB-41EE-9E96-06DD7A4E8DB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00000" y="3357720"/>
            <a:ext cx="6120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spcBef>
                <a:spcPts val="901"/>
              </a:spcBef>
              <a:buClr>
                <a:srgbClr val="6633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Что такое экзаменационный стресс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901"/>
              </a:spcBef>
              <a:buClr>
                <a:srgbClr val="6633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901"/>
              </a:spcBef>
              <a:buClr>
                <a:srgbClr val="6633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826920" y="549360"/>
            <a:ext cx="7848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77000"/>
                  </a:blip>
                  <a:srcRect/>
                  <a:tile tx="0" ty="0" sx="100000" sy="100000" algn="ctr"/>
                </a:blipFill>
                <a:latin typeface="Arial"/>
              </a:rPr>
              <a:t>Психологические 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77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77000"/>
                  </a:blip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>
                    <a:alphaModFix amt="77000"/>
                  </a:blip>
                  <a:srcRect/>
                  <a:tile tx="0" ty="0" sx="100000" sy="100000" algn="ctr"/>
                </a:blipFill>
                <a:latin typeface="Arial"/>
              </a:rPr>
              <a:t>по подготов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>
                  <a:alphaModFix amt="77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>
                    <a:alphaModFix amt="77000"/>
                  </a:blip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>
                    <a:alphaModFix amt="77000"/>
                  </a:blip>
                  <a:srcRect/>
                  <a:tile tx="0" ty="0" sx="100000" sy="100000" algn="ctr"/>
                </a:blipFill>
                <a:latin typeface="Arial"/>
              </a:rPr>
              <a:t>к ЕГ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>
                  <a:alphaModFix amt="77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571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Помогите детям распределить темы подготовки по дням. Очень полезно делать краткие схематические выписки и таблицы, упорядочивая изучаемый материал по плану. Основные формулы и определения можно выписать на листочках и повесить над письменным столом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590364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Во время тренировки по тестовым заданиям приучайте ребёнка ориентироваться во времени и уметь его распределять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Подбадривайте детей, хвалите их за то , что они делают хорошо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Повышайте их уверенность в себе, так как чем больше ребенок боится неудачи, тем более вероятности допущения ошибок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Контролируйте режим подготовки ребёнка к экзаменам, не допускайте перегрузок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571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Обратите внимание на питание ребёнка. Такие продукты, как рыба, творог, орехи, курага и т. д. стимулируют работу головного мозга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Накануне экзамена обеспечьте ребёнку полноценный отдых, он должен отдохнуть и как следует выспаться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Не критикуете ребёнка после экзамена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Помните: главное – снизить напряжение и тревожность ребёнка и обеспечить ему подходящие условия для занятий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6192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Century Gothic"/>
              </a:rPr>
              <a:t>Посоветуйте детям во время экзамена обратить внимание на следующее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пробежать  глазами весь тест, чтобы увидеть, какого типа задания в нем содержаться (это поможет настроиться на работу)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внимательно прочитать вопрос до конца и понять его смысл (характерная ошибка во время тестирования- не дочитав до конца, по первым словам уже предполагают ответ и торопятся его вписать)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если не знаешь ответа на вопрос или не уверен, пропусти его и отметь, чтобы потом к нему вернуться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если не смог в течение отведенного времени ответить на вопрос, есть смысл положиться на свою интуицию и указать наиболее вероятный вариант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     </a:t>
            </a:r>
            <a:r>
              <a:rPr b="1" lang="ru-RU" sz="1800" spc="-1" strike="noStrike" u="sng">
                <a:solidFill>
                  <a:srgbClr val="663300"/>
                </a:solidFill>
                <a:uFillTx/>
                <a:latin typeface="Century Gothic"/>
              </a:rPr>
              <a:t>И помните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самое главное- это снизить напряжение и тревожность ребенка и обеспечить подходящие условия для занятий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 rot="20525400">
            <a:off x="684000" y="1557000"/>
            <a:ext cx="73342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Monotype Corsiva"/>
              </a:rPr>
              <a:t>Успешной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сдачи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Monotype Corsiva"/>
              </a:rPr>
              <a:t>экзаменов!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Что такое стресс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6192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3300"/>
                </a:solidFill>
                <a:uFillTx/>
                <a:latin typeface="Century Gothic"/>
              </a:rPr>
              <a:t>Стресс</a:t>
            </a:r>
            <a:r>
              <a:rPr b="1" lang="ru-RU" sz="2600" spc="-1" strike="noStrike">
                <a:solidFill>
                  <a:srgbClr val="663300"/>
                </a:solidFill>
                <a:latin typeface="Century Gothic"/>
              </a:rPr>
              <a:t> — состояние психического напряжения, возникающее у человека под влиянием сильных воздействий. Может оказывать как положительное, так и отрицательное влияние на жизнедеятельность, вплоть до ее полной дезорганизации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entury Gothic"/>
              </a:rPr>
              <a:t>физиологическая реакция организма, выражающаяся в состоянии напряжения, подавленности, спада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entury Gothic"/>
              </a:rPr>
              <a:t>Симптомы экзаменационного стресс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54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ФИЗИОЛОГИЧЕСКИЕ СИМПТОМЫ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усиление кожной сыпи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головные боли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тошнота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«медвежья болезнь» (диарея)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мышечное напряжение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углубление и учащение дыхани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учащённый пульс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перепады артериального давлени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entury Gothic"/>
              </a:rPr>
              <a:t>Симптомы экзаменационного стресс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ЭМОЦИОНАЛЬНЫЕ СИМПТОМЫ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чувство общего недомогани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растерянност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паника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страх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неуверенност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тревога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депресси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подавленност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раздражительност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entury Gothic"/>
              </a:rPr>
              <a:t>Симптомы экзаменационного стресс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58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entury Gothic"/>
              </a:rPr>
              <a:t>КОГНИТИВНЫЕ (ИНТЕЛЛЕКТУАЛЬНЫЕ) СИМПТОМЫ: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чрезмерная самокритика, сравнение своей подготовленности с другими в невыгодном для себя свете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неприятные воспоминания о провалах на экзаменах в прошлом (своих или чужих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воображение отрицательных последствий неудачи на экзамене (исключение из вуза, лишение стипендии и т.п.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кошмарные сновидения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ухудшение памяти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снижение способности к концентрации внимания, рассеянность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entury Gothic"/>
              </a:rPr>
              <a:t>Симптомы экзаменационного стресс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entury Gothic"/>
              </a:rPr>
              <a:t>ПОВЕДЕНЧЕСКИЕ СИМПТОМЫ:</a:t>
            </a:r>
            <a:r>
              <a:rPr b="0" lang="ru-RU" sz="2000" spc="-1" strike="noStrike">
                <a:solidFill>
                  <a:srgbClr val="6633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стремление заниматься любым другим делом, лишь бы не готовиться к экзамену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избегание любых напоминаний об экзаменах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уменьшение эффективности в учёбе в экзаменационный период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вовлечение других людей в тревожные разговоры о предстоящих экзаменах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увеличение употребления кофеина и алкоголя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ухудшение сна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ухудшение аппетит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Стрессоустойчивость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633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Century Gothic"/>
              </a:rPr>
              <a:t>определяется совокупностью личностных качеств, позволяющих человеку переносить значительные интеллектуальные, волевые и эмоциональные нагрузки, обусловленные особенностями профессиональной деятельности, без особых вредных последствий для деятельности, окружающих и своего здоровь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Экзаменационный стресс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Century Gothic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интенсивная умственная деятельность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нагрузка на одни и те же мышцы и органы из-за длительного сидения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нарушение режима сна и отдыха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негативные переживания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6121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Внушайте ребёнку мысль, что количество баллов не является совершенным измерением его возможностей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Не повышайте тревожность ребёнка накануне экзаменов. Ребенку всегда передается волнение родителей, и если взрослые в ответственный момент могут справиться со своими эмоциями, то ребёнок в силу возрастных особенностей может не справиться со своими эмоциями и «сорваться»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Обеспечьте дома удобное место для занятий, проследите, чтобы никто из домашних не мешал.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7:04Z</dcterms:created>
  <dc:creator>Katunina</dc:creator>
  <dc:description/>
  <cp:keywords/>
  <dc:language>en-US</dc:language>
  <cp:lastModifiedBy>Марина</cp:lastModifiedBy>
  <dcterms:modified xsi:type="dcterms:W3CDTF">2015-01-12T11:57:29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