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C56-AB05-415C-BAB3-FB67CBA5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FABE-8C95-45CA-AAC7-1677A1ED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B2D-2C72-40E0-A589-D70F0E18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C5C-CB23-4420-A052-079629D3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285-0720-46C9-BAF9-8787881F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8B8-3A54-41AA-8D56-8C0F1E59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3AF-248B-4E25-BE64-400CCA85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679-AACF-4CD4-9AF4-D6EB6DC6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447-1A35-4CDE-B7E6-7B8EB6A2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244-57AA-47D5-B9E3-2F0A47E7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924-EBE4-48BA-8C5B-2AC694D8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61F-C391-46B9-BA24-2A126CFD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38DC-2F77-4C2A-BDCC-97FEA1F47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1.radikal.ru/i132/0811/c4/bc82dcde2e7b.png" TargetMode="External"/><Relationship Id="rId3" Type="http://schemas.openxmlformats.org/officeDocument/2006/relationships/hyperlink" Target="http://school-ppt.3dn.ru/kartinki/school2/sch002.png" TargetMode="External"/><Relationship Id="rId4" Type="http://schemas.openxmlformats.org/officeDocument/2006/relationships/hyperlink" Target="http://prihodr.ucoz.ru/photo/1-0-153-3" TargetMode="External"/><Relationship Id="rId5" Type="http://schemas.openxmlformats.org/officeDocument/2006/relationships/hyperlink" Target="http://prihodr.ucoz.ru/photo/1-0-153-3" TargetMode="External"/><Relationship Id="rId6" Type="http://schemas.openxmlformats.org/officeDocument/2006/relationships/hyperlink" Target="http://prihodr.ucoz.ru/photo/1-0-153-3" TargetMode="External"/><Relationship Id="rId7" Type="http://schemas.openxmlformats.org/officeDocument/2006/relationships/hyperlink" Target="http://prihodr.ucoz.ru/photo/1-0-153-3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90939386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682640" y="4822920"/>
            <a:ext cx="57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БОУ СОШ № 4 г. Южно-Сахали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люк Анастасия Владимир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39440" y="404640"/>
            <a:ext cx="766512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русского языка в 4-ом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Родительный падеж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мужского и среднего ро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имен прилага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90939386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525600" y="127476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Родительный паде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мужского и среднего р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имен прилага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sch002"/>
          <p:cNvPicPr/>
          <p:nvPr/>
        </p:nvPicPr>
        <p:blipFill>
          <a:blip r:embed="rId2"/>
          <a:stretch/>
        </p:blipFill>
        <p:spPr>
          <a:xfrm>
            <a:off x="6012000" y="4005360"/>
            <a:ext cx="2665440" cy="24573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458280" y="2924280"/>
            <a:ext cx="6241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Сегодня на уроке 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узна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научилис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повтори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1817640" y="592200"/>
            <a:ext cx="53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Подведение ит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90939386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905400" y="549360"/>
            <a:ext cx="750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  <a:ea typeface="Arial"/>
              </a:rPr>
              <a:t>●</a:t>
            </a: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Родительный паде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мужского и среднего 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имен прилагатель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981800" y="3068640"/>
            <a:ext cx="328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  <a:ea typeface="Arial"/>
              </a:rPr>
              <a:t>●</a:t>
            </a: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КАК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ОГО </a:t>
            </a: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979280" y="4076640"/>
            <a:ext cx="37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  <a:ea typeface="Arial"/>
              </a:rPr>
              <a:t>●</a:t>
            </a: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Оконч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- ОГО</a:t>
            </a: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sch002"/>
          <p:cNvPicPr/>
          <p:nvPr/>
        </p:nvPicPr>
        <p:blipFill>
          <a:blip r:embed="rId2"/>
          <a:stretch/>
        </p:blipFill>
        <p:spPr>
          <a:xfrm>
            <a:off x="6012000" y="4005360"/>
            <a:ext cx="266544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90939386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1042920" y="1125360"/>
            <a:ext cx="655344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исок используемых источ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s51.radikal.ru/i132/0811/c4/bc82dcde2e7b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school-ppt.3dn.ru/kartinki/school2/sch002.png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prihodr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coz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u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oto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/1-0-15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9093938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468360" y="908280"/>
            <a:ext cx="633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Ум и сердце в работу влож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Каждой минутой в труде дорожи 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sch002"/>
          <p:cNvPicPr/>
          <p:nvPr/>
        </p:nvPicPr>
        <p:blipFill>
          <a:blip r:embed="rId2"/>
          <a:stretch/>
        </p:blipFill>
        <p:spPr>
          <a:xfrm>
            <a:off x="6012000" y="4005360"/>
            <a:ext cx="266544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909393868"/>
          <p:cNvPicPr/>
          <p:nvPr/>
        </p:nvPicPr>
        <p:blipFill>
          <a:blip r:embed="rId1"/>
          <a:stretch/>
        </p:blipFill>
        <p:spPr>
          <a:xfrm>
            <a:off x="-1440" y="-36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sch002"/>
          <p:cNvPicPr/>
          <p:nvPr/>
        </p:nvPicPr>
        <p:blipFill>
          <a:blip r:embed="rId2"/>
          <a:stretch/>
        </p:blipFill>
        <p:spPr>
          <a:xfrm>
            <a:off x="6012000" y="4005360"/>
            <a:ext cx="2665440" cy="2457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1031040" y="496800"/>
            <a:ext cx="284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  <a:ea typeface="Arial"/>
              </a:rPr>
              <a:t>[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карабл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  <a:ea typeface="Arial"/>
              </a:rPr>
              <a:t>'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81160" y="1557360"/>
            <a:ext cx="49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  <a:ea typeface="Arial"/>
              </a:rPr>
              <a:t>[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путишэствийэ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  <a:ea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125360" y="2774880"/>
            <a:ext cx="22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  <a:ea typeface="Arial"/>
              </a:rPr>
              <a:t>[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мор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  <a:ea typeface="Arial"/>
              </a:rPr>
              <a:t>'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э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  <a:ea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096920" y="3624120"/>
            <a:ext cx="227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  <a:ea typeface="Arial"/>
              </a:rPr>
              <a:t>[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йахта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  <a:ea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121400" y="4653000"/>
            <a:ext cx="344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  <a:ea typeface="Arial"/>
              </a:rPr>
              <a:t>[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валнарес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  <a:ea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682160" y="480960"/>
            <a:ext cx="372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к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 р а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  <a:ea typeface="Arial"/>
              </a:rPr>
              <a:t>́́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 б л 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667040" y="2149560"/>
            <a:ext cx="40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пу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шестви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418920" y="2800440"/>
            <a:ext cx="222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м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  <a:ea typeface="Arial"/>
              </a:rPr>
              <a:t>́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 р 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515400" y="3630600"/>
            <a:ext cx="184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  <a:ea typeface="Arial"/>
              </a:rPr>
              <a:t>́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х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469760" y="4653000"/>
            <a:ext cx="323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в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лн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р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90939386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395280" y="62064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Вдали пок.зались мачты ст.рожев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….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  к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рабл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39640" y="2565360"/>
            <a:ext cx="66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К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рабля (как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ого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?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сторожев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ого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 – ед.ч.,м.р.,род.паде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sch002"/>
          <p:cNvPicPr/>
          <p:nvPr/>
        </p:nvPicPr>
        <p:blipFill>
          <a:blip r:embed="rId2"/>
          <a:stretch/>
        </p:blipFill>
        <p:spPr>
          <a:xfrm>
            <a:off x="6012000" y="4005360"/>
            <a:ext cx="2665440" cy="24573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564120" y="5195880"/>
            <a:ext cx="61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формулируйте тему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90939386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503280" y="3333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Родительный паде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мужского и среднего р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имен прилага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sch002"/>
          <p:cNvPicPr/>
          <p:nvPr/>
        </p:nvPicPr>
        <p:blipFill>
          <a:blip r:embed="rId2"/>
          <a:stretch/>
        </p:blipFill>
        <p:spPr>
          <a:xfrm>
            <a:off x="6012000" y="4005360"/>
            <a:ext cx="2665440" cy="24573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340920" y="2228760"/>
            <a:ext cx="6241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Сегодня на уроке 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узнае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научим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повтори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90939386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395280" y="260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Заполни таблицу, выделяя окончания прилаг., сделай 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55640" y="1700280"/>
          <a:ext cx="7632720" cy="4938480"/>
        </p:xfrm>
        <a:graphic>
          <a:graphicData uri="http://schemas.openxmlformats.org/drawingml/2006/table">
            <a:tbl>
              <a:tblPr/>
              <a:tblGrid>
                <a:gridCol w="3672000"/>
                <a:gridCol w="396072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нительный п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ный  п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менистое дн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.листый бере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л.сатый кра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дводный ми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рской коне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90939386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684360" y="836640"/>
          <a:ext cx="5616360" cy="4402080"/>
        </p:xfrm>
        <a:graphic>
          <a:graphicData uri="http://schemas.openxmlformats.org/drawingml/2006/table">
            <a:tbl>
              <a:tblPr/>
              <a:tblGrid>
                <a:gridCol w="1873080"/>
                <a:gridCol w="3743280"/>
              </a:tblGrid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аде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Родительн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500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Мужско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редни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Какого 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buClr>
                          <a:srgbClr val="ff33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г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ег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Line 32"/>
          <p:cNvSpPr/>
          <p:nvPr/>
        </p:nvSpPr>
        <p:spPr>
          <a:xfrm flipH="1">
            <a:off x="2050560" y="126828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1"/>
          <p:cNvSpPr/>
          <p:nvPr/>
        </p:nvSpPr>
        <p:spPr>
          <a:xfrm>
            <a:off x="455148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7" descr="sch002"/>
          <p:cNvPicPr/>
          <p:nvPr/>
        </p:nvPicPr>
        <p:blipFill>
          <a:blip r:embed="rId2"/>
          <a:stretch/>
        </p:blipFill>
        <p:spPr>
          <a:xfrm>
            <a:off x="6012000" y="4005360"/>
            <a:ext cx="2665440" cy="24573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454320" y="5589720"/>
            <a:ext cx="54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Прочти правило в учеб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90939386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Line 32"/>
          <p:cNvSpPr/>
          <p:nvPr/>
        </p:nvSpPr>
        <p:spPr>
          <a:xfrm flipH="1">
            <a:off x="2050560" y="126828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455148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7" descr="sch002"/>
          <p:cNvPicPr/>
          <p:nvPr/>
        </p:nvPicPr>
        <p:blipFill>
          <a:blip r:embed="rId2"/>
          <a:stretch/>
        </p:blipFill>
        <p:spPr>
          <a:xfrm>
            <a:off x="7164360" y="5067360"/>
            <a:ext cx="1513080" cy="13953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611280" y="476280"/>
            <a:ext cx="8066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ичала стоял пассажирский теплоход. Началась посадка на пассажирский теплоход</a:t>
            </a:r>
            <a:r>
              <a:rPr b="0" lang="ru-RU" sz="4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остановке подъехал пустой автобус. В пустой автобус смогли сесть все пассажиры. Отец купил для похода новый рюкзак. В новый рюкзак поместилось всё необходимое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667080" y="476280"/>
            <a:ext cx="70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Самостоятельная раб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755640" y="118440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ать предложения, указать род, падеж имён прилага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90939386_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Line 32"/>
          <p:cNvSpPr/>
          <p:nvPr/>
        </p:nvSpPr>
        <p:spPr>
          <a:xfrm flipH="1">
            <a:off x="2050560" y="126828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1"/>
          <p:cNvSpPr/>
          <p:nvPr/>
        </p:nvSpPr>
        <p:spPr>
          <a:xfrm>
            <a:off x="455148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7" descr="sch002"/>
          <p:cNvPicPr/>
          <p:nvPr/>
        </p:nvPicPr>
        <p:blipFill>
          <a:blip r:embed="rId2"/>
          <a:stretch/>
        </p:blipFill>
        <p:spPr>
          <a:xfrm>
            <a:off x="7164360" y="5067360"/>
            <a:ext cx="1513080" cy="13953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1607400" y="1916280"/>
            <a:ext cx="56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Работа по учебник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7:17:02Z</dcterms:created>
  <dc:creator>Сява</dc:creator>
  <dc:description/>
  <dc:language>en-US</dc:language>
  <cp:lastModifiedBy>1</cp:lastModifiedBy>
  <dcterms:modified xsi:type="dcterms:W3CDTF">2015-01-15T16:46:49Z</dcterms:modified>
  <cp:revision>26</cp:revision>
  <dc:subject/>
  <dc:title>Слайд 1</dc:title>
</cp:coreProperties>
</file>