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62F-7585-4018-A67F-AD54E064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AAEF-3237-4391-BB36-4038D6DE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A704-EE3C-4A98-956C-E076407D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219A-A574-498E-91A9-655F37E6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13A4-4BF5-41E3-A863-BA453862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CA9A-1196-4D87-B2CB-C4A145B3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D6BD-11E1-42E2-A300-6E00FAC3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22BC-EC01-4605-9B16-D37BC244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8366-945C-430C-9B59-53A207CA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6F56-E65E-42BF-A9AB-DA1DBB50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5A7E-1F94-4012-A3B8-B5F49F0B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1A48-94F9-496F-825D-F86EFCE8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0DB0-E77A-4333-9512-85B27548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50D1-C375-4D5E-AD42-8F95BACA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C0E6-5FFC-40F6-B316-78B4BDF5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08CA-F55A-46AE-AB42-68CF9E38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F2F0-39BB-48CE-85AC-CD862268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814-4DA9-4B3E-8D87-28E03BA1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DCEE-D187-4AE5-A6D4-243C47C4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AF9-3190-4D6D-8847-6E40757C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E983-7948-45F2-8605-CF75C9D9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2A9-BBAA-439F-BDA3-BDEC84C5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42E3-1C5C-4D3C-A37D-E7AF0CA1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74B-6EEF-48EB-9051-9D8A9C62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7A8E-9F97-47EC-82C5-585855065E4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D524-E0A2-4488-B471-BF0670E66F6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Развитие универсальных учебных действий во внеурочной деятельности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Методическое объединение  Лицея №6 «Парус»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6.11.2014год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 самое главное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заложенные в Федеральном государственном образовательном стандарте второго поколения основы формирования универсальных учебных действий подчёркивают ценность современного образования - школа должна побуждать молодёжь принимать активную гражданскую позицию, усиливать личностное развитие и безопасную социальную включённость в жизнь обществ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133360"/>
            <a:ext cx="76932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 обучения ребёнка состоит в том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бы сделать его способным развиваться дальше без помощи учителя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Элберт Хаббарт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от фильм называют видеопособием по личностно-ориентированному обучению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Общество мертвых поэтов (1989)"/>
          <p:cNvPicPr/>
          <p:nvPr/>
        </p:nvPicPr>
        <p:blipFill>
          <a:blip r:embed="rId1"/>
          <a:stretch/>
        </p:blipFill>
        <p:spPr>
          <a:xfrm>
            <a:off x="826920" y="2344680"/>
            <a:ext cx="30085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473480" y="2633400"/>
            <a:ext cx="7343280" cy="19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асскажи мне, и я забуду. Покажи мне, и я запомню. Вовлеки меня, и я научусь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ЛИЧНОСТНЫЕ УНИВЕРСАЛЬНЫЕ УЧЕБНЫЕ ДЕЙСТВ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26560" y="2060640"/>
            <a:ext cx="770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итериями сформированности личностных УУД следует счит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структуру ценностного созна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уровень развития морального созна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присвоение моральных норм, выступающих регуляторами морального поведе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полноту ориентации учащихся на моральное содержание ситуации, действия, моральной дилеммы, требующей осуществления морального выбор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65080" y="874440"/>
            <a:ext cx="7705080" cy="15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о-ориентированная образовательная среда оценивается по особым критериям. Она должна быт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системной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- охватывать все ступени обучения (от приема детей в школу до систематической работы по изучению личности ребенка в начальной, основной, старшей школе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избирательной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- создавать условия для раскрытия индивидуальных предпочтений каждого ученика в работе с программным материалом; становления его учебных интересов, познавательных потребностей; проявления их устойчивости (изменчивости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стимулирующей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- обеспечивающей условия для развития каждого ученика через создание индивидуальных образовательных программ, коррекцию и поддержку развития, координируя для этого разные сферы: интеллектуальную, эмоционально­волевую, потребностно-мотивационну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КОММУНИКАТИВНЫЕ УНИВЕРСАЛЬНЫЕ УЧЕБНЫЕ ДЕЙСТВИЯ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1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К коммуникативным действиям относятс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планирование учебного сотрудничества с учителем и сверстниками - определение цели, функций участников, способов взаимодейств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ановка вопросов - инициативное сотрудничество в поиске и сборе информации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ешение конфликтов - выявление, идентификация проблемы, поиск и оценка альтернативных способов разрешения конфликта, принятие решения и его реализац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равление поведением партнёра - контроль, коррекция, оценка его действий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е с достаточной полнотой и точностью выражать свои мысли в соответствии с задачами и условиями коммуникации; владение монологической и диалогической формами речи в соответствии с грамматическими и синтаксическими нормами родного языка, современных средств коммуникаци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ПОЗНАВАТЕЛЬНЫЕ УНИВЕРСАЛЬНЫЕ УЧЕБНЫЕ ДЕЙСТВ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ключают: общеучебные, логические учебные действия, а также постановку и решение проблемы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РЕГУЛЯТИВНЫЕ УНИВЕРСАЛЬНЫЕ УЧЕБНЫЕ ДЕЙСТВ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276640"/>
            <a:ext cx="79819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еполагание как постановка учебной задачи на основе соотнесения того, что уже известно и усвоено учащимся, и того, что еще неизвестно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 - определение последовательности промежуточных целей с учетом конечного результата; составление плана и последовательности действий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нозирование - предвосхищение результата и уровня усвоения, его временных характеристик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в форме сличения способа действия и его результата с заданным эталоном с целью обнаружения отклонений и отличий от эталона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я - внесение необходимых дополнений и корректив в план, и способ действия в случае расхождения эталона, реального действия и его продукта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- выделение и осознание учащимся того, что уже усвоено и что еще подлежит усвоению, осознание качества и уровня усвое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регуляция как способность к мобилизации сил и энергии, к волевому усилию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17:54:35Z</dcterms:created>
  <dc:creator>связной</dc:creator>
  <dc:description/>
  <dc:language>en-US</dc:language>
  <cp:lastModifiedBy>связной</cp:lastModifiedBy>
  <dcterms:modified xsi:type="dcterms:W3CDTF">2014-11-25T18:23:24Z</dcterms:modified>
  <cp:revision>2</cp:revision>
  <dc:subject/>
  <dc:title>Развитие универсальных учебных действий во внеурочной деятельности</dc:title>
</cp:coreProperties>
</file>