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3352-D3C2-4273-96CC-91C28F76C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323-F943-4168-B6C1-D1D3FDDD91B5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49A-8714-4B71-B45E-3480E80F0978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429-03D2-4582-8D7B-B3BA6C26FFF0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74CD-4342-4376-9922-0D25B0C6452A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14EC-7FB5-4378-9256-06739C8A842F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F37-0FDE-4C07-B864-C664E5EEA7AB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7D9-9FB4-44D0-8EA7-1554F229FD70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74DD-1453-450C-BAD3-5EC8C59B43B3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0B97-13DA-4E59-A238-2935F7C4014D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86E4-84FE-4A77-8CD9-1CF6C65338F5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AA2C-6D7A-4F5B-BAEC-02671C0A33E1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1232-0FEC-481A-9CF0-1C2A5AD9A787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6B1-282D-414A-95B7-9DDD7EE1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EDD-8439-4A6B-A503-F1904854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4DC-67F1-4FF6-A9B5-F3ADB139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C4E-F3B8-424F-8C90-9DC3CF1D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E58E-9E71-4523-9120-2347F2A9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E2B-5B09-4CAF-AF96-F8820756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602A-91EF-4266-B7B0-1D34D5BB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78D1-FAF8-4D0B-8B8D-F090C76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C4E-FD1C-41C9-9CE2-75A6073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A7BC-44DF-42F7-8D85-A4B4075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69F0-B994-49E4-9F40-ACE316A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AEC-C071-408C-A62D-F4C95AC9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9819-7019-41AC-A2AB-7DEFB7F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B4CE-2687-4357-BBBF-1ED1B3F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F29B-1FD8-489C-90D3-171DBDB5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86FC-7A52-4322-8779-834680F8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14B-C408-4009-8799-BD4A34E0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A60-5015-4921-BCB7-DC64D553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412-39C9-4F5E-A4F0-D97A8534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710-1690-412E-83F7-3FEB5DC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010-A103-4037-8E9A-025DB65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B32-1B72-4EA3-83ED-BF90C7C7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DB7-5F79-412E-B93A-C8681DD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403-D11C-4B70-97ED-8A3D0A1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Гречановская И.Г. Экономика предприятия.- ОГАСА, 2008.-Л 1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B955-08FE-499E-9BCC-589EEC1FF15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Гречановская И.Г. Экономика предприятия.- ОГАСА, 2008.-Л 1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EF3-E94C-49BB-9AEE-F0FE6F9B538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2.png"/><Relationship Id="rId6" Type="http://schemas.openxmlformats.org/officeDocument/2006/relationships/slide" Target="slide8.xml"/><Relationship Id="rId7" Type="http://schemas.openxmlformats.org/officeDocument/2006/relationships/image" Target="../media/image2.png"/><Relationship Id="rId8" Type="http://schemas.openxmlformats.org/officeDocument/2006/relationships/slide" Target="slide9.xml"/><Relationship Id="rId9" Type="http://schemas.openxmlformats.org/officeDocument/2006/relationships/image" Target="../media/image2.png"/><Relationship Id="rId10" Type="http://schemas.openxmlformats.org/officeDocument/2006/relationships/slide" Target="slide10.xml"/><Relationship Id="rId11" Type="http://schemas.openxmlformats.org/officeDocument/2006/relationships/image" Target="../media/image2.png"/><Relationship Id="rId12" Type="http://schemas.openxmlformats.org/officeDocument/2006/relationships/slide" Target="slide11.xml"/><Relationship Id="rId13" Type="http://schemas.openxmlformats.org/officeDocument/2006/relationships/image" Target="../media/image2.png"/><Relationship Id="rId14" Type="http://schemas.openxmlformats.org/officeDocument/2006/relationships/slide" Target="slide12.xml"/><Relationship Id="rId15" Type="http://schemas.openxmlformats.org/officeDocument/2006/relationships/image" Target="../media/image2.png"/><Relationship Id="rId16" Type="http://schemas.openxmlformats.org/officeDocument/2006/relationships/slide" Target="slide13.xml"/><Relationship Id="rId17" Type="http://schemas.openxmlformats.org/officeDocument/2006/relationships/image" Target="../media/image2.png"/><Relationship Id="rId18" Type="http://schemas.openxmlformats.org/officeDocument/2006/relationships/slide" Target="slide14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5.xm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image" Target="../media/image2.png"/><Relationship Id="rId6" Type="http://schemas.openxmlformats.org/officeDocument/2006/relationships/slide" Target="slide17.xml"/><Relationship Id="rId7" Type="http://schemas.openxmlformats.org/officeDocument/2006/relationships/image" Target="../media/image2.png"/><Relationship Id="rId8" Type="http://schemas.openxmlformats.org/officeDocument/2006/relationships/slide" Target="slide18.xml"/><Relationship Id="rId9" Type="http://schemas.openxmlformats.org/officeDocument/2006/relationships/image" Target="../media/image2.png"/><Relationship Id="rId10" Type="http://schemas.openxmlformats.org/officeDocument/2006/relationships/slide" Target="slide19.xml"/><Relationship Id="rId11" Type="http://schemas.openxmlformats.org/officeDocument/2006/relationships/image" Target="../media/image2.png"/><Relationship Id="rId12" Type="http://schemas.openxmlformats.org/officeDocument/2006/relationships/slide" Target="slide20.xml"/><Relationship Id="rId13" Type="http://schemas.openxmlformats.org/officeDocument/2006/relationships/image" Target="../media/image2.png"/><Relationship Id="rId14" Type="http://schemas.openxmlformats.org/officeDocument/2006/relationships/slide" Target="slide21.xml"/><Relationship Id="rId15" Type="http://schemas.openxmlformats.org/officeDocument/2006/relationships/image" Target="../media/image2.png"/><Relationship Id="rId16" Type="http://schemas.openxmlformats.org/officeDocument/2006/relationships/slide" Target="slide22.xml"/><Relationship Id="rId17" Type="http://schemas.openxmlformats.org/officeDocument/2006/relationships/image" Target="../media/image2.png"/><Relationship Id="rId18" Type="http://schemas.openxmlformats.org/officeDocument/2006/relationships/slide" Target="slide23.xml"/><Relationship Id="rId19" Type="http://schemas.openxmlformats.org/officeDocument/2006/relationships/slide" Target="slide4.xm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820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Narrow"/>
              </a:rPr>
              <a:t>Тема: Себестоимость продукции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EE5-7FAC-429E-8FC2-D8D3180620E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012000" y="5445000"/>
            <a:ext cx="2803320" cy="107964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780000" y="5486400"/>
            <a:ext cx="1871640" cy="103824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ПОКАЗАТЕЛИ СЕБЕСТОИМОСТИ ПРОДУКЦИИ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 Narrow"/>
              </a:rPr>
              <a:t>МИКРОЭКОНОМ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ИЗДЕРЖКИ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ВНУТРЕННИЕ И   ВНЕШНИЕ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ОБЩИЕ, СРЕДНИЕ, ПРЕДЕЛЬНЫЕ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 Narrow"/>
              </a:rPr>
              <a:t>ЭКОНОМИКА ПРЕДПРИЯТ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ЗАТРАТЫ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«ВНЕШНИЕ»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ОБЩИЕ, ОТДЕЛЬНЫХ ВИДОВ ПРОДУКЦИИ, СРЕДНИ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3995640" y="5445000"/>
                <a:ext cx="16002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6156360" y="5373720"/>
                <a:ext cx="26780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 гр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Т 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7" name="AutoShape 10"/>
          <p:cNvSpPr/>
          <p:nvPr/>
        </p:nvSpPr>
        <p:spPr>
          <a:xfrm>
            <a:off x="250920" y="6308640"/>
            <a:ext cx="3817800" cy="549360"/>
          </a:xfrm>
          <a:prstGeom prst="wedgeRoundRectCallout">
            <a:avLst>
              <a:gd name="adj1" fmla="val 73287"/>
              <a:gd name="adj2" fmla="val -57805"/>
              <a:gd name="adj3" fmla="val 16667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роизводства определенного вида продукции, ед. 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0" y="5877000"/>
            <a:ext cx="3240000" cy="431640"/>
          </a:xfrm>
          <a:prstGeom prst="wedgeRoundRectCallout">
            <a:avLst>
              <a:gd name="adj1" fmla="val 81453"/>
              <a:gd name="adj2" fmla="val -19486"/>
              <a:gd name="adj3" fmla="val 16667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бестоимость единицы продукции, грн../ед.;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0" y="5589720"/>
            <a:ext cx="3384720" cy="360360"/>
          </a:xfrm>
          <a:prstGeom prst="wedgeRoundRectCallout">
            <a:avLst>
              <a:gd name="adj1" fmla="val 91509"/>
              <a:gd name="adj2" fmla="val 5504"/>
              <a:gd name="adj3" fmla="val 16667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ие  затраты на производство определенного вида продукции, грн.;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1403280" y="6381720"/>
            <a:ext cx="4248360" cy="289080"/>
          </a:xfrm>
          <a:prstGeom prst="wedgeRoundRectCallout">
            <a:avLst>
              <a:gd name="adj1" fmla="val 101268"/>
              <a:gd name="adj2" fmla="val -75824"/>
              <a:gd name="adj3" fmla="val 16667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оимость выпуска товарной продукции, грн. 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1619280" y="5877000"/>
            <a:ext cx="3889440" cy="287280"/>
          </a:xfrm>
          <a:prstGeom prst="wedgeRoundRectCallout">
            <a:avLst>
              <a:gd name="adj1" fmla="val 106694"/>
              <a:gd name="adj2" fmla="val -96407"/>
              <a:gd name="adj3" fmla="val 16667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бестоимость товарной продукции, грн. 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1332000" y="5445000"/>
            <a:ext cx="4392360" cy="289080"/>
          </a:xfrm>
          <a:prstGeom prst="wedgeRoundRectCallout">
            <a:avLst>
              <a:gd name="adj1" fmla="val 58203"/>
              <a:gd name="adj2" fmla="val 124175"/>
              <a:gd name="adj3" fmla="val 16667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раты на 1 грн. товарной продукции, грн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Управляющая кнопка: назад 17">
            <a:hlinkClick r:id="rId5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24F2-51EC-4E42-9F32-1083B3158BA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2.КЛАССИФИКАЦИИ ЗАТРАТ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ЦЕНТРАМ ОТВЕТСТВЕННОСТИ (МЕСТУ ВОЗНИКНОВЕНИЯ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ВИДАМ ПРОДУКЦИИ, РАБОТ УСЛУГ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СТЕПЕНИ ЕДИНСТВА СОСТАВА (ОДНОРОДНОСТИ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СПОСОБУ ОТНЕСЕНИЯ НА ОТДЕЛЬНЫЕ ВИДЫ ПРОДУКЦИИ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ЗАВИСИМОСТИ ОТ ОБЪЕМА ПРОИЗВОДСТВА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КАЛЕНДАРНЫМ ПЕРИОДАМ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ЦЕЛЕСООБРАЗНОСТИ РАСХОДОВАНИ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ОПРЕДЕЛЕНИЮ ОТНОШЕНИЯ К СЕБЕСТОИМОСТИ ПРОДУКЦИИ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О ВИДАМ ЗАТРАТ (ЭКОНОМИЧЕСКИМ КРИТЕРИЯ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Управляющая кнопка: назад 5">
            <a:hlinkClick r:id="rId10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D117-3FAE-4FAB-9D83-2F03C490DEA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Narrow"/>
              </a:rPr>
              <a:t>КЛАССИФИКАЦИЯ ЗАТРАТ ПО  </a:t>
            </a: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СТЕПЕНИ ОДНОРОДНОСТИ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ОДНОЭЛЕМЕНТНЫЕ</a:t>
            </a: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(ПРОСТЫЕ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ИМЕЮТ ОДНОРОДНОЕ ЭКОНОМИЧЕСКОЕ СОДЕРЖАНИЕ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СЫРЬЕ И МАТЕРИАЛЫ; ТОПЛИВО И ЭНЕРГИЯ; ЗАРАБОТНАЯ ПЛАТА, АМОРТИЗАЦИ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34340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КОМПЛЕКСНЫ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РАЗНОРОДНЫЕ ПО СОСТАВУ, ВКЛЮЧАЮТ НЕСКОЛЬКО ТИПОВ ОДНОЭЛЕМЕНТНЫХ ЗАТРАТ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ОБЩЕПРОИЗВОДСТВЕННЫЕ, АДМИНИСТРАТИВНЫЕ, ЦЕХОВЫЕ И ДР. </a:t>
            </a: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Управляющая кнопка: назад 6">
            <a:hlinkClick r:id="rId3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2F9D-3046-4E4A-B230-500C32C38A4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ПО СПОСОБУ ОТНЕСЕНИЯ НА ОТДЕЛЬНЫЕ ВИДЫ ПРОДУКЦИИ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РЯМО ОТНОСЯТСЯ НА КОНКРЕТНУЮ ЕДИНИЦУ ПРОДУКЦИИ, Т.К. НЕПОСРЕДСТВЕННО СВЯЗАНЫ С ЕЕ ИЗГОТОВЛЕНИЕМ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КОСВЕННЫЕ (НЕПРЯМЫ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ОПРЕДЕЛЯЮТСЯ ПРОЦЕССОМ ПРОИЗВОДСТВА ВООБЩЕ, ПОЭТОМУ НЕ МОГУТ БЫТЬ ПРЯМО ОТНЕСЕНЫ НА ЕДИНИЦУ ПРОДУКЦИ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Управляющая кнопка: назад 6">
            <a:hlinkClick r:id="rId3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5545-5CB7-47B4-A27C-E951FDD8D6DA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Narrow"/>
              </a:rPr>
              <a:t>ЗАТРАТЫ </a:t>
            </a: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В ЗАВИСИМОСТИ ОТ ОБЪЕМА ПРОИЗВОДСТВА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835920" y="1777320"/>
            <a:ext cx="3406320" cy="774360"/>
          </a:xfrm>
          <a:prstGeom prst="bevel">
            <a:avLst>
              <a:gd name="adj" fmla="val 125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ОСТОЯННЫЕ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802040" y="1777320"/>
            <a:ext cx="3356280" cy="774360"/>
          </a:xfrm>
          <a:prstGeom prst="bevel">
            <a:avLst>
              <a:gd name="adj" fmla="val 125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ЕРЕМЕННЫЕ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28600" y="2743200"/>
            <a:ext cx="3809880" cy="60948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УСЛОВНО-ПОСТОЯННЫЕ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838080" y="4038480"/>
            <a:ext cx="3962520" cy="60984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НЕПРОПОРЦИОНАЛЬНЫЕ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105520" y="4038480"/>
            <a:ext cx="3809880" cy="60984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РОПОРЦИОНАЛЬНЫЕ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343400" y="5410080"/>
            <a:ext cx="2971800" cy="5335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РЕГРЕССИРУЮЩИЕ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cxnSp>
        <p:nvCxnSpPr>
          <p:cNvPr id="206" name="AutoShape 17"/>
          <p:cNvCxnSpPr>
            <a:stCxn id="201" idx="0"/>
            <a:endCxn id="203" idx="0"/>
          </p:cNvCxnSpPr>
          <p:nvPr/>
        </p:nvCxnSpPr>
        <p:spPr>
          <a:xfrm flipH="1">
            <a:off x="2819160" y="2541600"/>
            <a:ext cx="3661200" cy="14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21"/>
          <p:cNvCxnSpPr>
            <a:stCxn id="201" idx="1"/>
            <a:endCxn id="204" idx="0"/>
          </p:cNvCxnSpPr>
          <p:nvPr/>
        </p:nvCxnSpPr>
        <p:spPr>
          <a:xfrm>
            <a:off x="6479640" y="2541600"/>
            <a:ext cx="531000" cy="14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22"/>
          <p:cNvCxnSpPr>
            <a:stCxn id="200" idx="0"/>
            <a:endCxn id="202" idx="0"/>
          </p:cNvCxnSpPr>
          <p:nvPr/>
        </p:nvCxnSpPr>
        <p:spPr>
          <a:xfrm flipH="1">
            <a:off x="2133000" y="2541600"/>
            <a:ext cx="407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23"/>
          <p:cNvCxnSpPr>
            <a:stCxn id="203" idx="2"/>
            <a:endCxn id="210" idx="0"/>
          </p:cNvCxnSpPr>
          <p:nvPr/>
        </p:nvCxnSpPr>
        <p:spPr>
          <a:xfrm flipH="1">
            <a:off x="2400120" y="4648320"/>
            <a:ext cx="419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24"/>
          <p:cNvCxnSpPr>
            <a:stCxn id="203" idx="2"/>
            <a:endCxn id="205" idx="0"/>
          </p:cNvCxnSpPr>
          <p:nvPr/>
        </p:nvCxnSpPr>
        <p:spPr>
          <a:xfrm>
            <a:off x="2819160" y="4648320"/>
            <a:ext cx="3010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 txBox="1"/>
          <p:nvPr/>
        </p:nvSpPr>
        <p:spPr>
          <a:xfrm>
            <a:off x="685440" y="5410080"/>
            <a:ext cx="3429000" cy="5335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РОГРЕССИРУЮЩИ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0" y="2852640"/>
            <a:ext cx="4788000" cy="720720"/>
          </a:xfrm>
          <a:prstGeom prst="wedgeRoundRectCallout">
            <a:avLst>
              <a:gd name="adj1" fmla="val -4773"/>
              <a:gd name="adj2" fmla="val -113217"/>
              <a:gd name="adj3" fmla="val 16667"/>
            </a:avLst>
          </a:prstGeom>
          <a:solidFill>
            <a:srgbClr val="fbf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зменяются при изменениях объема производства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4" name="AutoShape 41"/>
          <p:cNvSpPr/>
          <p:nvPr/>
        </p:nvSpPr>
        <p:spPr>
          <a:xfrm>
            <a:off x="5003640" y="2732040"/>
            <a:ext cx="4140360" cy="1089360"/>
          </a:xfrm>
          <a:prstGeom prst="wedgeRoundRectCallout">
            <a:avLst>
              <a:gd name="adj1" fmla="val -22287"/>
              <a:gd name="adj2" fmla="val -89805"/>
              <a:gd name="adj3" fmla="val 16667"/>
            </a:avLst>
          </a:prstGeom>
          <a:solidFill>
            <a:srgbClr val="fbf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осредственно зависят от изменений объемов производства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5" name="Управляющая кнопка: назад 18">
            <a:hlinkClick r:id="rId1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AD4E-DC53-4378-8AE8-0730790C77F8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ПО КАЛЕНДАРНЫМ ПЕРИОДАМ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ТЕКУЩИЕ </a:t>
            </a: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– постоянные, обычные расходы или с периодичностью меньше месяца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ДОЛГОСРОЧНЫЕ</a:t>
            </a: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 – на договор более 9 месяцев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ОДНОРАЗОВЫЕ </a:t>
            </a: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 - осуществляются однократно и обеспечивают процесс производства длительное время (единовременные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Управляющая кнопка: назад 5">
            <a:hlinkClick r:id="rId4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264F-D574-45AA-BC19-467EB9D55523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8000" y="456840"/>
            <a:ext cx="701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ПО ОТНОШЕНИЮ К СЕБЕСТОИМОСТИ ПРОДУКЦИИ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РАСХОДЫ НА ПРОДУКЦИЮ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ФОРМИРУЮТ ПРОИЗВОДСТВЕННУЮ СЕБЕСТОИМОСТЬ ПРОДУКЦИИ  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СВЯЗАНЫ С ФУНКЦИЕЙ ПРОИЗВОДСТВА ПРОДУКЦИ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51280" y="1981080"/>
            <a:ext cx="52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 Narrow"/>
              </a:rPr>
              <a:t>РАСХОДЫ ПЕРИОД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НЕ ВКЛЮЧАЮТСЯ В ПРОИЗВОДСТВЕННУЮ СЕБЕСТОИМОСТЬ ПРОДУКЦИИ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НА УПРАВЛЕНИЕ, СБЫТ, ПРОЧИЕ ОПЕРАЦИОННЫЕ РАСХОДЫ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Управляющая кнопка: назад 6">
            <a:hlinkClick r:id="rId3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F86-B655-43E7-A12A-51DEFC19C284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Narrow"/>
              </a:rPr>
              <a:t>КЛАССИФИКАЦИЯ  ЗАТРАТ ПО</a:t>
            </a: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 ЭКОНОМИЧЕСКИМ КРИТЕРИЯМ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3809880" cy="432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 Narrow"/>
              </a:rPr>
              <a:t>ПО ЭКОНОМИЧЕСКИМ ЭЛЕМЕНТ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773000"/>
            <a:ext cx="3809880" cy="432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 Narrow"/>
              </a:rPr>
              <a:t>ПО СТАТЬЯМ КАЛЬКУЛЯ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11280" y="2781360"/>
            <a:ext cx="3733560" cy="345600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СМЕТА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ОИЗВОДСТ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ТРАТЫ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ЕДПРИЯТИЯ НА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УЮ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ЕЯТЕЛЬНОСТЬ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ЗА ОПРЕДЕЛЕННЫЙ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ЕРИОД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932360" y="2781360"/>
            <a:ext cx="3809880" cy="345600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КАЛЬКУЛЯЦИЯ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СЕБЕСТОИМОСТИ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ЧЕТ ЗАТРАТ НА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ИЗВОДСТВО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ЕДИНИЦЫ ПРОДУКЦИ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БОТ, УСЛУГ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1" name="Управляющая кнопка: назад 8">
            <a:hlinkClick r:id="rId3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Гречановская И.Г. Экономика предприятия.- ОГАСА, 2008.-Л 11. 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4194-674B-42A6-ABCC-F0711096D962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640560" cy="64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ГРУППИРОВКА ЗАТРАТ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04180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СЫРЬЕ И МАТЕРИАЛ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ОКУПНЫЕ ПОЛУФАБРИКАТЫ, КОМПЛЕКТУЮЩИЕ ИЗДЕЛИЯ, ПРОИЗВОДСТВЕННЫЕ УСЛУГИ И РАБОТЫ СТОРОННИХ ОРГАНИЗАЦИЙ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ТОПЛИВО И ЭНЕРГИЯ НА ТЕХНОЛОГИЧЕСКИЕ ЦЕЛ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ВОЗВРАТНЫЕ ОТХОДЫ (-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ОСНОВНАЯ И ДОПОЛНИТЕЛЬНАЯ ЗАРПЛАТА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ОТЧИСЛЕНИЯ НА СОЦИАЛЬНОЕ СТРАХОВАНИ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РАСХОДЫ НА СОДЕРЖАНИЕ И ЭКСПЛУАТАЦИЮ ОБОРУДОВАНИ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ОБЩЕПРОИЗВОДСТВЕННЫЕ РАСХОД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ОТЕРИ ОТ БРАКА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РОЧИЕ  ОПЕРАЦИОННЫЕ РАСХОД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СОПУТСТВУЮЩАЯ ПРОДУКЦИЯ (-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332000" y="1125360"/>
            <a:ext cx="73454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б) ПО СТАТЬЯМ КАЛЬКУЛЯЦИИ :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7" name="Управляющая кнопка: назад 6"/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2D7A-D894-4B43-B6F1-924AAB8D378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4.МЕТОДЫ ОПРЕДЕЛЕНИЯ СЕБЕСТОИМОСТИ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РЯМОГО СЧ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О ФАКТУ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НОРМАТИВНЫЙ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РАСЧЕТНО-АНАЛИТИЧЕСКИЙ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ФАКТОРНЫЙ (ПАРАМЕТРИЧЕСКИЙ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О ТЕХНИКО-ЭКОНОМИЧЕСКИМ ФАКТОРАМ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ИНДЕКСНЫ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ВЛИЯНИЕ ИЗМЕНЕНИЯ СТОИМОСТИ ЭКОНОМИЧЕСКИХ РЕСУРС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Arial Narrow"/>
              </a:rPr>
              <a:t>СИСТЕМА «ДИРЕКТ - КОСТИНГ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Управляющая кнопка: назад 5"/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2011320"/>
            <a:ext cx="9045360" cy="1212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1671480" y="639720"/>
            <a:ext cx="59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165320" y="101520"/>
            <a:ext cx="670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Департамент образования, науки и молодежной политики Воронежской области</a:t>
            </a:r>
            <a:br>
              <a:rPr sz="1400"/>
            </a:b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ГОБУ СПО ВО  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«Острогожский аграрный техникум»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6680" y="3219480"/>
            <a:ext cx="867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пециальность 230105  «Программное обеспечение ВТ и АС»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539520" y="64832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  <a:ea typeface="Arial"/>
              </a:rPr>
              <a:t>Острогожс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  <a:ea typeface="Arial"/>
              </a:rPr>
              <a:t>2014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4449600" y="4194000"/>
            <a:ext cx="46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Разработчик: Радченко Т.И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95400" y="4205160"/>
            <a:ext cx="4174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Рассмотрена на  заседании цикловой  комиссии экономических и бухгалтерских и юридических дисциплин</a:t>
            </a:r>
            <a:br>
              <a:rPr sz="1200"/>
            </a:br>
            <a:r>
              <a:rPr b="1" lang="ru-RU" sz="1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Протокол № 4 от 02.12. 2013 </a:t>
            </a:r>
            <a:br>
              <a:rPr sz="1200"/>
            </a:br>
            <a:r>
              <a:rPr b="1" lang="ru-RU" sz="1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Председатель  Е.В.Чалая 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C352-270E-4749-AD9A-634BC0DEADAF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532720" cy="107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Затраты, не включаемые в себестоимость реализованной продукции: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281800" cy="431964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АДМИНИСТРАТИВНЫЕ ЗАТРАТЫ</a:t>
            </a: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 - общехозяйственные затраты, направленные на обслуживание и управление предприятием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ЗАТРАТЫ НА СБЫТ</a:t>
            </a: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 - </a:t>
            </a: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связаны с реализацией (сбытом) продукции, товаров, работ, услуг - коммерческие: склад, реклама, таможенные сборы, маркетинг</a:t>
            </a: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РОЧИЕ ОПЕРАЦИОННЫЕ ЗАТРАТЫ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Исключение составляют </a:t>
            </a: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ПРИЗНАННЫЕ ЗАТРАТЫ</a:t>
            </a: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, которые при определенных условиях (соответствующих разрешениях) могут рассматриваться как производственные затрат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Управляющая кнопка: назад 5"/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684360" y="76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Закрепление изученного материала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7" name="Управляющая кнопка: назад 3"/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 Narrow"/>
              </a:rPr>
              <a:t>Перечислите функции себестоим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 Narrow"/>
              </a:rPr>
              <a:t>Какие затраты включаются в себестоимость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 Narrow"/>
              </a:rPr>
              <a:t>Какие затраты входят в себестоимость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 Narrow"/>
              </a:rPr>
              <a:t>Перечислите виды себестоим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 Narrow"/>
              </a:rPr>
              <a:t>Дайте определение себестоим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131920" y="846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Домашнее задание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324000" y="256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Сергеев И.В. Экономика предприятия. –М.: Финансы и статистика, 2007. – С. 187-196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1" name="Управляющая кнопка: назад 5"/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79280" y="6094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писок литературы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458640" y="2060640"/>
            <a:ext cx="7775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imes New Roman"/>
              </a:rPr>
              <a:t>Интернет ресурсы: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ttp://xreferat.ru/113/3539-1-sebestoimost-produkzii.html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lib.vvsu.ru/books/bakalavr02/page0092.asp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dist-cons.ru/modules/study/book1/section8.html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bibliofond.ru/view.aspx?id=11589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4" name="Управляющая кнопка: назад 3"/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1" descr=""/>
          <p:cNvPicPr/>
          <p:nvPr/>
        </p:nvPicPr>
        <p:blipFill>
          <a:blip r:embed="rId1"/>
          <a:stretch/>
        </p:blipFill>
        <p:spPr>
          <a:xfrm>
            <a:off x="665280" y="2505240"/>
            <a:ext cx="7813440" cy="927000"/>
          </a:xfrm>
          <a:prstGeom prst="rect">
            <a:avLst/>
          </a:prstGeom>
          <a:ln w="0">
            <a:noFill/>
          </a:ln>
        </p:spPr>
      </p:pic>
      <p:sp>
        <p:nvSpPr>
          <p:cNvPr id="256" name="Управляющая кнопка: в начало 2"/>
          <p:cNvSpPr/>
          <p:nvPr/>
        </p:nvSpPr>
        <p:spPr>
          <a:xfrm>
            <a:off x="0" y="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8525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  <a:path fill="darken" w="44048" h="21600">
                <a:moveTo>
                  <a:pt x="15018" y="3794"/>
                </a:moveTo>
                <a:lnTo>
                  <a:pt x="16680" y="3794"/>
                </a:lnTo>
                <a:lnTo>
                  <a:pt x="16680" y="17806"/>
                </a:lnTo>
                <a:lnTo>
                  <a:pt x="15018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Эта презентация предназначена для теоритического изучения Себестоимости продукции. Представленная в презентации информация в наглядной и доступной форме способствует изучению себестоимости продукции. Презентация может быть использована студентами при самостоятельной подготовке. Презентация разработана с соблюдением авторских прав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2" action="ppaction://hlinksldjump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4" action="ppaction://hlinksldjump"/>
              </a:rPr>
              <a:t>Сущность себестоим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6" action="ppaction://hlinksldjump"/>
              </a:rPr>
              <a:t>Функции себестоим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8" action="ppaction://hlinksldjump"/>
              </a:rPr>
              <a:t>Виды себестоим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0" action="ppaction://hlinksldjump"/>
              </a:rPr>
              <a:t>Показатели себестоим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2" action="ppaction://hlinksldjump"/>
              </a:rPr>
              <a:t>Классификации затрат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4" action="ppaction://hlinksldjump"/>
              </a:rPr>
              <a:t>Классификации затрат по степени однородн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6" action="ppaction://hlinksldjump"/>
              </a:rPr>
              <a:t>По способу отнесения на отдельные виды продукци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8" action="ppaction://hlinksldjump"/>
              </a:rPr>
              <a:t>Затраты в зависимости от </a:t>
            </a: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9" action="ppaction://hlinksldjump"/>
              </a:rPr>
              <a:t>обьема</a:t>
            </a: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20" action="ppaction://hlinksldjump"/>
              </a:rPr>
              <a:t> производств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203640" y="623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4876c"/>
                </a:solidFill>
                <a:uFillTx/>
                <a:latin typeface="Times New Roman"/>
                <a:hlinkClick r:id="rId21" action="ppaction://hlinksldjump"/>
              </a:rPr>
              <a:t>Содержание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одержание(1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2" action="ppaction://hlinksldjump"/>
              </a:rPr>
              <a:t>По календарным периодам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4" action="ppaction://hlinksldjump"/>
              </a:rPr>
              <a:t>По отношению к себестоимости продукци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6" action="ppaction://hlinksldjump"/>
              </a:rPr>
              <a:t>Классификация затрат по экономическим критериям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8" action="ppaction://hlinksldjump"/>
              </a:rPr>
              <a:t>Группировка затрат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0" action="ppaction://hlinksldjump"/>
              </a:rPr>
              <a:t>Методы определения себестоим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2" action="ppaction://hlinksldjump"/>
              </a:rPr>
              <a:t>Затраты не включаемые в себестоимост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4" action="ppaction://hlinksldjump"/>
              </a:rPr>
              <a:t>Закрепл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6" action="ppaction://hlinksldjump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4876c"/>
                </a:solidFill>
                <a:uFillTx/>
                <a:latin typeface="Arial Narrow"/>
                <a:hlinkClick r:id="rId18" action="ppaction://hlinksldjump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203640" y="623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4876c"/>
                </a:solidFill>
                <a:uFillTx/>
                <a:latin typeface="Times New Roman"/>
                <a:hlinkClick r:id="rId19" action="ppaction://hlinksldjump"/>
              </a:rPr>
              <a:t>Содержание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94920" y="1844640"/>
            <a:ext cx="806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овательная: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учить сущность, функции, виды, формы себестоимости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72880" indent="-272880" algn="just">
              <a:lnSpc>
                <a:spcPct val="11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ивающая: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ить логическое мышление, диалектического подхода к изучению себестоимости производства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72880" indent="-272880" algn="just">
              <a:lnSpc>
                <a:spcPct val="11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спитательная: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спитать интерес к изучаемой тем, привить любовь к экономической работе и выбранной профессии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Picture 4" descr="MCj02807390000[1]"/>
          <p:cNvPicPr/>
          <p:nvPr/>
        </p:nvPicPr>
        <p:blipFill>
          <a:blip r:embed="rId2"/>
          <a:stretch/>
        </p:blipFill>
        <p:spPr>
          <a:xfrm>
            <a:off x="6012000" y="189000"/>
            <a:ext cx="2160360" cy="1655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3059280" y="431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Цель: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Управляющая кнопка: назад 4">
            <a:hlinkClick r:id="rId3" action="ppaction://hlinksldjump"/>
          </p:cNvPr>
          <p:cNvSpPr/>
          <p:nvPr/>
        </p:nvSpPr>
        <p:spPr>
          <a:xfrm>
            <a:off x="9360" y="468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5" h="21600">
                <a:moveTo>
                  <a:pt x="5961" y="10800"/>
                </a:moveTo>
                <a:lnTo>
                  <a:pt x="19974" y="3794"/>
                </a:lnTo>
                <a:lnTo>
                  <a:pt x="19974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8840" y="1628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Narrow"/>
              </a:rPr>
              <a:t>Сущность себестоимости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0480" y="3317760"/>
            <a:ext cx="89931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Себестоимость  продукции (работ, услуг) - это  стоимостная  оценка  текущих  затрат на производство  и  реализацию продукции, работ, услуг.  Она   включает в  себя  затраты  на используемые  в процессе  производства  и  реализации  продукции (работ, услуг) природных  ресурсов, сырья, материалов, топлива, энергии, основных  фондов  в  части  амортизации, трудовых ресурсов (зарплата) и др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7E11-B677-423A-B267-9D9D3DE6634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Управляющая кнопка: назад 5">
            <a:hlinkClick r:id="rId1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Narrow"/>
              </a:rPr>
              <a:t>Функции себестоимости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5A02-E43C-4905-B4AE-372284C4A9F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179280" y="1628640"/>
            <a:ext cx="8651880" cy="4753080"/>
            <a:chOff x="179280" y="1628640"/>
            <a:chExt cx="8651880" cy="4753080"/>
          </a:xfrm>
        </p:grpSpPr>
        <p:sp>
          <p:nvSpPr>
            <p:cNvPr id="151" name="AutoShape 9"/>
            <p:cNvSpPr/>
            <p:nvPr/>
          </p:nvSpPr>
          <p:spPr>
            <a:xfrm>
              <a:off x="570240" y="1628640"/>
              <a:ext cx="771660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3225600" y="3638880"/>
              <a:ext cx="3078000" cy="153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3418920" y="3593520"/>
              <a:ext cx="2764800" cy="10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функции себестоимости</a:t>
              </a: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651240" y="1919880"/>
              <a:ext cx="4009320" cy="113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учет и контроль всех затрат на выпуск и реализацию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79280" y="3439080"/>
              <a:ext cx="3017520" cy="13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экономическое обоснование целесообразности вложения реальных инвестиций  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6" name="Text Box 4"/>
            <p:cNvSpPr/>
            <p:nvPr/>
          </p:nvSpPr>
          <p:spPr>
            <a:xfrm>
              <a:off x="5423040" y="5258160"/>
              <a:ext cx="339768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определение оптимальных размеров предприятия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7" name="Text Box 3"/>
            <p:cNvSpPr/>
            <p:nvPr/>
          </p:nvSpPr>
          <p:spPr>
            <a:xfrm>
              <a:off x="5055120" y="1917000"/>
              <a:ext cx="3577320" cy="113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база для формирования оптовой цены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8" name="Text Box 2"/>
            <p:cNvSpPr/>
            <p:nvPr/>
          </p:nvSpPr>
          <p:spPr>
            <a:xfrm>
              <a:off x="6285600" y="3439080"/>
              <a:ext cx="2545560" cy="15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экономическое обоснование и принятие любых управленческих решений и др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59" name="Прямоугольник 13"/>
          <p:cNvSpPr/>
          <p:nvPr/>
        </p:nvSpPr>
        <p:spPr>
          <a:xfrm>
            <a:off x="179280" y="5365800"/>
            <a:ext cx="458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база для определения  прибыли и рентабельности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Управляющая кнопка: назад 14">
            <a:hlinkClick r:id="rId1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1314-A9D3-4F7F-AAA8-1CFBFCAA986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5280" y="456840"/>
            <a:ext cx="7091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Narrow"/>
              </a:rPr>
              <a:t>ВИДЫ СЕБЕСТОИМОСТИ ПРОДУКЦИИ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560" y="1981080"/>
            <a:ext cx="4190760" cy="228600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 Narrow"/>
              </a:rPr>
              <a:t>ПО ВРЕМЕНИ ФОРМИРОВАНИЯ ЗАТРАТ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ЛАНОВ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ФАКТИЧЕСК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НОРМАТИВН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СМЕТНА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 Narrow"/>
              </a:rPr>
              <a:t>ПО МЕСТУ ФОРМИРОВАНИЯ ЗАТРАТ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ЦЕХОВ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РОИЗВОДСТВЕНН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ПОЛНА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4495320"/>
            <a:ext cx="4114800" cy="213372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 Narrow"/>
              </a:rPr>
              <a:t>ПО ДЛИТЕЛЬНОСТИ РАСЧЕТНОГО ПЕРИОД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МЕСЯЧН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КВАРТАЛЬНА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ГОДОВА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4190760"/>
            <a:ext cx="4038480" cy="2438280"/>
          </a:xfrm>
          <a:prstGeom prst="rect">
            <a:avLst/>
          </a:prstGeom>
          <a:solidFill>
            <a:srgbClr val="f5ebc1"/>
          </a:solidFill>
          <a:ln w="0">
            <a:noFill/>
          </a:ln>
          <a:effectLst>
            <a:outerShdw dist="153753" dir="2700000" blurRad="0" rotWithShape="0">
              <a:srgbClr val="0066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 Narrow"/>
              </a:rPr>
              <a:t>ПО СОСТАВУ ПРОДУКЦИ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ТОВАРНОЙ ПРОДУКЦ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ВАЛОВОЙ ПРОДУКЦ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РЕАЛИЗОВАННОЙ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Narrow"/>
              </a:rPr>
              <a:t>НЕЗАВЕРШЕН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Управляющая кнопка: назад 8">
            <a:hlinkClick r:id="rId5" action="ppaction://hlinksldjump"/>
          </p:cNvPr>
          <p:cNvSpPr/>
          <p:nvPr/>
        </p:nvSpPr>
        <p:spPr>
          <a:xfrm>
            <a:off x="0" y="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7:05:30Z</dcterms:created>
  <dc:creator>в</dc:creator>
  <dc:description/>
  <dc:language>en-US</dc:language>
  <cp:lastModifiedBy>User</cp:lastModifiedBy>
  <dcterms:modified xsi:type="dcterms:W3CDTF">2014-01-27T06:25:39Z</dcterms:modified>
  <cp:revision>77</cp:revision>
  <dc:subject/>
  <dc:title>СЕБЕСТОИМОСТЬ ПРОДУКЦИИ ПРЕДПРИЯТИЯ</dc:title>
</cp:coreProperties>
</file>