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720-246F-4AA1-BCA8-E21D6A7D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793-982D-4730-A996-319FCC6A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4EA-987E-4F4C-B599-32CB73E1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2E2-1075-4ACB-95C7-B12927B8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6C3-4BEB-4970-8981-814B4FC9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947-F04B-4345-A7AB-8D7DAB95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B2D-2454-4FDC-8787-923A0F77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58C-E914-416E-8FFC-7030DC93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802-4B6D-43C5-B4D7-E5D5BB77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837-CE42-4D22-8FC0-1757CDE5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BC5-2156-46E5-8266-9B687B8C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A67-6D1A-4488-898F-B7657AE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82B5-B01B-419C-8402-674B224CC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908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Муниципальное обще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Средняя общеобразовательная школа № 15»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город Глазов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Удмуртская 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53360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РЕНА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БЕЗУДАРНЫЕ 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для коррекции и профилактики дизорфографии у учащихся с ОНР 3 - 4 классов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часть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Ившина Татья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учитель – логопед,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7885080" y="573408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6700680" y="3633840"/>
            <a:ext cx="1521000" cy="1825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50920" y="1058760"/>
            <a:ext cx="146844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7236000" y="1127160"/>
            <a:ext cx="1411200" cy="1693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250920" y="3836880"/>
            <a:ext cx="1525320" cy="183060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10">
            <a:hlinkClick r:id="rId5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…рч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…т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…с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…з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…сне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22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44"/>
          <p:cNvSpPr/>
          <p:nvPr/>
        </p:nvSpPr>
        <p:spPr>
          <a:xfrm>
            <a:off x="716580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6"/>
          <p:cNvSpPr/>
          <p:nvPr/>
        </p:nvSpPr>
        <p:spPr>
          <a:xfrm>
            <a:off x="1476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8"/>
          <p:cNvSpPr/>
          <p:nvPr/>
        </p:nvSpPr>
        <p:spPr>
          <a:xfrm>
            <a:off x="147492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0"/>
          <p:cNvSpPr/>
          <p:nvPr/>
        </p:nvSpPr>
        <p:spPr>
          <a:xfrm>
            <a:off x="7164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5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7" name="WordArt 53"/>
          <p:cNvSpPr txBox="1"/>
          <p:nvPr/>
        </p:nvSpPr>
        <p:spPr>
          <a:xfrm>
            <a:off x="2195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8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9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0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1" name="WordArt 57"/>
          <p:cNvSpPr txBox="1"/>
          <p:nvPr/>
        </p:nvSpPr>
        <p:spPr>
          <a:xfrm>
            <a:off x="2195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2" name="WordArt 58"/>
          <p:cNvSpPr txBox="1"/>
          <p:nvPr/>
        </p:nvSpPr>
        <p:spPr>
          <a:xfrm>
            <a:off x="2125800" y="350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59"/>
          <p:cNvSpPr txBox="1"/>
          <p:nvPr/>
        </p:nvSpPr>
        <p:spPr>
          <a:xfrm>
            <a:off x="6443640" y="350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4" name="WordArt 60"/>
          <p:cNvSpPr txBox="1"/>
          <p:nvPr/>
        </p:nvSpPr>
        <p:spPr>
          <a:xfrm>
            <a:off x="219708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5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6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7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8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9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0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1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68" descr=""/>
          <p:cNvPicPr/>
          <p:nvPr/>
        </p:nvPicPr>
        <p:blipFill>
          <a:blip r:embed="rId1"/>
          <a:stretch/>
        </p:blipFill>
        <p:spPr>
          <a:xfrm>
            <a:off x="7608960" y="1413000"/>
            <a:ext cx="15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77521E-007 L 0.18906 0.00463 E">
                                      <p:cBhvr>
                                        <p:cTn id="846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457E-006 L 0.23628 0.00462 E">
                                      <p:cBhvr>
                                        <p:cTn id="85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2125 0.00463 E">
                                      <p:cBhvr>
                                        <p:cTn id="856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50786E-006 L -0.2125 -0.00578 E">
                                      <p:cBhvr>
                                        <p:cTn id="861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011E-007 L -0.22812 0.00463 E">
                                      <p:cBhvr>
                                        <p:cTn id="866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7123E-006 L 0.22049 -0.00578 E">
                                      <p:cBhvr>
                                        <p:cTn id="871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0555E-006 L -0.27552 -0.00578 E">
                                      <p:cBhvr>
                                        <p:cTn id="876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878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81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883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891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31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…щ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бес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…р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гл…д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р…т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л…ж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…ж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68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>
            <a:off x="147492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4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5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6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7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9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0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1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2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3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4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6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7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08" name="Picture 68" descr=""/>
          <p:cNvPicPr/>
          <p:nvPr/>
        </p:nvPicPr>
        <p:blipFill>
          <a:blip r:embed="rId1"/>
          <a:stretch/>
        </p:blipFill>
        <p:spPr>
          <a:xfrm>
            <a:off x="-228600" y="4005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1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7326 0.00463 E">
                                      <p:cBhvr>
                                        <p:cTn id="956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958" nodeType="clickEffect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125 0.00462 E">
                                      <p:cBhvr>
                                        <p:cTn id="961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63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7734E-006 L -0.23611 0.00463 E">
                                      <p:cBhvr>
                                        <p:cTn id="966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71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2812 -0.00601 E">
                                      <p:cBhvr>
                                        <p:cTn id="976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978" nodeType="clickEffect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5972 -0.00602 E">
                                      <p:cBhvr>
                                        <p:cTn id="981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86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996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004" nodeType="clickEffect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012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9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20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036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ди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…тр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нят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л…в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же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лос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бул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…л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14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39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0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1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2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3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4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5" name="WordArt 59"/>
          <p:cNvSpPr txBox="1"/>
          <p:nvPr/>
        </p:nvSpPr>
        <p:spPr>
          <a:xfrm>
            <a:off x="219564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6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7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8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9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0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1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2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3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54" name="Picture 68" descr=""/>
          <p:cNvPicPr/>
          <p:nvPr/>
        </p:nvPicPr>
        <p:blipFill>
          <a:blip r:embed="rId1"/>
          <a:stretch/>
        </p:blipFill>
        <p:spPr>
          <a:xfrm>
            <a:off x="7524720" y="401004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053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7552 -0.00601 E">
                                      <p:cBhvr>
                                        <p:cTn id="1056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05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21267 0.00463 E">
                                      <p:cBhvr>
                                        <p:cTn id="1061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9114 0.00462 E">
                                      <p:cBhvr>
                                        <p:cTn id="1066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75301E-007 L 0.23646 0.00532 E">
                                      <p:cBhvr>
                                        <p:cTn id="1071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82146E-006 L 0.18889 0.0044 E">
                                      <p:cBhvr>
                                        <p:cTn id="1076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078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108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083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7552 -0.00602 E">
                                      <p:cBhvr>
                                        <p:cTn id="1086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088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096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112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120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128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144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1267 -0.00578 E">
                                      <p:cBhvr>
                                        <p:cTn id="1147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149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…сти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д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д…в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м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рдит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стяни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6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5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9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0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1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2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00" name="Picture 68" descr=""/>
          <p:cNvPicPr/>
          <p:nvPr/>
        </p:nvPicPr>
        <p:blipFill>
          <a:blip r:embed="rId1"/>
          <a:stretch/>
        </p:blipFill>
        <p:spPr>
          <a:xfrm>
            <a:off x="-108000" y="1341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158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4699E-006 L 0.21285 0.0044 E">
                                      <p:cBhvr>
                                        <p:cTn id="1161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163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5764 -0.00601 E">
                                      <p:cBhvr>
                                        <p:cTn id="1166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168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7326 -0.00602 E">
                                      <p:cBhvr>
                                        <p:cTn id="1171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22847 -0.00509 E">
                                      <p:cBhvr>
                                        <p:cTn id="117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78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81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83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6753 0.00463 E">
                                      <p:cBhvr>
                                        <p:cTn id="118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188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31475 -0.00602 E">
                                      <p:cBhvr>
                                        <p:cTn id="119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193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201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209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6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217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225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233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241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6545 0.00463 E">
                                      <p:cBhvr>
                                        <p:cTn id="1252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3348000" y="76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…люх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в…тшал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с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…род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…лить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…р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06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48"/>
          <p:cNvSpPr/>
          <p:nvPr/>
        </p:nvSpPr>
        <p:spPr>
          <a:xfrm>
            <a:off x="1476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1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2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3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4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5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6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7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8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9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0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1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2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3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4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5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46" name="Picture 70" descr=""/>
          <p:cNvPicPr/>
          <p:nvPr/>
        </p:nvPicPr>
        <p:blipFill>
          <a:blip r:embed="rId1"/>
          <a:stretch/>
        </p:blipFill>
        <p:spPr>
          <a:xfrm>
            <a:off x="7608960" y="1413000"/>
            <a:ext cx="15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63" nodeType="clickEffect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23628 0.0044 E">
                                      <p:cBhvr>
                                        <p:cTn id="1266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68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3611 0.00463 E">
                                      <p:cBhvr>
                                        <p:cTn id="1271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1273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9687 0.00462 E">
                                      <p:cBhvr>
                                        <p:cTn id="1276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1278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75301E-007 L -0.2757 0.00532 E">
                                      <p:cBhvr>
                                        <p:cTn id="1281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283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86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7552 0.00463 E">
                                      <p:cBhvr>
                                        <p:cTn id="1291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93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20486 -0.00602 E">
                                      <p:cBhvr>
                                        <p:cTn id="1296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3628 -0.00578 E">
                                      <p:cBhvr>
                                        <p:cTn id="1301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2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303" nodeType="clickEffect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311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27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343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351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8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359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…ж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…б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б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…дск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гри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…лбен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…скну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р…д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52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49"/>
          <p:cNvSpPr/>
          <p:nvPr/>
        </p:nvSpPr>
        <p:spPr>
          <a:xfrm>
            <a:off x="147492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7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8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9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0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1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2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3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4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5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6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7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8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9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0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1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92" name="Picture 68" descr=""/>
          <p:cNvPicPr/>
          <p:nvPr/>
        </p:nvPicPr>
        <p:blipFill>
          <a:blip r:embed="rId1"/>
          <a:stretch/>
        </p:blipFill>
        <p:spPr>
          <a:xfrm>
            <a:off x="-228600" y="119700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1368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22847 -0.00601 E">
                                      <p:cBhvr>
                                        <p:cTn id="1371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373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4392 0.00463 E">
                                      <p:cBhvr>
                                        <p:cTn id="1376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378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6753 0.00462 E">
                                      <p:cBhvr>
                                        <p:cTn id="1381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383" nodeType="clickEffect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75301E-007 L -0.2599 0.00532 E">
                                      <p:cBhvr>
                                        <p:cTn id="1386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388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16545 -0.00601 E">
                                      <p:cBhvr>
                                        <p:cTn id="1391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1393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0.00463 E">
                                      <p:cBhvr>
                                        <p:cTn id="1396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1398" nodeType="clickEffect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18906 -0.00602 E">
                                      <p:cBhvr>
                                        <p:cTn id="1401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403" nodeType="clickEffect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518E-006 L -0.2125 -0.00578 E">
                                      <p:cBhvr>
                                        <p:cTn id="1406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416" nodeType="clickEffect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24" nodeType="clickEffect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440" nodeType="clickEffect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448" nodeType="clickEffect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145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464" nodeType="clickEffect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з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…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л…д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…ну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гов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…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…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…н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98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44"/>
          <p:cNvSpPr/>
          <p:nvPr/>
        </p:nvSpPr>
        <p:spPr>
          <a:xfrm>
            <a:off x="147636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46"/>
          <p:cNvSpPr/>
          <p:nvPr/>
        </p:nvSpPr>
        <p:spPr>
          <a:xfrm>
            <a:off x="1476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48"/>
          <p:cNvSpPr/>
          <p:nvPr/>
        </p:nvSpPr>
        <p:spPr>
          <a:xfrm>
            <a:off x="14763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49"/>
          <p:cNvSpPr/>
          <p:nvPr/>
        </p:nvSpPr>
        <p:spPr>
          <a:xfrm>
            <a:off x="716436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50"/>
          <p:cNvSpPr/>
          <p:nvPr/>
        </p:nvSpPr>
        <p:spPr>
          <a:xfrm>
            <a:off x="7164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1"/>
          <p:cNvSpPr/>
          <p:nvPr/>
        </p:nvSpPr>
        <p:spPr>
          <a:xfrm>
            <a:off x="7164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3" name="WordArt 53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4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5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6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7" name="WordArt 57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8" name="WordArt 58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9" name="WordArt 59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0" name="WordArt 60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1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2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3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4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5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6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7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38" name="Picture 72" descr=""/>
          <p:cNvPicPr/>
          <p:nvPr/>
        </p:nvPicPr>
        <p:blipFill>
          <a:blip r:embed="rId1"/>
          <a:stretch/>
        </p:blipFill>
        <p:spPr>
          <a:xfrm>
            <a:off x="7524720" y="342900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473" nodeType="clickEffect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7521E-007 L -0.29114 0.00463 E">
                                      <p:cBhvr>
                                        <p:cTn id="1476" dur="2000" fill="hold"/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1478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457E-006 L 0.22847 -0.00578 E">
                                      <p:cBhvr>
                                        <p:cTn id="1481" dur="2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483" nodeType="clickEffect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22031 0.00463 E">
                                      <p:cBhvr>
                                        <p:cTn id="1486" dur="2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488" nodeType="clickEffect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91" dur="2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1493" nodeType="clickEffect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011E-007 L -0.28333 -0.00601 E">
                                      <p:cBhvr>
                                        <p:cTn id="1496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7123E-006 L 0.2283 0.00462 E">
                                      <p:cBhvr>
                                        <p:cTn id="1501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0555E-006 L 0.26788 -0.00578 E">
                                      <p:cBhvr>
                                        <p:cTn id="1506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508" nodeType="clickEffect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8233E-006 L 0.23628 -0.00578 E">
                                      <p:cBhvr>
                                        <p:cTn id="1511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2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1513" nodeType="clickEffect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529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1545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553" nodeType="clickEffect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561" nodeType="clickEffect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69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843280" y="140652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…затель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…ш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ж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тёр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рнов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к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що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44" name="Rectangle 28"/>
          <p:cNvSpPr/>
          <p:nvPr/>
        </p:nvSpPr>
        <p:spPr>
          <a:xfrm>
            <a:off x="1332000" y="206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133200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1332000" y="27097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1"/>
          <p:cNvSpPr/>
          <p:nvPr/>
        </p:nvSpPr>
        <p:spPr>
          <a:xfrm>
            <a:off x="1332000" y="33559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2"/>
          <p:cNvSpPr/>
          <p:nvPr/>
        </p:nvSpPr>
        <p:spPr>
          <a:xfrm>
            <a:off x="1332000" y="40053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3"/>
          <p:cNvSpPr/>
          <p:nvPr/>
        </p:nvSpPr>
        <p:spPr>
          <a:xfrm>
            <a:off x="1332000" y="46544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4"/>
          <p:cNvSpPr/>
          <p:nvPr/>
        </p:nvSpPr>
        <p:spPr>
          <a:xfrm>
            <a:off x="1332000" y="530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5"/>
          <p:cNvSpPr/>
          <p:nvPr/>
        </p:nvSpPr>
        <p:spPr>
          <a:xfrm>
            <a:off x="1332000" y="59500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6"/>
          <p:cNvSpPr/>
          <p:nvPr/>
        </p:nvSpPr>
        <p:spPr>
          <a:xfrm>
            <a:off x="629928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7"/>
          <p:cNvSpPr/>
          <p:nvPr/>
        </p:nvSpPr>
        <p:spPr>
          <a:xfrm>
            <a:off x="6299280" y="205884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8"/>
          <p:cNvSpPr/>
          <p:nvPr/>
        </p:nvSpPr>
        <p:spPr>
          <a:xfrm>
            <a:off x="6299280" y="270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9"/>
          <p:cNvSpPr/>
          <p:nvPr/>
        </p:nvSpPr>
        <p:spPr>
          <a:xfrm>
            <a:off x="6299280" y="33544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0"/>
          <p:cNvSpPr/>
          <p:nvPr/>
        </p:nvSpPr>
        <p:spPr>
          <a:xfrm>
            <a:off x="6299280" y="4003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1"/>
          <p:cNvSpPr/>
          <p:nvPr/>
        </p:nvSpPr>
        <p:spPr>
          <a:xfrm>
            <a:off x="6299280" y="465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2"/>
          <p:cNvSpPr/>
          <p:nvPr/>
        </p:nvSpPr>
        <p:spPr>
          <a:xfrm>
            <a:off x="6299280" y="52992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3"/>
          <p:cNvSpPr/>
          <p:nvPr/>
        </p:nvSpPr>
        <p:spPr>
          <a:xfrm>
            <a:off x="6299280" y="594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44"/>
          <p:cNvSpPr/>
          <p:nvPr/>
        </p:nvSpPr>
        <p:spPr>
          <a:xfrm>
            <a:off x="7164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45"/>
          <p:cNvSpPr/>
          <p:nvPr/>
        </p:nvSpPr>
        <p:spPr>
          <a:xfrm>
            <a:off x="7164360" y="2127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46"/>
          <p:cNvSpPr/>
          <p:nvPr/>
        </p:nvSpPr>
        <p:spPr>
          <a:xfrm>
            <a:off x="1476360" y="27748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47"/>
          <p:cNvSpPr/>
          <p:nvPr/>
        </p:nvSpPr>
        <p:spPr>
          <a:xfrm>
            <a:off x="1474920" y="3422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48"/>
          <p:cNvSpPr/>
          <p:nvPr/>
        </p:nvSpPr>
        <p:spPr>
          <a:xfrm>
            <a:off x="1476360" y="40719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49"/>
          <p:cNvSpPr/>
          <p:nvPr/>
        </p:nvSpPr>
        <p:spPr>
          <a:xfrm>
            <a:off x="1476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0"/>
          <p:cNvSpPr/>
          <p:nvPr/>
        </p:nvSpPr>
        <p:spPr>
          <a:xfrm>
            <a:off x="7164360" y="47196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52"/>
          <p:cNvSpPr txBox="1"/>
          <p:nvPr/>
        </p:nvSpPr>
        <p:spPr>
          <a:xfrm>
            <a:off x="6443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69" name="WordArt 53"/>
          <p:cNvSpPr txBox="1"/>
          <p:nvPr/>
        </p:nvSpPr>
        <p:spPr>
          <a:xfrm>
            <a:off x="212400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0" name="WordArt 54"/>
          <p:cNvSpPr txBox="1"/>
          <p:nvPr/>
        </p:nvSpPr>
        <p:spPr>
          <a:xfrm>
            <a:off x="212400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1" name="WordArt 55"/>
          <p:cNvSpPr txBox="1"/>
          <p:nvPr/>
        </p:nvSpPr>
        <p:spPr>
          <a:xfrm>
            <a:off x="644364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2" name="WordArt 56"/>
          <p:cNvSpPr txBox="1"/>
          <p:nvPr/>
        </p:nvSpPr>
        <p:spPr>
          <a:xfrm>
            <a:off x="644364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3" name="WordArt 57"/>
          <p:cNvSpPr txBox="1"/>
          <p:nvPr/>
        </p:nvSpPr>
        <p:spPr>
          <a:xfrm>
            <a:off x="212400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4" name="WordArt 58"/>
          <p:cNvSpPr txBox="1"/>
          <p:nvPr/>
        </p:nvSpPr>
        <p:spPr>
          <a:xfrm>
            <a:off x="6445080" y="342252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5" name="WordArt 59"/>
          <p:cNvSpPr txBox="1"/>
          <p:nvPr/>
        </p:nvSpPr>
        <p:spPr>
          <a:xfrm>
            <a:off x="2124000" y="34225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6" name="WordArt 60"/>
          <p:cNvSpPr txBox="1"/>
          <p:nvPr/>
        </p:nvSpPr>
        <p:spPr>
          <a:xfrm>
            <a:off x="2124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7" name="WordArt 61"/>
          <p:cNvSpPr txBox="1"/>
          <p:nvPr/>
        </p:nvSpPr>
        <p:spPr>
          <a:xfrm>
            <a:off x="644364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8" name="WordArt 62"/>
          <p:cNvSpPr txBox="1"/>
          <p:nvPr/>
        </p:nvSpPr>
        <p:spPr>
          <a:xfrm>
            <a:off x="6443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9" name="WordArt 63"/>
          <p:cNvSpPr txBox="1"/>
          <p:nvPr/>
        </p:nvSpPr>
        <p:spPr>
          <a:xfrm>
            <a:off x="212580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0" name="WordArt 64"/>
          <p:cNvSpPr txBox="1"/>
          <p:nvPr/>
        </p:nvSpPr>
        <p:spPr>
          <a:xfrm>
            <a:off x="212400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1" name="WordArt 65"/>
          <p:cNvSpPr txBox="1"/>
          <p:nvPr/>
        </p:nvSpPr>
        <p:spPr>
          <a:xfrm>
            <a:off x="644364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2" name="WordArt 66"/>
          <p:cNvSpPr txBox="1"/>
          <p:nvPr/>
        </p:nvSpPr>
        <p:spPr>
          <a:xfrm>
            <a:off x="644364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3" name="WordArt 67"/>
          <p:cNvSpPr txBox="1"/>
          <p:nvPr/>
        </p:nvSpPr>
        <p:spPr>
          <a:xfrm>
            <a:off x="212400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84" name="Picture 68" descr=""/>
          <p:cNvPicPr/>
          <p:nvPr/>
        </p:nvPicPr>
        <p:blipFill>
          <a:blip r:embed="rId1"/>
          <a:stretch/>
        </p:blipFill>
        <p:spPr>
          <a:xfrm>
            <a:off x="-108000" y="4005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6" dur="indefinite" restart="never" nodeType="tmRoot">
          <p:childTnLst>
            <p:seq>
              <p:cTn id="1577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2239E-006 L 0.16545 -0.00509 E">
                                      <p:cBhvr>
                                        <p:cTn id="1581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4561E-006 L 0.22066 0.00555 E">
                                      <p:cBhvr>
                                        <p:cTn id="1586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3117E-006 L -0.23611 -0.00509 E">
                                      <p:cBhvr>
                                        <p:cTn id="1591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39408E-006 L -0.28351 -0.00417 E">
                                      <p:cBhvr>
                                        <p:cTn id="159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4792E-006 L -0.30694 0.00532 E">
                                      <p:cBhvr>
                                        <p:cTn id="1601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063 L 0.22031 -0.00508 E">
                                      <p:cBhvr>
                                        <p:cTn id="1606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1064 L -0.29114 -0.00509 E">
                                      <p:cBhvr>
                                        <p:cTn id="1611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6 L -0.27552 -0.00486 E">
                                      <p:cBhvr>
                                        <p:cTn id="1616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626" nodeType="clickEffect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3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634" nodeType="clickEffect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1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1642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9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650" nodeType="clickEffect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5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66" nodeType="clickEffect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674" nodeType="clickEffect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м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хоньк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п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…вес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…ку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сёл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рвив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в…т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9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45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49"/>
          <p:cNvSpPr/>
          <p:nvPr/>
        </p:nvSpPr>
        <p:spPr>
          <a:xfrm>
            <a:off x="1476360" y="60278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0"/>
          <p:cNvSpPr/>
          <p:nvPr/>
        </p:nvSpPr>
        <p:spPr>
          <a:xfrm>
            <a:off x="7164360" y="4726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51"/>
          <p:cNvSpPr/>
          <p:nvPr/>
        </p:nvSpPr>
        <p:spPr>
          <a:xfrm>
            <a:off x="1474920" y="53802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5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9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0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1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2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30" name="Picture 68" descr=""/>
          <p:cNvPicPr/>
          <p:nvPr/>
        </p:nvPicPr>
        <p:blipFill>
          <a:blip r:embed="rId1"/>
          <a:stretch/>
        </p:blipFill>
        <p:spPr>
          <a:xfrm>
            <a:off x="7608960" y="47628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683" nodeType="clickEffect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9913 -0.00601 E">
                                      <p:cBhvr>
                                        <p:cTn id="1686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7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1688" nodeType="clickEffect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30694 0.00463 E">
                                      <p:cBhvr>
                                        <p:cTn id="1691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1693" nodeType="clickEffect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8125 0.00462 E">
                                      <p:cBhvr>
                                        <p:cTn id="1696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7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1698" nodeType="clickEffect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18906 -0.00509 E">
                                      <p:cBhvr>
                                        <p:cTn id="1701" dur="2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1703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22847 -0.00601 E">
                                      <p:cBhvr>
                                        <p:cTn id="170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08" nodeType="clickEffect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1758E-007 L 0.18108 -0.00601 E">
                                      <p:cBhvr>
                                        <p:cTn id="1711" dur="2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1713" nodeType="clickEffect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30694 0.00462 E">
                                      <p:cBhvr>
                                        <p:cTn id="1716" dur="2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7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1718" nodeType="clickEffect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518E-006 L -0.22031 0.00463 E">
                                      <p:cBhvr>
                                        <p:cTn id="1721" dur="20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723" nodeType="clickEffect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8" restart="whenNotActive" nodeType="interactiveSeq" fill="hold">
                <p:stCondLst>
                  <p:cond evt="onClick">
                    <p:tgtEl>
                      <p:spTgt spid="818"/>
                    </p:tgtEl>
                  </p:cond>
                </p:stCondLst>
                <p:childTnLst>
                  <p:par>
                    <p:cTn id="1739" nodeType="clickEffect" fill="hold">
                      <p:stCondLst>
                        <p:cond evt="onClick">
                          <p:tgtEl>
                            <p:spTgt spid="818"/>
                          </p:tgtEl>
                        </p:cond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6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1747" nodeType="clickEffect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4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1755" nodeType="clickEffect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63" nodeType="clickEffect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0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771" nodeType="clickEffect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1779" nodeType="clickEffect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топа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…д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лю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…рё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…д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…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фей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836" name="Rectangle 29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0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1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5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6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7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8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9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0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1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3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44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45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46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47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48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49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50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51"/>
          <p:cNvSpPr/>
          <p:nvPr/>
        </p:nvSpPr>
        <p:spPr>
          <a:xfrm>
            <a:off x="7164360" y="4726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52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WordArt 53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1" name="WordArt 54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2" name="WordArt 55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3" name="WordArt 56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4" name="WordArt 57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5" name="WordArt 58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6" name="WordArt 59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7" name="WordArt 60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8" name="WordArt 61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9" name="WordArt 62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0" name="WordArt 63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1" name="WordArt 64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2" name="WordArt 65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3" name="WordArt 66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4" name="WordArt 67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5" name="WordArt 68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76" name="Picture 71" descr=""/>
          <p:cNvPicPr/>
          <p:nvPr/>
        </p:nvPicPr>
        <p:blipFill>
          <a:blip r:embed="rId1"/>
          <a:stretch/>
        </p:blipFill>
        <p:spPr>
          <a:xfrm>
            <a:off x="-84240" y="4005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6" dur="indefinite" restart="never" nodeType="tmRoot">
          <p:childTnLst>
            <p:seq>
              <p:cTn id="1787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18125 -0.00601 E">
                                      <p:cBhvr>
                                        <p:cTn id="1791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86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86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3611 -0.00601 E">
                                      <p:cBhvr>
                                        <p:cTn id="1796" dur="2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8906 -0.00602 E">
                                      <p:cBhvr>
                                        <p:cTn id="1801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22847 -0.00509 E">
                                      <p:cBhvr>
                                        <p:cTn id="1806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23628 0.0044 E">
                                      <p:cBhvr>
                                        <p:cTn id="1811" dur="20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1758E-007 L 0.22049 -0.00601 E">
                                      <p:cBhvr>
                                        <p:cTn id="1816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21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6545 -0.00578 E">
                                      <p:cBhvr>
                                        <p:cTn id="1826" dur="20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862"/>
                    </p:tgtEl>
                  </p:cond>
                </p:stCondLst>
                <p:childTnLst>
                  <p:par>
                    <p:cTn id="1836" nodeType="clickEffect" fill="hold">
                      <p:stCondLst>
                        <p:cond evt="onClick">
                          <p:tgtEl>
                            <p:spTgt spid="862"/>
                          </p:tgtEl>
                        </p:cond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1844" nodeType="clickEffect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1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1852" nodeType="clickEffect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0" nodeType="clickEffect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868" nodeType="clickEffect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5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876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1884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284328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89440" y="1413000"/>
          <a:ext cx="2950920" cy="5121000"/>
        </p:xfrm>
        <a:graphic>
          <a:graphicData uri="http://schemas.openxmlformats.org/drawingml/2006/table">
            <a:tbl>
              <a:tblPr/>
              <a:tblGrid>
                <a:gridCol w="2950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вч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…ж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п…ш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рем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…н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…нь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скуч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л…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3" name="Rectangle 26"/>
          <p:cNvSpPr/>
          <p:nvPr/>
        </p:nvSpPr>
        <p:spPr>
          <a:xfrm>
            <a:off x="1403280" y="20638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1403280" y="141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1403280" y="27115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1403280" y="33577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1403280" y="4006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1403280" y="46562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1403280" y="53038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1403280" y="5951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6156360" y="141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6156360" y="2060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6156360" y="2708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6156360" y="3355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6156360" y="40053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6156360" y="465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6156360" y="5300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6156360" y="5948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2"/>
          <p:cNvSpPr/>
          <p:nvPr/>
        </p:nvSpPr>
        <p:spPr>
          <a:xfrm>
            <a:off x="7021440" y="148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1"/>
          <p:cNvSpPr/>
          <p:nvPr/>
        </p:nvSpPr>
        <p:spPr>
          <a:xfrm>
            <a:off x="702000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2"/>
          <p:cNvSpPr/>
          <p:nvPr/>
        </p:nvSpPr>
        <p:spPr>
          <a:xfrm>
            <a:off x="702144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3"/>
          <p:cNvSpPr/>
          <p:nvPr/>
        </p:nvSpPr>
        <p:spPr>
          <a:xfrm>
            <a:off x="702144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4"/>
          <p:cNvSpPr/>
          <p:nvPr/>
        </p:nvSpPr>
        <p:spPr>
          <a:xfrm>
            <a:off x="702000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5"/>
          <p:cNvSpPr/>
          <p:nvPr/>
        </p:nvSpPr>
        <p:spPr>
          <a:xfrm>
            <a:off x="702144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6"/>
          <p:cNvSpPr/>
          <p:nvPr/>
        </p:nvSpPr>
        <p:spPr>
          <a:xfrm>
            <a:off x="154764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7"/>
          <p:cNvSpPr/>
          <p:nvPr/>
        </p:nvSpPr>
        <p:spPr>
          <a:xfrm>
            <a:off x="154764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9" descr=""/>
          <p:cNvPicPr/>
          <p:nvPr/>
        </p:nvPicPr>
        <p:blipFill>
          <a:blip r:embed="rId1"/>
          <a:stretch/>
        </p:blipFill>
        <p:spPr>
          <a:xfrm>
            <a:off x="7608960" y="1484280"/>
            <a:ext cx="1500120" cy="1800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0">
            <a:hlinkClick r:id="" action="ppaction://hlinkshowjump?jump=previousslide"/>
          </p:cNvPr>
          <p:cNvSpPr/>
          <p:nvPr/>
        </p:nvSpPr>
        <p:spPr>
          <a:xfrm>
            <a:off x="108000" y="602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>
            <a:off x="2195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65"/>
          <p:cNvSpPr txBox="1"/>
          <p:nvPr/>
        </p:nvSpPr>
        <p:spPr>
          <a:xfrm>
            <a:off x="637236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66"/>
          <p:cNvSpPr txBox="1"/>
          <p:nvPr/>
        </p:nvSpPr>
        <p:spPr>
          <a:xfrm>
            <a:off x="2195640" y="213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67"/>
          <p:cNvSpPr txBox="1"/>
          <p:nvPr/>
        </p:nvSpPr>
        <p:spPr>
          <a:xfrm>
            <a:off x="6372360" y="213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195640" y="278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6372360" y="278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19708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637236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WordArt 74"/>
          <p:cNvSpPr txBox="1"/>
          <p:nvPr/>
        </p:nvSpPr>
        <p:spPr>
          <a:xfrm>
            <a:off x="219708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WordArt 75"/>
          <p:cNvSpPr txBox="1"/>
          <p:nvPr/>
        </p:nvSpPr>
        <p:spPr>
          <a:xfrm>
            <a:off x="637236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76"/>
          <p:cNvSpPr txBox="1"/>
          <p:nvPr/>
        </p:nvSpPr>
        <p:spPr>
          <a:xfrm>
            <a:off x="2195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77"/>
          <p:cNvSpPr txBox="1"/>
          <p:nvPr/>
        </p:nvSpPr>
        <p:spPr>
          <a:xfrm>
            <a:off x="637236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78"/>
          <p:cNvSpPr txBox="1"/>
          <p:nvPr/>
        </p:nvSpPr>
        <p:spPr>
          <a:xfrm>
            <a:off x="2195640" y="537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79"/>
          <p:cNvSpPr txBox="1"/>
          <p:nvPr/>
        </p:nvSpPr>
        <p:spPr>
          <a:xfrm>
            <a:off x="6372360" y="537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3" name="WordArt 80"/>
          <p:cNvSpPr txBox="1"/>
          <p:nvPr/>
        </p:nvSpPr>
        <p:spPr>
          <a:xfrm>
            <a:off x="2197080" y="602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81"/>
          <p:cNvSpPr txBox="1"/>
          <p:nvPr/>
        </p:nvSpPr>
        <p:spPr>
          <a:xfrm>
            <a:off x="6372360" y="602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2239E-006 L 0.15764 -0.00509 E"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47826E-006 L 0.18125 0.00532 E">
                                      <p:cBhvr>
                                        <p:cTn id="1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00532 L 0.24236 -0.00532 E">
                                      <p:cBhvr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75301E-007 L 0.16528 -0.00509 E">
                                      <p:cBhvr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4792E-006 L 0.18108 -0.00509 E">
                                      <p:cBhvr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2886E-006 L -0.24392 -0.00508 E">
                                      <p:cBhvr>
                                        <p:cTn id="3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17299E-006 L -0.28333 -0.00532 E">
                                      <p:cBhvr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9769E-007 L 0.22049 -0.00509 E">
                                      <p:cBhvr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2843280" y="140652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р…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б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рех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ч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е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стерств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…г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…льча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882" name="Rectangle 28"/>
          <p:cNvSpPr/>
          <p:nvPr/>
        </p:nvSpPr>
        <p:spPr>
          <a:xfrm>
            <a:off x="1332000" y="206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133200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30"/>
          <p:cNvSpPr/>
          <p:nvPr/>
        </p:nvSpPr>
        <p:spPr>
          <a:xfrm>
            <a:off x="1332000" y="27097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1"/>
          <p:cNvSpPr/>
          <p:nvPr/>
        </p:nvSpPr>
        <p:spPr>
          <a:xfrm>
            <a:off x="1332000" y="33559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32"/>
          <p:cNvSpPr/>
          <p:nvPr/>
        </p:nvSpPr>
        <p:spPr>
          <a:xfrm>
            <a:off x="1332000" y="40053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3"/>
          <p:cNvSpPr/>
          <p:nvPr/>
        </p:nvSpPr>
        <p:spPr>
          <a:xfrm>
            <a:off x="1332000" y="46544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34"/>
          <p:cNvSpPr/>
          <p:nvPr/>
        </p:nvSpPr>
        <p:spPr>
          <a:xfrm>
            <a:off x="1332000" y="530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5"/>
          <p:cNvSpPr/>
          <p:nvPr/>
        </p:nvSpPr>
        <p:spPr>
          <a:xfrm>
            <a:off x="1332000" y="59500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6"/>
          <p:cNvSpPr/>
          <p:nvPr/>
        </p:nvSpPr>
        <p:spPr>
          <a:xfrm>
            <a:off x="629928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6299280" y="205884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8"/>
          <p:cNvSpPr/>
          <p:nvPr/>
        </p:nvSpPr>
        <p:spPr>
          <a:xfrm>
            <a:off x="6299280" y="270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39"/>
          <p:cNvSpPr/>
          <p:nvPr/>
        </p:nvSpPr>
        <p:spPr>
          <a:xfrm>
            <a:off x="6299280" y="33544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0"/>
          <p:cNvSpPr/>
          <p:nvPr/>
        </p:nvSpPr>
        <p:spPr>
          <a:xfrm>
            <a:off x="6299280" y="4003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1"/>
          <p:cNvSpPr/>
          <p:nvPr/>
        </p:nvSpPr>
        <p:spPr>
          <a:xfrm>
            <a:off x="6299280" y="465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6299280" y="52992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43"/>
          <p:cNvSpPr/>
          <p:nvPr/>
        </p:nvSpPr>
        <p:spPr>
          <a:xfrm>
            <a:off x="6299280" y="594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44"/>
          <p:cNvSpPr/>
          <p:nvPr/>
        </p:nvSpPr>
        <p:spPr>
          <a:xfrm>
            <a:off x="7165800" y="147780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46"/>
          <p:cNvSpPr/>
          <p:nvPr/>
        </p:nvSpPr>
        <p:spPr>
          <a:xfrm>
            <a:off x="147492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47"/>
          <p:cNvSpPr/>
          <p:nvPr/>
        </p:nvSpPr>
        <p:spPr>
          <a:xfrm>
            <a:off x="7164360" y="3422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48"/>
          <p:cNvSpPr/>
          <p:nvPr/>
        </p:nvSpPr>
        <p:spPr>
          <a:xfrm>
            <a:off x="7164360" y="4070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49"/>
          <p:cNvSpPr/>
          <p:nvPr/>
        </p:nvSpPr>
        <p:spPr>
          <a:xfrm>
            <a:off x="7164360" y="60148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50"/>
          <p:cNvSpPr/>
          <p:nvPr/>
        </p:nvSpPr>
        <p:spPr>
          <a:xfrm>
            <a:off x="7164360" y="47196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51"/>
          <p:cNvSpPr/>
          <p:nvPr/>
        </p:nvSpPr>
        <p:spPr>
          <a:xfrm>
            <a:off x="7164360" y="5367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WordArt 52"/>
          <p:cNvSpPr txBox="1"/>
          <p:nvPr/>
        </p:nvSpPr>
        <p:spPr>
          <a:xfrm>
            <a:off x="6443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7" name="WordArt 53"/>
          <p:cNvSpPr txBox="1"/>
          <p:nvPr/>
        </p:nvSpPr>
        <p:spPr>
          <a:xfrm>
            <a:off x="212400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8" name="WordArt 54"/>
          <p:cNvSpPr txBox="1"/>
          <p:nvPr/>
        </p:nvSpPr>
        <p:spPr>
          <a:xfrm>
            <a:off x="212400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9" name="WordArt 55"/>
          <p:cNvSpPr txBox="1"/>
          <p:nvPr/>
        </p:nvSpPr>
        <p:spPr>
          <a:xfrm>
            <a:off x="644364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0" name="WordArt 56"/>
          <p:cNvSpPr txBox="1"/>
          <p:nvPr/>
        </p:nvSpPr>
        <p:spPr>
          <a:xfrm>
            <a:off x="644364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1" name="WordArt 57"/>
          <p:cNvSpPr txBox="1"/>
          <p:nvPr/>
        </p:nvSpPr>
        <p:spPr>
          <a:xfrm>
            <a:off x="212400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2" name="WordArt 58"/>
          <p:cNvSpPr txBox="1"/>
          <p:nvPr/>
        </p:nvSpPr>
        <p:spPr>
          <a:xfrm>
            <a:off x="6445080" y="342252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3" name="WordArt 59"/>
          <p:cNvSpPr txBox="1"/>
          <p:nvPr/>
        </p:nvSpPr>
        <p:spPr>
          <a:xfrm>
            <a:off x="2124000" y="34225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4" name="WordArt 60"/>
          <p:cNvSpPr txBox="1"/>
          <p:nvPr/>
        </p:nvSpPr>
        <p:spPr>
          <a:xfrm>
            <a:off x="2124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5" name="WordArt 61"/>
          <p:cNvSpPr txBox="1"/>
          <p:nvPr/>
        </p:nvSpPr>
        <p:spPr>
          <a:xfrm>
            <a:off x="644364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6" name="WordArt 62"/>
          <p:cNvSpPr txBox="1"/>
          <p:nvPr/>
        </p:nvSpPr>
        <p:spPr>
          <a:xfrm>
            <a:off x="6443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7" name="WordArt 63"/>
          <p:cNvSpPr txBox="1"/>
          <p:nvPr/>
        </p:nvSpPr>
        <p:spPr>
          <a:xfrm>
            <a:off x="212580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8" name="WordArt 64"/>
          <p:cNvSpPr txBox="1"/>
          <p:nvPr/>
        </p:nvSpPr>
        <p:spPr>
          <a:xfrm>
            <a:off x="212400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9" name="WordArt 65"/>
          <p:cNvSpPr txBox="1"/>
          <p:nvPr/>
        </p:nvSpPr>
        <p:spPr>
          <a:xfrm>
            <a:off x="644364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0" name="WordArt 66"/>
          <p:cNvSpPr txBox="1"/>
          <p:nvPr/>
        </p:nvSpPr>
        <p:spPr>
          <a:xfrm>
            <a:off x="644364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1" name="WordArt 67"/>
          <p:cNvSpPr txBox="1"/>
          <p:nvPr/>
        </p:nvSpPr>
        <p:spPr>
          <a:xfrm>
            <a:off x="212400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22" name="Picture 70" descr=""/>
          <p:cNvPicPr/>
          <p:nvPr/>
        </p:nvPicPr>
        <p:blipFill>
          <a:blip r:embed="rId1"/>
          <a:stretch/>
        </p:blipFill>
        <p:spPr>
          <a:xfrm>
            <a:off x="7524720" y="393696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893" nodeType="clickEffect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2239E-006 L 0.27569 -0.00509 E">
                                      <p:cBhvr>
                                        <p:cTn id="1896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1898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4561E-006 L 0.21267 -0.00509 E">
                                      <p:cBhvr>
                                        <p:cTn id="1901" dur="2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2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903" nodeType="clickEffect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3117E-006 L -0.29114 0.00555 E">
                                      <p:cBhvr>
                                        <p:cTn id="1906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7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908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1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191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4792E-006 L 0.18125 -0.00509 E">
                                      <p:cBhvr>
                                        <p:cTn id="1916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2886E-006 L 0.14948 -0.00508 E">
                                      <p:cBhvr>
                                        <p:cTn id="1921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2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923" nodeType="clickEffect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32192E-006 L 0.25782 -0.00555 E">
                                      <p:cBhvr>
                                        <p:cTn id="1926" dur="2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7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1928" nodeType="clickEffect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1758E-006 L 0.21267 -0.00486 E">
                                      <p:cBhvr>
                                        <p:cTn id="1931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2" restart="whenNotActive" nodeType="interactiveSeq" fill="hold">
                <p:stCondLst>
                  <p:cond evt="onClick">
                    <p:tgtEl>
                      <p:spTgt spid="906"/>
                    </p:tgtEl>
                  </p:cond>
                </p:stCondLst>
                <p:childTnLst>
                  <p:par>
                    <p:cTn id="1933" nodeType="clickEffect" fill="hold">
                      <p:stCondLst>
                        <p:cond evt="onClick">
                          <p:tgtEl>
                            <p:spTgt spid="906"/>
                          </p:tgtEl>
                        </p:cond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909"/>
                    </p:tgtEl>
                  </p:cond>
                </p:stCondLst>
                <p:childTnLst>
                  <p:par>
                    <p:cTn id="1941" nodeType="clickEffect" fill="hold">
                      <p:stCondLst>
                        <p:cond evt="onClick">
                          <p:tgtEl>
                            <p:spTgt spid="909"/>
                          </p:tgtEl>
                        </p:cond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5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965" nodeType="clickEffect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2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973" nodeType="clickEffect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0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981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…рен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ви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гот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…щад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…рчи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мер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н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х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28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46"/>
          <p:cNvSpPr/>
          <p:nvPr/>
        </p:nvSpPr>
        <p:spPr>
          <a:xfrm>
            <a:off x="1474920" y="27874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3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4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5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6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7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8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9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0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1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2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3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4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5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6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7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68" name="Picture 68" descr=""/>
          <p:cNvPicPr/>
          <p:nvPr/>
        </p:nvPicPr>
        <p:blipFill>
          <a:blip r:embed="rId1"/>
          <a:stretch/>
        </p:blipFill>
        <p:spPr>
          <a:xfrm>
            <a:off x="-108000" y="141300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1998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18125 0.0044 E">
                                      <p:cBhvr>
                                        <p:cTn id="2001" dur="2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2" restart="whenNotActive" nodeType="interactiveSeq" fill="hold">
                <p:stCondLst>
                  <p:cond evt="onClick">
                    <p:tgtEl>
                      <p:spTgt spid="955"/>
                    </p:tgtEl>
                  </p:cond>
                </p:stCondLst>
                <p:childTnLst>
                  <p:par>
                    <p:cTn id="2003" nodeType="clickEffect" fill="hold">
                      <p:stCondLst>
                        <p:cond evt="onClick">
                          <p:tgtEl>
                            <p:spTgt spid="955"/>
                          </p:tgtEl>
                        </p:cond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7552 0.00463 E">
                                      <p:cBhvr>
                                        <p:cTn id="2006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7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2008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7552 -0.00602 E">
                                      <p:cBhvr>
                                        <p:cTn id="2011" dur="2000" fill="hold"/>
                                        <p:tgtEl>
                                          <p:spTgt spid="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013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19687 -0.00509 E">
                                      <p:cBhvr>
                                        <p:cTn id="2016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7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018" nodeType="clickEffect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19687 -0.00601 E">
                                      <p:cBhvr>
                                        <p:cTn id="2021" dur="2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2023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2026" dur="2000" fill="hold"/>
                                        <p:tgtEl>
                                          <p:spTgt spid="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7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2028" nodeType="clickEffect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2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15764 -0.00602 E">
                                      <p:cBhvr>
                                        <p:cTn id="2031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033" nodeType="clickEffect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1267 -0.00578 E">
                                      <p:cBhvr>
                                        <p:cTn id="2036" dur="2000" fill="hold"/>
                                        <p:tgtEl>
                                          <p:spTgt spid="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7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38" nodeType="clickEffect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5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2046" nodeType="clickEffect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3" restart="whenNotActive" nodeType="interactiveSeq" fill="hold">
                <p:stCondLst>
                  <p:cond evt="onClick">
                    <p:tgtEl>
                      <p:spTgt spid="957"/>
                    </p:tgtEl>
                  </p:cond>
                </p:stCondLst>
                <p:childTnLst>
                  <p:par>
                    <p:cTn id="2054" nodeType="clickEffect" fill="hold">
                      <p:stCondLst>
                        <p:cond evt="onClick">
                          <p:tgtEl>
                            <p:spTgt spid="957"/>
                          </p:tgtEl>
                        </p:cond>
                      </p:stCondLst>
                      <p:childTnLst>
                        <p:par>
                          <p:cTn id="2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1" restart="whenNotActive" nodeType="interactiveSeq" fill="hold">
                <p:stCondLst>
                  <p:cond evt="onClick">
                    <p:tgtEl>
                      <p:spTgt spid="958"/>
                    </p:tgtEl>
                  </p:cond>
                </p:stCondLst>
                <p:childTnLst>
                  <p:par>
                    <p:cTn id="2062" nodeType="clickEffect" fill="hold">
                      <p:stCondLst>
                        <p:cond evt="onClick">
                          <p:tgtEl>
                            <p:spTgt spid="958"/>
                          </p:tgtEl>
                        </p:cond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2070" nodeType="clickEffect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963"/>
                    </p:tgtEl>
                  </p:cond>
                </p:stCondLst>
                <p:childTnLst>
                  <p:par>
                    <p:cTn id="2078" nodeType="clickEffect" fill="hold">
                      <p:stCondLst>
                        <p:cond evt="onClick">
                          <p:tgtEl>
                            <p:spTgt spid="963"/>
                          </p:tgtEl>
                        </p:cond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3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094" nodeType="clickEffect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2843280" y="147960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…л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р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лзк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…п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…р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74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6"/>
          <p:cNvSpPr/>
          <p:nvPr/>
        </p:nvSpPr>
        <p:spPr>
          <a:xfrm>
            <a:off x="6299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7"/>
          <p:cNvSpPr/>
          <p:nvPr/>
        </p:nvSpPr>
        <p:spPr>
          <a:xfrm>
            <a:off x="6299280" y="21319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8"/>
          <p:cNvSpPr/>
          <p:nvPr/>
        </p:nvSpPr>
        <p:spPr>
          <a:xfrm>
            <a:off x="6299280" y="2779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9"/>
          <p:cNvSpPr/>
          <p:nvPr/>
        </p:nvSpPr>
        <p:spPr>
          <a:xfrm>
            <a:off x="6299280" y="34275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0"/>
          <p:cNvSpPr/>
          <p:nvPr/>
        </p:nvSpPr>
        <p:spPr>
          <a:xfrm>
            <a:off x="6299280" y="4076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41"/>
          <p:cNvSpPr/>
          <p:nvPr/>
        </p:nvSpPr>
        <p:spPr>
          <a:xfrm>
            <a:off x="6299280" y="4724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42"/>
          <p:cNvSpPr/>
          <p:nvPr/>
        </p:nvSpPr>
        <p:spPr>
          <a:xfrm>
            <a:off x="6299280" y="5372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43"/>
          <p:cNvSpPr/>
          <p:nvPr/>
        </p:nvSpPr>
        <p:spPr>
          <a:xfrm>
            <a:off x="6299280" y="6019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44"/>
          <p:cNvSpPr/>
          <p:nvPr/>
        </p:nvSpPr>
        <p:spPr>
          <a:xfrm>
            <a:off x="7165800" y="15508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46"/>
          <p:cNvSpPr/>
          <p:nvPr/>
        </p:nvSpPr>
        <p:spPr>
          <a:xfrm>
            <a:off x="7164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48"/>
          <p:cNvSpPr/>
          <p:nvPr/>
        </p:nvSpPr>
        <p:spPr>
          <a:xfrm>
            <a:off x="7164360" y="4143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49"/>
          <p:cNvSpPr/>
          <p:nvPr/>
        </p:nvSpPr>
        <p:spPr>
          <a:xfrm>
            <a:off x="7164360" y="60879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50"/>
          <p:cNvSpPr/>
          <p:nvPr/>
        </p:nvSpPr>
        <p:spPr>
          <a:xfrm>
            <a:off x="1476360" y="4791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51"/>
          <p:cNvSpPr/>
          <p:nvPr/>
        </p:nvSpPr>
        <p:spPr>
          <a:xfrm>
            <a:off x="7164360" y="5440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WordArt 52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9" name="WordArt 53"/>
          <p:cNvSpPr txBox="1"/>
          <p:nvPr/>
        </p:nvSpPr>
        <p:spPr>
          <a:xfrm>
            <a:off x="212400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0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1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2" name="WordArt 56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3" name="WordArt 57"/>
          <p:cNvSpPr txBox="1"/>
          <p:nvPr/>
        </p:nvSpPr>
        <p:spPr>
          <a:xfrm>
            <a:off x="212400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4" name="WordArt 58"/>
          <p:cNvSpPr txBox="1"/>
          <p:nvPr/>
        </p:nvSpPr>
        <p:spPr>
          <a:xfrm>
            <a:off x="6445080" y="34956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5" name="WordArt 59"/>
          <p:cNvSpPr txBox="1"/>
          <p:nvPr/>
        </p:nvSpPr>
        <p:spPr>
          <a:xfrm>
            <a:off x="2124000" y="34956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6" name="WordArt 60"/>
          <p:cNvSpPr txBox="1"/>
          <p:nvPr/>
        </p:nvSpPr>
        <p:spPr>
          <a:xfrm>
            <a:off x="212400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7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8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9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0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1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2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3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14" name="Picture 68" descr=""/>
          <p:cNvPicPr/>
          <p:nvPr/>
        </p:nvPicPr>
        <p:blipFill>
          <a:blip r:embed="rId1"/>
          <a:stretch/>
        </p:blipFill>
        <p:spPr>
          <a:xfrm>
            <a:off x="7608960" y="76500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restart="whenNotActive" nodeType="interactiveSeq" fill="hold">
                <p:stCondLst>
                  <p:cond evt="onClick">
                    <p:tgtEl>
                      <p:spTgt spid="999"/>
                    </p:tgtEl>
                  </p:cond>
                </p:stCondLst>
                <p:childTnLst>
                  <p:par>
                    <p:cTn id="2103" nodeType="clickEffect" fill="hold">
                      <p:stCondLst>
                        <p:cond evt="onClick">
                          <p:tgtEl>
                            <p:spTgt spid="999"/>
                          </p:tgtEl>
                        </p:cond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52451E-006 L 0.22066 0.00532 E">
                                      <p:cBhvr>
                                        <p:cTn id="2106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1000"/>
                    </p:tgtEl>
                  </p:cond>
                </p:stCondLst>
                <p:childTnLst>
                  <p:par>
                    <p:cTn id="2108" nodeType="clickEffect" fill="hold">
                      <p:stCondLst>
                        <p:cond evt="onClick">
                          <p:tgtEl>
                            <p:spTgt spid="1000"/>
                          </p:tgtEl>
                        </p:cond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11" dur="2000" fill="hold"/>
                                        <p:tgtEl>
                                          <p:spTgt spid="10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113" nodeType="clickEffect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29047E-007 L 0.22066 -0.00509 E">
                                      <p:cBhvr>
                                        <p:cTn id="2116" dur="2000" fill="hold"/>
                                        <p:tgtEl>
                                          <p:spTgt spid="1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118" nodeType="clickEffect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90379E-006 L -0.2599 0.00602 E">
                                      <p:cBhvr>
                                        <p:cTn id="2121" dur="2000" fill="hold"/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2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123" nodeType="clickEffect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5005E-006 L 0.18906 -0.00532 E">
                                      <p:cBhvr>
                                        <p:cTn id="2126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7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128" nodeType="clickEffect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31" dur="2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2" restart="whenNotActive" nodeType="interactiveSeq" fill="hold">
                <p:stCondLst>
                  <p:cond evt="onClick">
                    <p:tgtEl>
                      <p:spTgt spid="1010"/>
                    </p:tgtEl>
                  </p:cond>
                </p:stCondLst>
                <p:childTnLst>
                  <p:par>
                    <p:cTn id="2133" nodeType="clickEffect" fill="hold">
                      <p:stCondLst>
                        <p:cond evt="onClick">
                          <p:tgtEl>
                            <p:spTgt spid="1010"/>
                          </p:tgtEl>
                        </p:cond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03515E-007 L 0.23628 0.00532 E">
                                      <p:cBhvr>
                                        <p:cTn id="2136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7" restart="whenNotActive" nodeType="interactiveSeq" fill="hold">
                <p:stCondLst>
                  <p:cond evt="onClick">
                    <p:tgtEl>
                      <p:spTgt spid="998"/>
                    </p:tgtEl>
                  </p:cond>
                </p:stCondLst>
                <p:childTnLst>
                  <p:par>
                    <p:cTn id="2138" nodeType="clickEffect" fill="hold">
                      <p:stCondLst>
                        <p:cond evt="onClick">
                          <p:tgtEl>
                            <p:spTgt spid="998"/>
                          </p:tgtEl>
                        </p:cond>
                      </p:stCondLst>
                      <p:childTnLst>
                        <p:par>
                          <p:cTn id="2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5" restart="whenNotActive" nodeType="interactiveSeq" fill="hold">
                <p:stCondLst>
                  <p:cond evt="onClick">
                    <p:tgtEl>
                      <p:spTgt spid="1001"/>
                    </p:tgtEl>
                  </p:cond>
                </p:stCondLst>
                <p:childTnLst>
                  <p:par>
                    <p:cTn id="2146" nodeType="clickEffect" fill="hold">
                      <p:stCondLst>
                        <p:cond evt="onClick">
                          <p:tgtEl>
                            <p:spTgt spid="1001"/>
                          </p:tgtEl>
                        </p:cond>
                      </p:stCondLst>
                      <p:childTnLst>
                        <p:par>
                          <p:cTn id="2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1002"/>
                    </p:tgtEl>
                  </p:cond>
                </p:stCondLst>
                <p:childTnLst>
                  <p:par>
                    <p:cTn id="2154" nodeType="clickEffect" fill="hold">
                      <p:stCondLst>
                        <p:cond evt="onClick">
                          <p:tgtEl>
                            <p:spTgt spid="1002"/>
                          </p:tgtEl>
                        </p:cond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9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170" nodeType="clickEffect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7" restart="whenNotActive" nodeType="interactiveSeq" fill="hold">
                <p:stCondLst>
                  <p:cond evt="onClick">
                    <p:tgtEl>
                      <p:spTgt spid="1009"/>
                    </p:tgtEl>
                  </p:cond>
                </p:stCondLst>
                <p:childTnLst>
                  <p:par>
                    <p:cTn id="2178" nodeType="clickEffect" fill="hold">
                      <p:stCondLst>
                        <p:cond evt="onClick">
                          <p:tgtEl>
                            <p:spTgt spid="1009"/>
                          </p:tgtEl>
                        </p:cond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5" restart="whenNotActive" nodeType="interactiveSeq" fill="hold">
                <p:stCondLst>
                  <p:cond evt="onClick">
                    <p:tgtEl>
                      <p:spTgt spid="1011"/>
                    </p:tgtEl>
                  </p:cond>
                </p:stCondLst>
                <p:childTnLst>
                  <p:par>
                    <p:cTn id="2186" nodeType="clickEffect" fill="hold">
                      <p:stCondLst>
                        <p:cond evt="onClick">
                          <p:tgtEl>
                            <p:spTgt spid="1011"/>
                          </p:tgtEl>
                        </p:cond>
                      </p:stCondLst>
                      <p:childTnLst>
                        <p:par>
                          <p:cTn id="2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3" restart="whenNotActive" nodeType="interactiveSeq" fill="hold">
                <p:stCondLst>
                  <p:cond evt="onClick">
                    <p:tgtEl>
                      <p:spTgt spid="1012"/>
                    </p:tgtEl>
                  </p:cond>
                </p:stCondLst>
                <p:childTnLst>
                  <p:par>
                    <p:cTn id="2194" nodeType="clickEffect" fill="hold">
                      <p:stCondLst>
                        <p:cond evt="onClick">
                          <p:tgtEl>
                            <p:spTgt spid="1012"/>
                          </p:tgtEl>
                        </p:cond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1" restart="whenNotActive" nodeType="interactiveSeq" fill="hold">
                <p:stCondLst>
                  <p:cond evt="onClick">
                    <p:tgtEl>
                      <p:spTgt spid="1013"/>
                    </p:tgtEl>
                  </p:cond>
                </p:stCondLst>
                <p:childTnLst>
                  <p:par>
                    <p:cTn id="2202" nodeType="clickEffect" fill="hold">
                      <p:stCondLst>
                        <p:cond evt="onClick">
                          <p:tgtEl>
                            <p:spTgt spid="1013"/>
                          </p:tgtEl>
                        </p:cond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05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191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8"/>
          <p:cNvSpPr/>
          <p:nvPr/>
        </p:nvSpPr>
        <p:spPr>
          <a:xfrm>
            <a:off x="341964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…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р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ж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рц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чёв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20" name="Rectangle 29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0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1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2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3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4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35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6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7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8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39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0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41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2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3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44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45"/>
          <p:cNvSpPr/>
          <p:nvPr/>
        </p:nvSpPr>
        <p:spPr>
          <a:xfrm>
            <a:off x="7165800" y="155592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46"/>
          <p:cNvSpPr/>
          <p:nvPr/>
        </p:nvSpPr>
        <p:spPr>
          <a:xfrm>
            <a:off x="1474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47"/>
          <p:cNvSpPr/>
          <p:nvPr/>
        </p:nvSpPr>
        <p:spPr>
          <a:xfrm>
            <a:off x="7164360" y="28576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48"/>
          <p:cNvSpPr/>
          <p:nvPr/>
        </p:nvSpPr>
        <p:spPr>
          <a:xfrm>
            <a:off x="1474920" y="35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49"/>
          <p:cNvSpPr/>
          <p:nvPr/>
        </p:nvSpPr>
        <p:spPr>
          <a:xfrm>
            <a:off x="716436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50"/>
          <p:cNvSpPr/>
          <p:nvPr/>
        </p:nvSpPr>
        <p:spPr>
          <a:xfrm>
            <a:off x="716436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51"/>
          <p:cNvSpPr/>
          <p:nvPr/>
        </p:nvSpPr>
        <p:spPr>
          <a:xfrm>
            <a:off x="1476360" y="479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52"/>
          <p:cNvSpPr/>
          <p:nvPr/>
        </p:nvSpPr>
        <p:spPr>
          <a:xfrm>
            <a:off x="7164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WordArt 53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5" name="WordArt 54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6" name="WordArt 55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7" name="WordArt 56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8" name="WordArt 57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9" name="WordArt 58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0" name="WordArt 59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1" name="WordArt 60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2" name="WordArt 61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3" name="WordArt 62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4" name="WordArt 63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5" name="WordArt 64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6" name="WordArt 65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7" name="WordArt 66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8" name="WordArt 67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9" name="WordArt 68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60" name="Picture 69" descr=""/>
          <p:cNvPicPr/>
          <p:nvPr/>
        </p:nvPicPr>
        <p:blipFill>
          <a:blip r:embed="rId1"/>
          <a:stretch/>
        </p:blipFill>
        <p:spPr>
          <a:xfrm>
            <a:off x="-84240" y="126828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6" dur="indefinite" restart="never" nodeType="tmRoot">
          <p:childTnLst>
            <p:seq>
              <p:cTn id="2207" restart="whenNotActive" nodeType="interactiveSeq" fill="hold">
                <p:stCondLst>
                  <p:cond evt="onClick">
                    <p:tgtEl>
                      <p:spTgt spid="1045"/>
                    </p:tgtEl>
                  </p:cond>
                </p:stCondLst>
                <p:childTnLst>
                  <p:par>
                    <p:cTn id="2208" nodeType="clickEffect" fill="hold">
                      <p:stCondLst>
                        <p:cond evt="onClick">
                          <p:tgtEl>
                            <p:spTgt spid="1045"/>
                          </p:tgtEl>
                        </p:cond>
                      </p:stCondLst>
                      <p:childTnLst>
                        <p:par>
                          <p:cTn id="2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521E-007 L 0.22066 0.00463 E">
                                      <p:cBhvr>
                                        <p:cTn id="2211" dur="2000" fill="hold"/>
                                        <p:tgtEl>
                                          <p:spTgt spid="10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2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213" nodeType="clickEffect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457E-006 L -0.27552 -0.00578 E">
                                      <p:cBhvr>
                                        <p:cTn id="2216" dur="2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49"/>
                    </p:tgtEl>
                  </p:cond>
                </p:stCondLst>
                <p:childTnLst>
                  <p:par>
                    <p:cTn id="2218" nodeType="clickEffect" fill="hold">
                      <p:stCondLst>
                        <p:cond evt="onClick">
                          <p:tgtEl>
                            <p:spTgt spid="1049"/>
                          </p:tgtEl>
                        </p:cond>
                      </p:stCondLst>
                      <p:childTnLst>
                        <p:par>
                          <p:cTn id="2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21" dur="2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1050"/>
                    </p:tgtEl>
                  </p:cond>
                </p:stCondLst>
                <p:childTnLst>
                  <p:par>
                    <p:cTn id="2223" nodeType="clickEffect" fill="hold">
                      <p:stCondLst>
                        <p:cond evt="onClick">
                          <p:tgtEl>
                            <p:spTgt spid="1050"/>
                          </p:tgtEl>
                        </p:cond>
                      </p:stCondLst>
                      <p:childTnLst>
                        <p:par>
                          <p:cTn id="2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9417E-006 L -0.23629 -0.00509 E">
                                      <p:cBhvr>
                                        <p:cTn id="2226" dur="2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7" restart="whenNotActive" nodeType="interactiveSeq" fill="hold">
                <p:stCondLst>
                  <p:cond evt="onClick">
                    <p:tgtEl>
                      <p:spTgt spid="1052"/>
                    </p:tgtEl>
                  </p:cond>
                </p:stCondLst>
                <p:childTnLst>
                  <p:par>
                    <p:cTn id="2228" nodeType="clickEffect" fill="hold">
                      <p:stCondLst>
                        <p:cond evt="onClick">
                          <p:tgtEl>
                            <p:spTgt spid="1052"/>
                          </p:tgtEl>
                        </p:cond>
                      </p:stCondLst>
                      <p:childTnLst>
                        <p:par>
                          <p:cTn id="2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22847 0.00463 E">
                                      <p:cBhvr>
                                        <p:cTn id="2231" dur="2000" fill="hold"/>
                                        <p:tgtEl>
                                          <p:spTgt spid="10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2" restart="whenNotActive" nodeType="interactiveSeq" fill="hold">
                <p:stCondLst>
                  <p:cond evt="onClick">
                    <p:tgtEl>
                      <p:spTgt spid="1054"/>
                    </p:tgtEl>
                  </p:cond>
                </p:stCondLst>
                <p:childTnLst>
                  <p:par>
                    <p:cTn id="2233" nodeType="clickEffect" fill="hold">
                      <p:stCondLst>
                        <p:cond evt="onClick">
                          <p:tgtEl>
                            <p:spTgt spid="1054"/>
                          </p:tgtEl>
                        </p:cond>
                      </p:stCondLst>
                      <p:childTnLst>
                        <p:par>
                          <p:cTn id="2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7123E-006 L -0.31475 0.00462 E">
                                      <p:cBhvr>
                                        <p:cTn id="2236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7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238" nodeType="clickEffect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0555E-006 L 0.21267 0.00463 E">
                                      <p:cBhvr>
                                        <p:cTn id="2241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2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243" nodeType="clickEffect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8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259" nodeType="clickEffect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6" restart="whenNotActive" nodeType="interactiveSeq" fill="hold">
                <p:stCondLst>
                  <p:cond evt="onClick">
                    <p:tgtEl>
                      <p:spTgt spid="1051"/>
                    </p:tgtEl>
                  </p:cond>
                </p:stCondLst>
                <p:childTnLst>
                  <p:par>
                    <p:cTn id="2267" nodeType="clickEffect" fill="hold">
                      <p:stCondLst>
                        <p:cond evt="onClick">
                          <p:tgtEl>
                            <p:spTgt spid="1051"/>
                          </p:tgtEl>
                        </p:cond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4" restart="whenNotActive" nodeType="interactiveSeq" fill="hold">
                <p:stCondLst>
                  <p:cond evt="onClick">
                    <p:tgtEl>
                      <p:spTgt spid="1053"/>
                    </p:tgtEl>
                  </p:cond>
                </p:stCondLst>
                <p:childTnLst>
                  <p:par>
                    <p:cTn id="2275" nodeType="clickEffect" fill="hold">
                      <p:stCondLst>
                        <p:cond evt="onClick">
                          <p:tgtEl>
                            <p:spTgt spid="1053"/>
                          </p:tgtEl>
                        </p:cond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2" restart="whenNotActive" nodeType="interactiveSeq" fill="hold">
                <p:stCondLst>
                  <p:cond evt="onClick">
                    <p:tgtEl>
                      <p:spTgt spid="1055"/>
                    </p:tgtEl>
                  </p:cond>
                </p:stCondLst>
                <p:childTnLst>
                  <p:par>
                    <p:cTn id="2283" nodeType="clickEffect" fill="hold">
                      <p:stCondLst>
                        <p:cond evt="onClick">
                          <p:tgtEl>
                            <p:spTgt spid="1055"/>
                          </p:tgtEl>
                        </p:cond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8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299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8233E-006 L 0.19687 -0.00578 E">
                                      <p:cBhvr>
                                        <p:cTn id="2302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3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304" nodeType="clickEffect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4"/>
          <p:cNvSpPr/>
          <p:nvPr/>
        </p:nvSpPr>
        <p:spPr>
          <a:xfrm>
            <a:off x="341964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5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…ч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…вщ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бр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д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…ви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…пл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р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66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44"/>
          <p:cNvSpPr/>
          <p:nvPr/>
        </p:nvSpPr>
        <p:spPr>
          <a:xfrm>
            <a:off x="147636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5"/>
          <p:cNvSpPr/>
          <p:nvPr/>
        </p:nvSpPr>
        <p:spPr>
          <a:xfrm>
            <a:off x="1474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46"/>
          <p:cNvSpPr/>
          <p:nvPr/>
        </p:nvSpPr>
        <p:spPr>
          <a:xfrm>
            <a:off x="7164360" y="28576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47"/>
          <p:cNvSpPr/>
          <p:nvPr/>
        </p:nvSpPr>
        <p:spPr>
          <a:xfrm>
            <a:off x="1474920" y="35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48"/>
          <p:cNvSpPr/>
          <p:nvPr/>
        </p:nvSpPr>
        <p:spPr>
          <a:xfrm>
            <a:off x="716436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50"/>
          <p:cNvSpPr/>
          <p:nvPr/>
        </p:nvSpPr>
        <p:spPr>
          <a:xfrm>
            <a:off x="1476360" y="479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5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1" name="WordArt 53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2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3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4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5" name="WordArt 57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6" name="WordArt 58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7" name="WordArt 59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8" name="WordArt 60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9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0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1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2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3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4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5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106" name="Picture 68" descr=""/>
          <p:cNvPicPr/>
          <p:nvPr/>
        </p:nvPicPr>
        <p:blipFill>
          <a:blip r:embed="rId1"/>
          <a:stretch/>
        </p:blipFill>
        <p:spPr>
          <a:xfrm>
            <a:off x="7493040" y="408132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1" dur="indefinite" restart="never" nodeType="tmRoot">
          <p:childTnLst>
            <p:seq>
              <p:cTn id="2312" restart="whenNotActive" nodeType="interactiveSeq" fill="hold">
                <p:stCondLst>
                  <p:cond evt="onClick">
                    <p:tgtEl>
                      <p:spTgt spid="1090"/>
                    </p:tgtEl>
                  </p:cond>
                </p:stCondLst>
                <p:childTnLst>
                  <p:par>
                    <p:cTn id="2313" nodeType="clickEffect" fill="hold">
                      <p:stCondLst>
                        <p:cond evt="onClick">
                          <p:tgtEl>
                            <p:spTgt spid="1090"/>
                          </p:tgtEl>
                        </p:cond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7521E-007 L -0.24392 0.00463 E">
                                      <p:cBhvr>
                                        <p:cTn id="2316" dur="2000" fill="hold"/>
                                        <p:tgtEl>
                                          <p:spTgt spid="10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7" restart="whenNotActive" nodeType="interactiveSeq" fill="hold">
                <p:stCondLst>
                  <p:cond evt="onClick">
                    <p:tgtEl>
                      <p:spTgt spid="1093"/>
                    </p:tgtEl>
                  </p:cond>
                </p:stCondLst>
                <p:childTnLst>
                  <p:par>
                    <p:cTn id="2318" nodeType="clickEffect" fill="hold">
                      <p:stCondLst>
                        <p:cond evt="onClick">
                          <p:tgtEl>
                            <p:spTgt spid="1093"/>
                          </p:tgtEl>
                        </p:cond>
                      </p:stCondLst>
                      <p:childTnLst>
                        <p:par>
                          <p:cTn id="2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457E-006 L -0.27552 -0.00578 E">
                                      <p:cBhvr>
                                        <p:cTn id="23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3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3108E-006 L 0.22847 0.00463 E">
                                      <p:cBhvr>
                                        <p:cTn id="2326" dur="2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7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328" nodeType="clickEffect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9417E-006 L -0.28351 0.00532 E">
                                      <p:cBhvr>
                                        <p:cTn id="2331" dur="2000" fill="hold"/>
                                        <p:tgtEl>
                                          <p:spTgt spid="10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2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333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20486 0.00463 E">
                                      <p:cBhvr>
                                        <p:cTn id="2336" dur="2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1100"/>
                    </p:tgtEl>
                  </p:cond>
                </p:stCondLst>
                <p:childTnLst>
                  <p:par>
                    <p:cTn id="2338" nodeType="clickEffect" fill="hold">
                      <p:stCondLst>
                        <p:cond evt="onClick">
                          <p:tgtEl>
                            <p:spTgt spid="1100"/>
                          </p:tgtEl>
                        </p:cond>
                      </p:stCondLst>
                      <p:childTnLst>
                        <p:par>
                          <p:cTn id="2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7123E-006 L -0.29114 -0.00578 E">
                                      <p:cBhvr>
                                        <p:cTn id="2341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2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343" nodeType="clickEffect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0555E-006 L -0.29114 -0.00578 E">
                                      <p:cBhvr>
                                        <p:cTn id="2346" dur="2000" fill="hold"/>
                                        <p:tgtEl>
                                          <p:spTgt spid="1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7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2348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08233E-006 L -0.28333 -0.00578 E">
                                      <p:cBhvr>
                                        <p:cTn id="2351" dur="20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2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353" nodeType="clickEffect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1094"/>
                    </p:tgtEl>
                  </p:cond>
                </p:stCondLst>
                <p:childTnLst>
                  <p:par>
                    <p:cTn id="2369" nodeType="clickEffect" fill="hold">
                      <p:stCondLst>
                        <p:cond evt="onClick">
                          <p:tgtEl>
                            <p:spTgt spid="1094"/>
                          </p:tgtEl>
                        </p:cond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1097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1097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4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385" nodeType="clickEffect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401" nodeType="clickEffect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8" restart="whenNotActive" nodeType="interactiveSeq" fill="hold">
                <p:stCondLst>
                  <p:cond evt="onClick">
                    <p:tgtEl>
                      <p:spTgt spid="1105"/>
                    </p:tgtEl>
                  </p:cond>
                </p:stCondLst>
                <p:childTnLst>
                  <p:par>
                    <p:cTn id="2409" nodeType="clickEffect" fill="hold">
                      <p:stCondLst>
                        <p:cond evt="onClick">
                          <p:tgtEl>
                            <p:spTgt spid="1105"/>
                          </p:tgtEl>
                        </p:cond>
                      </p:stCondLst>
                      <p:childTnLst>
                        <p:par>
                          <p:cTn id="2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сыл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1. Зегебард Г.М. «Учение без мучения. Безударные гласные. Коррекция дисграфии. Рабочие материалы. 3 класс» М.: Генезис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//ont2007.narod.ru/GIF/gif/4/0116.GIF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 - винип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//ont2007.narod.ru/GIF/gif/4/0119.GIF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a8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 у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800"/>
                </a:solidFill>
                <a:latin typeface="Arial"/>
              </a:rPr>
              <a:t>4. 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//ont2007.narod.ru/GIF/gif/4/0091.GIF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Питер 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5. 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//ont2007.narod.ru/GIF/gif/4/0</a:t>
            </a: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</a:rPr>
              <a:t>096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.GIF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 - белосне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previousslide"/>
          </p:cNvPr>
          <p:cNvSpPr/>
          <p:nvPr/>
        </p:nvSpPr>
        <p:spPr>
          <a:xfrm>
            <a:off x="108000" y="602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987640" y="1479600"/>
          <a:ext cx="3168720" cy="512136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…ст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шнё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р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режь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с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г…б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кольщ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0" name="Rectangle 29"/>
          <p:cNvSpPr/>
          <p:nvPr/>
        </p:nvSpPr>
        <p:spPr>
          <a:xfrm>
            <a:off x="140328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1403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140328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2"/>
          <p:cNvSpPr/>
          <p:nvPr/>
        </p:nvSpPr>
        <p:spPr>
          <a:xfrm>
            <a:off x="140328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140328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40328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140328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6"/>
          <p:cNvSpPr/>
          <p:nvPr/>
        </p:nvSpPr>
        <p:spPr>
          <a:xfrm>
            <a:off x="140328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6299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6299280" y="21319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9"/>
          <p:cNvSpPr/>
          <p:nvPr/>
        </p:nvSpPr>
        <p:spPr>
          <a:xfrm>
            <a:off x="6299280" y="2779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0"/>
          <p:cNvSpPr/>
          <p:nvPr/>
        </p:nvSpPr>
        <p:spPr>
          <a:xfrm>
            <a:off x="6299280" y="34275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6299280" y="4076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6299280" y="4724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3"/>
          <p:cNvSpPr/>
          <p:nvPr/>
        </p:nvSpPr>
        <p:spPr>
          <a:xfrm>
            <a:off x="6299280" y="5372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6299280" y="6019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5"/>
          <p:cNvSpPr/>
          <p:nvPr/>
        </p:nvSpPr>
        <p:spPr>
          <a:xfrm>
            <a:off x="7164360" y="155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6"/>
          <p:cNvSpPr/>
          <p:nvPr/>
        </p:nvSpPr>
        <p:spPr>
          <a:xfrm>
            <a:off x="7162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7"/>
          <p:cNvSpPr/>
          <p:nvPr/>
        </p:nvSpPr>
        <p:spPr>
          <a:xfrm>
            <a:off x="16192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8"/>
          <p:cNvSpPr/>
          <p:nvPr/>
        </p:nvSpPr>
        <p:spPr>
          <a:xfrm>
            <a:off x="7164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9"/>
          <p:cNvSpPr/>
          <p:nvPr/>
        </p:nvSpPr>
        <p:spPr>
          <a:xfrm>
            <a:off x="154764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0"/>
          <p:cNvSpPr/>
          <p:nvPr/>
        </p:nvSpPr>
        <p:spPr>
          <a:xfrm>
            <a:off x="154764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1"/>
          <p:cNvSpPr/>
          <p:nvPr/>
        </p:nvSpPr>
        <p:spPr>
          <a:xfrm>
            <a:off x="709128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2"/>
          <p:cNvSpPr/>
          <p:nvPr/>
        </p:nvSpPr>
        <p:spPr>
          <a:xfrm>
            <a:off x="154764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53"/>
          <p:cNvSpPr txBox="1"/>
          <p:nvPr/>
        </p:nvSpPr>
        <p:spPr>
          <a:xfrm>
            <a:off x="219564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WordArt 54"/>
          <p:cNvSpPr txBox="1"/>
          <p:nvPr/>
        </p:nvSpPr>
        <p:spPr>
          <a:xfrm>
            <a:off x="651528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6" name="WordArt 55"/>
          <p:cNvSpPr txBox="1"/>
          <p:nvPr/>
        </p:nvSpPr>
        <p:spPr>
          <a:xfrm>
            <a:off x="2195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WordArt 56"/>
          <p:cNvSpPr txBox="1"/>
          <p:nvPr/>
        </p:nvSpPr>
        <p:spPr>
          <a:xfrm>
            <a:off x="651528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WordArt 57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58"/>
          <p:cNvSpPr txBox="1"/>
          <p:nvPr/>
        </p:nvSpPr>
        <p:spPr>
          <a:xfrm>
            <a:off x="651528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59"/>
          <p:cNvSpPr txBox="1"/>
          <p:nvPr/>
        </p:nvSpPr>
        <p:spPr>
          <a:xfrm>
            <a:off x="21970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60"/>
          <p:cNvSpPr txBox="1"/>
          <p:nvPr/>
        </p:nvSpPr>
        <p:spPr>
          <a:xfrm>
            <a:off x="65152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1"/>
          <p:cNvSpPr txBox="1"/>
          <p:nvPr/>
        </p:nvSpPr>
        <p:spPr>
          <a:xfrm>
            <a:off x="65152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62"/>
          <p:cNvSpPr txBox="1"/>
          <p:nvPr/>
        </p:nvSpPr>
        <p:spPr>
          <a:xfrm>
            <a:off x="2195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63"/>
          <p:cNvSpPr txBox="1"/>
          <p:nvPr/>
        </p:nvSpPr>
        <p:spPr>
          <a:xfrm>
            <a:off x="651528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64"/>
          <p:cNvSpPr txBox="1"/>
          <p:nvPr/>
        </p:nvSpPr>
        <p:spPr>
          <a:xfrm>
            <a:off x="219708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65"/>
          <p:cNvSpPr txBox="1"/>
          <p:nvPr/>
        </p:nvSpPr>
        <p:spPr>
          <a:xfrm>
            <a:off x="2195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WordArt 66"/>
          <p:cNvSpPr txBox="1"/>
          <p:nvPr/>
        </p:nvSpPr>
        <p:spPr>
          <a:xfrm>
            <a:off x="651528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WordArt 67"/>
          <p:cNvSpPr txBox="1"/>
          <p:nvPr/>
        </p:nvSpPr>
        <p:spPr>
          <a:xfrm>
            <a:off x="219708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68"/>
          <p:cNvSpPr txBox="1"/>
          <p:nvPr/>
        </p:nvSpPr>
        <p:spPr>
          <a:xfrm>
            <a:off x="651528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0" name="Picture 74" descr=""/>
          <p:cNvPicPr/>
          <p:nvPr/>
        </p:nvPicPr>
        <p:blipFill>
          <a:blip r:embed="rId1"/>
          <a:stretch/>
        </p:blipFill>
        <p:spPr>
          <a:xfrm>
            <a:off x="-36360" y="3862440"/>
            <a:ext cx="1560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79186E-006 L 0.20486 -0.00509 E">
                                      <p:cBhvr>
                                        <p:cTn id="11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55227E-006 L 0.15764 -0.00508 E">
                                      <p:cBhvr>
                                        <p:cTn id="11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29047E-007 L -0.27535 -0.00509 E">
                                      <p:cBhvr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9417E-006 L 0.21268 -0.00509 E">
                                      <p:cBhvr>
                                        <p:cTn id="1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2673E-006 L 0.21268 -0.00508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03515E-007 L -0.31476 -0.00509 E">
                                      <p:cBhvr>
                                        <p:cTn id="14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197E-006 L -0.22032 0.00532 E">
                                      <p:cBhvr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д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…р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желово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…ёны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…щ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в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…ну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…п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6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9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7093080" y="155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1476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0930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7"/>
          <p:cNvSpPr/>
          <p:nvPr/>
        </p:nvSpPr>
        <p:spPr>
          <a:xfrm>
            <a:off x="709308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8"/>
          <p:cNvSpPr/>
          <p:nvPr/>
        </p:nvSpPr>
        <p:spPr>
          <a:xfrm>
            <a:off x="14763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9"/>
          <p:cNvSpPr/>
          <p:nvPr/>
        </p:nvSpPr>
        <p:spPr>
          <a:xfrm>
            <a:off x="709308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0"/>
          <p:cNvSpPr/>
          <p:nvPr/>
        </p:nvSpPr>
        <p:spPr>
          <a:xfrm>
            <a:off x="709128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1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52"/>
          <p:cNvSpPr txBox="1"/>
          <p:nvPr/>
        </p:nvSpPr>
        <p:spPr>
          <a:xfrm>
            <a:off x="212400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53"/>
          <p:cNvSpPr txBox="1"/>
          <p:nvPr/>
        </p:nvSpPr>
        <p:spPr>
          <a:xfrm>
            <a:off x="644364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3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4" name="WordArt 56"/>
          <p:cNvSpPr txBox="1"/>
          <p:nvPr/>
        </p:nvSpPr>
        <p:spPr>
          <a:xfrm>
            <a:off x="212400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WordArt 57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58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59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WordArt 60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0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Picture 72" descr=""/>
          <p:cNvPicPr/>
          <p:nvPr/>
        </p:nvPicPr>
        <p:blipFill>
          <a:blip r:embed="rId1"/>
          <a:stretch/>
        </p:blipFill>
        <p:spPr>
          <a:xfrm>
            <a:off x="7493040" y="342900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9186E-006 L 0.17326 0.00555 E">
                                      <p:cBhvr>
                                        <p:cTn id="21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55227E-006 L -0.20451 0.00532 E">
                                      <p:cBhvr>
                                        <p:cTn id="22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29047E-007 L 0.14965 0.00532 E">
                                      <p:cBhvr>
                                        <p:cTn id="22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9417E-006 L 0.20469 0.00532 E">
                                      <p:cBhvr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5005E-006 L -0.24392 0.00532 E">
                                      <p:cBhvr>
                                        <p:cTn id="23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12673E-006 L 0.26771 0.00532 E">
                                      <p:cBhvr>
                                        <p:cTn id="24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3515E-007 L -0.23611 -0.00509 E">
                                      <p:cBhvr>
                                        <p:cTn id="24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97E-006 L 0.19687 -0.00509 E">
                                      <p:cBhvr>
                                        <p:cTn id="25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274920" y="907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м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ш…в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…р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…х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рн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рдеч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рка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стов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92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4"/>
          <p:cNvSpPr/>
          <p:nvPr/>
        </p:nvSpPr>
        <p:spPr>
          <a:xfrm>
            <a:off x="1476360" y="155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5"/>
          <p:cNvSpPr/>
          <p:nvPr/>
        </p:nvSpPr>
        <p:spPr>
          <a:xfrm>
            <a:off x="709128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6"/>
          <p:cNvSpPr/>
          <p:nvPr/>
        </p:nvSpPr>
        <p:spPr>
          <a:xfrm>
            <a:off x="70930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7"/>
          <p:cNvSpPr/>
          <p:nvPr/>
        </p:nvSpPr>
        <p:spPr>
          <a:xfrm>
            <a:off x="1476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8"/>
          <p:cNvSpPr/>
          <p:nvPr/>
        </p:nvSpPr>
        <p:spPr>
          <a:xfrm>
            <a:off x="709128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0"/>
          <p:cNvSpPr/>
          <p:nvPr/>
        </p:nvSpPr>
        <p:spPr>
          <a:xfrm>
            <a:off x="1476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1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52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7" name="WordArt 53"/>
          <p:cNvSpPr txBox="1"/>
          <p:nvPr/>
        </p:nvSpPr>
        <p:spPr>
          <a:xfrm>
            <a:off x="2195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WordArt 56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WordArt 57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58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9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WordArt 60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5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6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7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8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9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0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1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32" name="Picture 70" descr=""/>
          <p:cNvPicPr/>
          <p:nvPr/>
        </p:nvPicPr>
        <p:blipFill>
          <a:blip r:embed="rId1"/>
          <a:stretch/>
        </p:blipFill>
        <p:spPr>
          <a:xfrm>
            <a:off x="-108000" y="1557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2451E-006 L -0.28333 -0.00532 E">
                                      <p:cBhvr>
                                        <p:cTn id="32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5227E-006 L 0.26788 0.00532 E">
                                      <p:cBhvr>
                                        <p:cTn id="32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9417E-006 L -0.24392 -0.00509 E">
                                      <p:cBhvr>
                                        <p:cTn id="33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5005E-006 L 0.15747 0.00532 E">
                                      <p:cBhvr>
                                        <p:cTn id="33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12673E-006 L -0.33055 0.00532 E">
                                      <p:cBhvr>
                                        <p:cTn id="34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3515E-007 L -0.33837 -0.00509 E">
                                      <p:cBhvr>
                                        <p:cTn id="3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197E-006 L -0.29913 0.00532 E">
                                      <p:cBhvr>
                                        <p:cTn id="35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29047E-007 L 0.22066 -0.00509 E">
                                      <p:cBhvr>
                                        <p:cTn id="36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82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л…ч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лос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…с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льш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…г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…зд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…т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8" name="Rectangle 29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4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5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8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9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4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5"/>
          <p:cNvSpPr/>
          <p:nvPr/>
        </p:nvSpPr>
        <p:spPr>
          <a:xfrm>
            <a:off x="1476360" y="155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6"/>
          <p:cNvSpPr/>
          <p:nvPr/>
        </p:nvSpPr>
        <p:spPr>
          <a:xfrm>
            <a:off x="709128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147492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8"/>
          <p:cNvSpPr/>
          <p:nvPr/>
        </p:nvSpPr>
        <p:spPr>
          <a:xfrm>
            <a:off x="1476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9"/>
          <p:cNvSpPr/>
          <p:nvPr/>
        </p:nvSpPr>
        <p:spPr>
          <a:xfrm>
            <a:off x="147492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0"/>
          <p:cNvSpPr/>
          <p:nvPr/>
        </p:nvSpPr>
        <p:spPr>
          <a:xfrm>
            <a:off x="709308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1"/>
          <p:cNvSpPr/>
          <p:nvPr/>
        </p:nvSpPr>
        <p:spPr>
          <a:xfrm>
            <a:off x="1476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2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3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3" name="WordArt 54"/>
          <p:cNvSpPr txBox="1"/>
          <p:nvPr/>
        </p:nvSpPr>
        <p:spPr>
          <a:xfrm>
            <a:off x="2195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4" name="WordArt 55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5" name="WordArt 56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6" name="WordArt 57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7" name="WordArt 58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8" name="WordArt 59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WordArt 60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0" name="WordArt 61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1" name="WordArt 62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2" name="WordArt 63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3" name="WordArt 64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65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5" name="WordArt 66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6" name="WordArt 67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7" name="WordArt 68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78" name="Picture 71" descr=""/>
          <p:cNvPicPr/>
          <p:nvPr/>
        </p:nvPicPr>
        <p:blipFill>
          <a:blip r:embed="rId1"/>
          <a:stretch/>
        </p:blipFill>
        <p:spPr>
          <a:xfrm>
            <a:off x="7608960" y="47628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2451E-006 L -0.23611 -0.00532 E">
                                      <p:cBhvr>
                                        <p:cTn id="42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5227E-006 L 0.18125 0.00532 E">
                                      <p:cBhvr>
                                        <p:cTn id="431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29047E-007 L -0.22031 -0.00509 E">
                                      <p:cBhvr>
                                        <p:cTn id="436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9417E-006 L -0.29913 0.00532 E">
                                      <p:cBhvr>
                                        <p:cTn id="44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5005E-006 L -0.26753 -0.00532 E">
                                      <p:cBhvr>
                                        <p:cTn id="446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12673E-006 L -0.27552 0.00532 E">
                                      <p:cBhvr>
                                        <p:cTn id="451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5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97E-006 L 0.23628 -0.00509 E">
                                      <p:cBhvr>
                                        <p:cTn id="461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87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916360" y="1413000"/>
          <a:ext cx="3168360" cy="512100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нов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мей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…с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…с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доко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…п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4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227640" y="14176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7"/>
          <p:cNvSpPr/>
          <p:nvPr/>
        </p:nvSpPr>
        <p:spPr>
          <a:xfrm>
            <a:off x="6227640" y="20653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8"/>
          <p:cNvSpPr/>
          <p:nvPr/>
        </p:nvSpPr>
        <p:spPr>
          <a:xfrm>
            <a:off x="6227640" y="27129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9"/>
          <p:cNvSpPr/>
          <p:nvPr/>
        </p:nvSpPr>
        <p:spPr>
          <a:xfrm>
            <a:off x="6227640" y="336060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6227640" y="40100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6227640" y="46576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2"/>
          <p:cNvSpPr/>
          <p:nvPr/>
        </p:nvSpPr>
        <p:spPr>
          <a:xfrm>
            <a:off x="6227640" y="53053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3"/>
          <p:cNvSpPr/>
          <p:nvPr/>
        </p:nvSpPr>
        <p:spPr>
          <a:xfrm>
            <a:off x="6227640" y="59529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4"/>
          <p:cNvSpPr/>
          <p:nvPr/>
        </p:nvSpPr>
        <p:spPr>
          <a:xfrm>
            <a:off x="7093080" y="1484280"/>
            <a:ext cx="3585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5"/>
          <p:cNvSpPr/>
          <p:nvPr/>
        </p:nvSpPr>
        <p:spPr>
          <a:xfrm>
            <a:off x="7091280" y="21384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6"/>
          <p:cNvSpPr/>
          <p:nvPr/>
        </p:nvSpPr>
        <p:spPr>
          <a:xfrm>
            <a:off x="1474920" y="278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8"/>
          <p:cNvSpPr/>
          <p:nvPr/>
        </p:nvSpPr>
        <p:spPr>
          <a:xfrm>
            <a:off x="1474920" y="40831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0"/>
          <p:cNvSpPr/>
          <p:nvPr/>
        </p:nvSpPr>
        <p:spPr>
          <a:xfrm>
            <a:off x="1476360" y="47307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1"/>
          <p:cNvSpPr/>
          <p:nvPr/>
        </p:nvSpPr>
        <p:spPr>
          <a:xfrm>
            <a:off x="709308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09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0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2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3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4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5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6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7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8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9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1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2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3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324" name="Picture 68" descr=""/>
          <p:cNvPicPr/>
          <p:nvPr/>
        </p:nvPicPr>
        <p:blipFill>
          <a:blip r:embed="rId1"/>
          <a:stretch/>
        </p:blipFill>
        <p:spPr>
          <a:xfrm>
            <a:off x="-108000" y="1341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4699E-006 L 0.14983 0.0044 E">
                                      <p:cBhvr>
                                        <p:cTn id="531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8125 0.00463 E">
                                      <p:cBhvr>
                                        <p:cTn id="536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6753 0.00462 E">
                                      <p:cBhvr>
                                        <p:cTn id="541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5972 0.00463 E">
                                      <p:cBhvr>
                                        <p:cTn id="54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2146E-006 L -0.24392 -0.00601 E">
                                      <p:cBhvr>
                                        <p:cTn id="551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553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556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22066 0.00462 E">
                                      <p:cBhvr>
                                        <p:cTn id="561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2847 -0.00578 E">
                                      <p:cBhvr>
                                        <p:cTn id="56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76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84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08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16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916360" y="1413000"/>
          <a:ext cx="3168360" cy="512100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мёр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…пл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…б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ц…пил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…мне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беш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5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6"/>
          <p:cNvSpPr/>
          <p:nvPr/>
        </p:nvSpPr>
        <p:spPr>
          <a:xfrm>
            <a:off x="709308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8"/>
          <p:cNvSpPr/>
          <p:nvPr/>
        </p:nvSpPr>
        <p:spPr>
          <a:xfrm>
            <a:off x="709308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0"/>
          <p:cNvSpPr/>
          <p:nvPr/>
        </p:nvSpPr>
        <p:spPr>
          <a:xfrm>
            <a:off x="709308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5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9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0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1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2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370" name="Picture 68" descr=""/>
          <p:cNvPicPr/>
          <p:nvPr/>
        </p:nvPicPr>
        <p:blipFill>
          <a:blip r:embed="rId1"/>
          <a:stretch/>
        </p:blipFill>
        <p:spPr>
          <a:xfrm>
            <a:off x="7564320" y="3357720"/>
            <a:ext cx="161604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9114 0.0044 E">
                                      <p:cBhvr>
                                        <p:cTn id="636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638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8333 -0.00601 E">
                                      <p:cBhvr>
                                        <p:cTn id="641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944E-006 L 0.18906 -0.00602 E">
                                      <p:cBhvr>
                                        <p:cTn id="64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648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441 -0.00578 E">
                                      <p:cBhvr>
                                        <p:cTn id="651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82146E-006 L 0.18889 -0.00601 E">
                                      <p:cBhvr>
                                        <p:cTn id="656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1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6753 -0.00602 E">
                                      <p:cBhvr>
                                        <p:cTn id="666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8906 -0.00578 E">
                                      <p:cBhvr>
                                        <p:cTn id="67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697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"/>
          <p:cNvSpPr/>
          <p:nvPr/>
        </p:nvSpPr>
        <p:spPr>
          <a:xfrm>
            <a:off x="3348000" y="76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допы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б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…голю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…н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…та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белё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…реж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х…д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76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5"/>
          <p:cNvSpPr/>
          <p:nvPr/>
        </p:nvSpPr>
        <p:spPr>
          <a:xfrm>
            <a:off x="709308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48"/>
          <p:cNvSpPr/>
          <p:nvPr/>
        </p:nvSpPr>
        <p:spPr>
          <a:xfrm>
            <a:off x="147492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0"/>
          <p:cNvSpPr/>
          <p:nvPr/>
        </p:nvSpPr>
        <p:spPr>
          <a:xfrm>
            <a:off x="147492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1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2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3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4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5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6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7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8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9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0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1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2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3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4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5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16" name="Picture 72" descr=""/>
          <p:cNvPicPr/>
          <p:nvPr/>
        </p:nvPicPr>
        <p:blipFill>
          <a:blip r:embed="rId1"/>
          <a:stretch/>
        </p:blipFill>
        <p:spPr>
          <a:xfrm>
            <a:off x="-108000" y="3789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738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8333 0.0044 E">
                                      <p:cBhvr>
                                        <p:cTn id="741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22066 0.00463 E">
                                      <p:cBhvr>
                                        <p:cTn id="746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748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8333 0.00462 E">
                                      <p:cBhvr>
                                        <p:cTn id="751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0469 0.00463 E">
                                      <p:cBhvr>
                                        <p:cTn id="75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758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1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7552 -0.00601 E">
                                      <p:cBhvr>
                                        <p:cTn id="766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7552 -0.00602 E">
                                      <p:cBhvr>
                                        <p:cTn id="771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6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78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786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802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818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12:44Z</dcterms:created>
  <dc:creator>Таня@Денис</dc:creator>
  <dc:description/>
  <dc:language>en-US</dc:language>
  <cp:lastModifiedBy>Пользователь</cp:lastModifiedBy>
  <dcterms:modified xsi:type="dcterms:W3CDTF">2014-11-09T05:09:14Z</dcterms:modified>
  <cp:revision>12</cp:revision>
  <dc:subject/>
  <dc:title>Муниципальное общеобразовательное учреждение средняя общеобразовательная школа № 15 город Глазов Удмуртская Республика</dc:title>
</cp:coreProperties>
</file>