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7F5-5B76-4E62-AFE5-E291549D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9E1-C18E-4F57-AAFF-8813C87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E73-40AA-40A8-A14B-0E1BD4AF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2DB-4D47-4B07-BA02-A774E59B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6BA9-7063-43D2-8111-4F76BEFD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046F-0AB5-4CDA-BC5B-5C0D9216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F5AF-F5A7-4ADA-8BB9-2ACE111A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BDD6-5F2F-48EE-B0AC-87F404CF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2C00-D511-42D8-9334-F273ED9C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759A-696A-4E64-8CBE-673931FD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002C-BA1D-497C-A109-4FEC5BD6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387-C53E-4E94-8A77-56E802B4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8262-57CD-421F-B6DE-4F38A081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3211-3A61-4EB0-8AAA-A44A59C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3E99-C5C2-4076-82D1-BB558178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07D7-EA90-4746-AC65-98892AE8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DFEC-A4B3-4597-B2BF-C0F764FF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CEB-23AF-4C6B-87D3-40661DB6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46C-A4EA-4D45-AF51-922276CB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E97-98B6-4500-9707-44C5C40B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8CD-C506-4C6C-A2BC-A8919147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F35-9C6E-4B83-84B9-28BE32C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C32-CB4B-409B-A5FB-1167856F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05D-9110-4381-A732-4AE8173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7930-575B-4C72-BBCB-C18416DB5B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4FB9-F9F2-4A40-A567-C7360FCAA3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актические работы студентов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6308640"/>
            <a:ext cx="52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кет «Воздушные переходы трубопровод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6440" y="244440"/>
            <a:ext cx="7949880" cy="5851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42520" y="40464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кет «Нефтеперекачивающая стан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4880" y="148428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товыста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6440" y="244440"/>
            <a:ext cx="79498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5400" y="257040"/>
            <a:ext cx="7926480" cy="583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60920" y="6184800"/>
            <a:ext cx="51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ующая модель «Магистральный насос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6440" y="244440"/>
            <a:ext cx="7949880" cy="5851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2520" y="47628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кет «Изоляционные покрыт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6440" y="244440"/>
            <a:ext cx="7949880" cy="5851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7600" y="5516640"/>
            <a:ext cx="61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кет «Линейная часть магистрального трубопрово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6440" y="244440"/>
            <a:ext cx="7949880" cy="5851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99800" y="5392800"/>
            <a:ext cx="561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ующая модель «Компрессорная установ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09640" y="71136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Макет «Цистерна для перевозки нефтепроду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7:02:42Z</dcterms:created>
  <dc:creator>1</dc:creator>
  <dc:description/>
  <dc:language>en-US</dc:language>
  <cp:lastModifiedBy>User</cp:lastModifiedBy>
  <dcterms:modified xsi:type="dcterms:W3CDTF">2015-01-15T16:04:23Z</dcterms:modified>
  <cp:revision>6</cp:revision>
  <dc:subject/>
  <dc:title>Слайд 1</dc:title>
</cp:coreProperties>
</file>