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8996-FBDE-4EE8-9D38-006246134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2529-4AEA-4067-B82E-4D089CFB9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50E-3F54-4EAE-B763-3A95DCFAD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1642-C4AC-4CB5-85F4-C524730A79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нормативов и выбор объектов нормрования определяются новым пониманием стандарта общего образования, в котором основной акцент переносится с содержания на результаты образования. Поэтому при разработке как Требований стандарта, так и документов, обеспечивающих его  реализацию, должны быть заданы рамки не только для изучаемого учебного материала, но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ые способы учебных дей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средством которых дети осваивают данный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ми словами, наряду с традиционным вопросом «Чему учить?», по мнению разработчиков, важнейшим становится вопрос «Как учить?» или, точнее, «Как учить так, чтобы инициировать у детей собственные вопросы: 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у мне нужно научиться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“Как мне этому научиться?”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3CBE-FE31-4011-B604-3C1E3599B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9F6-961E-463E-AE24-863A1737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5DB-F6FB-4342-ACF7-A9DD16DD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BA7-5059-42E0-A6B4-F26DC984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107-96C1-444F-83B0-42F462DA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334-5293-4269-AE7B-4D36F70E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783-32C8-4386-B18E-8122A590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A9B-8031-49D1-B239-9A7BFCD6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E7D-44E3-44B7-A354-648F56BA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F94-7744-40E2-BDF4-4867C52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8D4-9A9D-4F1B-AA95-370E234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E42-0C4E-414A-9380-C904758E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727-8055-4756-A217-5B88FB4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197D-67B2-4552-8FD0-538078F7C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3340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рок окружающего мира в соответствии с ФГ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428800" y="4941720"/>
            <a:ext cx="33195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ичугина Ольга Олег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0040" y="3643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ждый урок должен быть для учителя задачей, которую он должен выполнять, обдумывая это заранее: на каждом уроке он должен чего-нибудь достигнуть, сделать шаг дальше и заставить весь класс сделать этот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932560" y="535788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Д.Уши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универсальных учебных действ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одержанием учеб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ступени начального общего образования имеет особое значение обеспечение сбалансированного развития у обучающихся логического, наглядно-образного и знаково-символ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ждый учебный предмет в зависимости от предметного содержания и способов организации учебной деятельности обучающихся раскрывает определённые возможности для формирования универсальных учеб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214200" y="3071880"/>
            <a:ext cx="8715600" cy="35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окружающего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28760" y="4000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85840" y="3714840"/>
            <a:ext cx="857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Обеспечивает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ормирование у обучающихся целостной научной картины природного и социокультурного мира, отношений человека с природой, обществом, другими людьми, государством, осознания своего места в обществе, создавая основу становления мировоззрения, жизненного самоопределения и формирования российской гражданской идентичности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мения различать государственную символику Российской Федерации и своего региона, описывать достопримечательности столицы и родного края, находить на карте Российскую Федера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основ исторической памяти,ориентации в основных исторических событиях России, семьи, регио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основ экологического сознания, освоение норм природосообразного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звитие морально-этического сознания – норм взаимоотношений человека с другими людьми, социальными группами и сообще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инятие правил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владение начальными формами исследовательской деятельности, включая умения поиска и работы с информацией, в том числе с использованием различных средств И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действий замещения и моделирования (использования готовых моделей для объяснения явлений или выявления свойств объектов и создания моделей, в том числе в интерактивной сред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логических действий сравнения, подведения под понятия, аналогии, классификации объектов живой и неживой природы на основе внешних признаков или известных характерных свойст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становление причинно-следственных связей в окружающем мире, в том числе на многообразном материале природы и культуры родн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7900920" cy="58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8729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тремление учителя самостоятельно планировать уро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нание типологии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омплексное планирование задач ур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мощь детям в раскрытии личностного смысла изучаем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ора на метапредметные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актическая направленность учебного проце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ключение в содержание урока упражнений творческого харак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ыбор оптимального сочетания и соотношения методов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нание разных технологий развивающего обучения и дифференцированное примен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надпредметных способов учебной деятельности (например анализирование от предмета к явлению, процессу, понятию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бота по мотивации учебной деятельности  - формирование мотивации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здание условий для проявления самостоятельности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циональное использование средств обучения (учебников, пособий, технически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нание и применение психосберегающих, здоровьесберегающих и здоровьеразвивающих техноло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1120" y="1341000"/>
            <a:ext cx="8642520" cy="4581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сновная задач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еспечить условия, инициирующие детск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39640" y="5661000"/>
            <a:ext cx="8604360" cy="757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стемно-деятельност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395280" y="2565360"/>
            <a:ext cx="2879640" cy="2952720"/>
          </a:xfrm>
          <a:prstGeom prst="ellipse">
            <a:avLst/>
          </a:prstGeom>
          <a:solidFill>
            <a:srgbClr val="ffff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разов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станда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132000" y="2637000"/>
            <a:ext cx="3095640" cy="2879640"/>
          </a:xfrm>
          <a:prstGeom prst="ellipse">
            <a:avLst/>
          </a:prstGeom>
          <a:solidFill>
            <a:srgbClr val="ccffcc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ahoma"/>
              </a:rPr>
              <a:t>Ради чего учить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 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4000" y="260280"/>
            <a:ext cx="8820000" cy="9144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витие личности учащегося на основе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ниверсальных учебных действий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6164280" y="2637000"/>
            <a:ext cx="2879640" cy="3024000"/>
          </a:xfrm>
          <a:prstGeom prst="ellipse">
            <a:avLst/>
          </a:prstGeom>
          <a:solidFill>
            <a:srgbClr val="cc99ff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3500280"/>
            <a:ext cx="33116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Учебная задача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цель, которую перед собой ставит уче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8760" y="5000760"/>
            <a:ext cx="1120680" cy="1635120"/>
          </a:xfrm>
          <a:prstGeom prst="rect">
            <a:avLst/>
          </a:prstGeom>
          <a:ln w="0">
            <a:noFill/>
          </a:ln>
        </p:spPr>
      </p:pic>
      <p:sp>
        <p:nvSpPr>
          <p:cNvPr id="60" name="Oval 4"/>
          <p:cNvSpPr/>
          <p:nvPr/>
        </p:nvSpPr>
        <p:spPr>
          <a:xfrm>
            <a:off x="1143000" y="2928960"/>
            <a:ext cx="1643040" cy="928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у учиться? За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643280" y="364320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Через учебное действие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это система признаков, понятий или алгорит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5643720" y="2928960"/>
            <a:ext cx="1412640" cy="59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1928880" y="5214960"/>
            <a:ext cx="27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Самоконтроль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определение правильности выполненн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071800" y="4572000"/>
            <a:ext cx="178596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5357880" y="5715000"/>
            <a:ext cx="320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Самооценка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определение степени соответствия эталону или качества выполненн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715000" y="4786200"/>
            <a:ext cx="2071800" cy="925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жно луч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чебная 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571680" y="150012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самостоятельная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деятельность ученика по усвоению знаний, умений и навыков, в которой он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изменяется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и эти изменения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осозн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п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14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первичного предъявления нов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применения предметных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обобщения и система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повто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нтроль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мбинирован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ебная экску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решения практических, проектн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3880" y="142920"/>
            <a:ext cx="7697880" cy="596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первичного предъявления новы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5880" y="785880"/>
          <a:ext cx="7543800" cy="192888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усвоение новых предметных знаний, ум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своими словами правил, понятий, алгоритмов, выполнение действий по образцу, алгорит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2"/>
          <p:cNvSpPr/>
          <p:nvPr/>
        </p:nvSpPr>
        <p:spPr>
          <a:xfrm>
            <a:off x="642960" y="2928960"/>
            <a:ext cx="7758000" cy="58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0040" y="3500280"/>
          <a:ext cx="8186760" cy="1970280"/>
        </p:xfrm>
        <a:graphic>
          <a:graphicData uri="http://schemas.openxmlformats.org/drawingml/2006/table">
            <a:tbl>
              <a:tblPr/>
              <a:tblGrid>
                <a:gridCol w="4094280"/>
                <a:gridCol w="40924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усваиваемых знаний или способов учебных действий в условиях решения учебных задач (задан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образцов выполнения заданий, безошибочное применение алгоритмов и правил при решении учебных зада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829640" cy="439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применения предметных ум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42960" y="714240"/>
          <a:ext cx="7972560" cy="2143440"/>
        </p:xfrm>
        <a:graphic>
          <a:graphicData uri="http://schemas.openxmlformats.org/drawingml/2006/table">
            <a:tbl>
              <a:tblPr/>
              <a:tblGrid>
                <a:gridCol w="3986280"/>
                <a:gridCol w="398628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предметных умений в условиях решения учебных задач повышенной слож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решение задач (выполнение упражнений) повышенной сложности отдельными учениками или коллективом клас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2"/>
          <p:cNvSpPr/>
          <p:nvPr/>
        </p:nvSpPr>
        <p:spPr>
          <a:xfrm>
            <a:off x="642960" y="3000240"/>
            <a:ext cx="7900920" cy="43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обобщения и системат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42960" y="3429000"/>
          <a:ext cx="7900920" cy="1471680"/>
        </p:xfrm>
        <a:graphic>
          <a:graphicData uri="http://schemas.openxmlformats.org/drawingml/2006/table">
            <a:tbl>
              <a:tblPr/>
              <a:tblGrid>
                <a:gridCol w="3951360"/>
                <a:gridCol w="394956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стематизация предметных умений, универсальных действий (решение предметных задач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ние сформулировать обобщенный вывод, уровень сформированности УУ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829640" cy="296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2960" y="571680"/>
          <a:ext cx="8186760" cy="2828880"/>
        </p:xfrm>
        <a:graphic>
          <a:graphicData uri="http://schemas.openxmlformats.org/drawingml/2006/table">
            <a:tbl>
              <a:tblPr/>
              <a:tblGrid>
                <a:gridCol w="4094280"/>
                <a:gridCol w="409248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крепление предметных умений, формирование УУ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ошибочное выполнение упражнений, решение задач отдельными учениками, коллективом класса; безошибочные устные ответы; умение находить и исправлять ошибки, оказывать взаимопомощ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2"/>
          <p:cNvSpPr/>
          <p:nvPr/>
        </p:nvSpPr>
        <p:spPr>
          <a:xfrm>
            <a:off x="857160" y="3571920"/>
            <a:ext cx="7758360" cy="511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ный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42960" y="4071960"/>
          <a:ext cx="8115120" cy="1239840"/>
        </p:xfrm>
        <a:graphic>
          <a:graphicData uri="http://schemas.openxmlformats.org/drawingml/2006/table">
            <a:tbl>
              <a:tblPr/>
              <a:tblGrid>
                <a:gridCol w="4057560"/>
                <a:gridCol w="4057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верка предметных умений решать практические 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контрольной или самостоятельной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115480" cy="511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бинированный уро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0040" y="642960"/>
          <a:ext cx="8115480" cy="1471680"/>
        </p:xfrm>
        <a:graphic>
          <a:graphicData uri="http://schemas.openxmlformats.org/drawingml/2006/table">
            <a:tbl>
              <a:tblPr/>
              <a:tblGrid>
                <a:gridCol w="4057560"/>
                <a:gridCol w="40579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задач, которые невозможно выполнить в рамках одного уро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поставленных дидактически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2"/>
          <p:cNvSpPr/>
          <p:nvPr/>
        </p:nvSpPr>
        <p:spPr>
          <a:xfrm>
            <a:off x="642960" y="2214720"/>
            <a:ext cx="7972560" cy="500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ая экскурс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42960" y="2714760"/>
          <a:ext cx="7900920" cy="2471760"/>
        </p:xfrm>
        <a:graphic>
          <a:graphicData uri="http://schemas.openxmlformats.org/drawingml/2006/table">
            <a:tbl>
              <a:tblPr/>
              <a:tblGrid>
                <a:gridCol w="3951360"/>
                <a:gridCol w="394956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посредственное изучение явлений окружающего ми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и применение предметных знаний и умений при изучении явлений окружающего мира в реальных жизненных ситуациях; творческое оформление отче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11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решения практических, проект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0040" y="785880"/>
          <a:ext cx="8329680" cy="1400040"/>
        </p:xfrm>
        <a:graphic>
          <a:graphicData uri="http://schemas.openxmlformats.org/drawingml/2006/table">
            <a:tbl>
              <a:tblPr/>
              <a:tblGrid>
                <a:gridCol w="4165560"/>
                <a:gridCol w="416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изучения теоретических полож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средств учебного курса в целях изучения окружающего ми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2:07:28Z</dcterms:created>
  <dc:creator>Пользователь</dc:creator>
  <dc:description/>
  <dc:language>en-US</dc:language>
  <cp:lastModifiedBy>каб</cp:lastModifiedBy>
  <dcterms:modified xsi:type="dcterms:W3CDTF">2012-02-28T05:40:28Z</dcterms:modified>
  <cp:revision>65</cp:revision>
  <dc:subject/>
  <dc:title>Урок в соответствии с ФГОС</dc:title>
</cp:coreProperties>
</file>