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04D-6FE9-447D-83D1-539C510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E5D-3021-4B90-860B-1CF74FFC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852-FC0D-435F-B6FC-FFCB3294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B64-1EB4-4B60-A08D-4456CB51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83D-FB31-42D8-8C8A-75769C4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C17-B6A8-45AD-95C7-D222C827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397-D2F7-48C2-8C4B-F590B4A8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5C6-AEFD-413D-BC22-9573BF20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903-1C8D-48CC-9E0C-ADF2A613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A49-D5B1-4CDE-91DD-66741E9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569-70A7-4DEF-AB7E-C6508569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9F0-B322-44AD-9174-61761A3F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5BA7-8E0C-497C-88E3-DD1ECBCCF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75680" y="333360"/>
            <a:ext cx="71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 Rounded MT Bold"/>
              </a:rPr>
              <a:t>Памятные места, связа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 Rounded MT Bold"/>
              </a:rPr>
              <a:t>с жизнью Н.В.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163361490"/>
          <p:cNvPicPr/>
          <p:nvPr/>
        </p:nvPicPr>
        <p:blipFill>
          <a:blip r:embed="rId2"/>
          <a:stretch/>
        </p:blipFill>
        <p:spPr>
          <a:xfrm>
            <a:off x="1547640" y="2781360"/>
            <a:ext cx="6877080" cy="3876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705040" y="1700280"/>
            <a:ext cx="62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 заключительному уроку по творчеству Н.В.Гог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Подготовила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МБОУ СОШ №1 р.п. Хор Литвиненко С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3000598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163358875"/>
          <p:cNvPicPr/>
          <p:nvPr/>
        </p:nvPicPr>
        <p:blipFill>
          <a:blip r:embed="rId2"/>
          <a:stretch/>
        </p:blipFill>
        <p:spPr>
          <a:xfrm>
            <a:off x="1584360" y="1909800"/>
            <a:ext cx="7559640" cy="4948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928320" y="62064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Гостиная, сто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3000598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63358426"/>
          <p:cNvPicPr/>
          <p:nvPr/>
        </p:nvPicPr>
        <p:blipFill>
          <a:blip r:embed="rId2"/>
          <a:stretch/>
        </p:blipFill>
        <p:spPr>
          <a:xfrm>
            <a:off x="2771640" y="549360"/>
            <a:ext cx="5943600" cy="5803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327960" y="4098960"/>
            <a:ext cx="27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Комн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Н.В.Гог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где про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детски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пис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3000598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163359691"/>
          <p:cNvPicPr/>
          <p:nvPr/>
        </p:nvPicPr>
        <p:blipFill>
          <a:blip r:embed="rId2"/>
          <a:stretch/>
        </p:blipFill>
        <p:spPr>
          <a:xfrm>
            <a:off x="1763640" y="1916280"/>
            <a:ext cx="7096320" cy="474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0000" y="620640"/>
            <a:ext cx="55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Гербарий, собранный Н.В.Гого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163359898"/>
          <p:cNvPicPr/>
          <p:nvPr/>
        </p:nvPicPr>
        <p:blipFill>
          <a:blip r:embed="rId2"/>
          <a:stretch/>
        </p:blipFill>
        <p:spPr>
          <a:xfrm>
            <a:off x="4211640" y="189000"/>
            <a:ext cx="4457520" cy="6362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972720" y="3787920"/>
            <a:ext cx="293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Предметы бы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Дикан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3000598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63357093"/>
          <p:cNvPicPr/>
          <p:nvPr/>
        </p:nvPicPr>
        <p:blipFill>
          <a:blip r:embed="rId2"/>
          <a:stretch/>
        </p:blipFill>
        <p:spPr>
          <a:xfrm>
            <a:off x="2195640" y="260280"/>
            <a:ext cx="6519600" cy="6240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251640" y="374184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Театр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аф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к спектак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по произве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Н.В.Гог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3000598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556"/>
          <p:cNvPicPr/>
          <p:nvPr/>
        </p:nvPicPr>
        <p:blipFill>
          <a:blip r:embed="rId2"/>
          <a:stretch/>
        </p:blipFill>
        <p:spPr>
          <a:xfrm>
            <a:off x="2484360" y="2060640"/>
            <a:ext cx="6327720" cy="4741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2698920" y="180360"/>
            <a:ext cx="60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Городская усадьба А.С. Талызи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мемориальный центр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Николая Гоголя. 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городская библиотека, "Дом Гогол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000598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63360645"/>
          <p:cNvPicPr/>
          <p:nvPr/>
        </p:nvPicPr>
        <p:blipFill>
          <a:blip r:embed="rId2"/>
          <a:stretch/>
        </p:blipFill>
        <p:spPr>
          <a:xfrm>
            <a:off x="2050920" y="2133720"/>
            <a:ext cx="6621480" cy="4332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922840" y="569880"/>
            <a:ext cx="55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Дом, где родился Н.В Гого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в селе Великие Сорочи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000598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63360157"/>
          <p:cNvPicPr/>
          <p:nvPr/>
        </p:nvPicPr>
        <p:blipFill>
          <a:blip r:embed="rId2"/>
          <a:stretch/>
        </p:blipFill>
        <p:spPr>
          <a:xfrm>
            <a:off x="1476360" y="1916280"/>
            <a:ext cx="7310520" cy="4749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1979640" y="15120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Во время Великой Отечественной войны, в 1943 году, дом был разрушен, экспонаты сгорели. В 1951 году было открыто вновь построенное здесь же помещение музея, перед фасадом которого в 1952 году установлен бронзовый бюст пис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000598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63358571"/>
          <p:cNvPicPr/>
          <p:nvPr/>
        </p:nvPicPr>
        <p:blipFill>
          <a:blip r:embed="rId2"/>
          <a:stretch/>
        </p:blipFill>
        <p:spPr>
          <a:xfrm>
            <a:off x="2268360" y="0"/>
            <a:ext cx="6519960" cy="6450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24000" y="3357720"/>
            <a:ext cx="254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Вид изд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на се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Васильев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родовое гнез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Гоголей-Янов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На Укра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63360090"/>
          <p:cNvPicPr/>
          <p:nvPr/>
        </p:nvPicPr>
        <p:blipFill>
          <a:blip r:embed="rId2"/>
          <a:stretch/>
        </p:blipFill>
        <p:spPr>
          <a:xfrm>
            <a:off x="4643280" y="260280"/>
            <a:ext cx="4168800" cy="623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755640" y="1100520"/>
            <a:ext cx="389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Музей-запов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Н.В. Гог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в селе Гого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(раньше село            Васильев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был создан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территори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бывшей усадьбы               Гоголей-Яновск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Здесь прошли дет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и юношеские годы                Гоголя, сюда он приезжал в раз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годы к матери и сестрам.</a:t>
            </a: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3000598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63356131"/>
          <p:cNvPicPr/>
          <p:nvPr/>
        </p:nvPicPr>
        <p:blipFill>
          <a:blip r:embed="rId2"/>
          <a:stretch/>
        </p:blipFill>
        <p:spPr>
          <a:xfrm>
            <a:off x="2843280" y="404640"/>
            <a:ext cx="5943600" cy="5981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40720" y="4508640"/>
            <a:ext cx="208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Экс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в 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из ком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муз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000598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63357640"/>
          <p:cNvPicPr/>
          <p:nvPr/>
        </p:nvPicPr>
        <p:blipFill>
          <a:blip r:embed="rId2"/>
          <a:stretch/>
        </p:blipFill>
        <p:spPr>
          <a:xfrm>
            <a:off x="2771640" y="476280"/>
            <a:ext cx="59436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000598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63357891"/>
          <p:cNvPicPr/>
          <p:nvPr/>
        </p:nvPicPr>
        <p:blipFill>
          <a:blip r:embed="rId2"/>
          <a:stretch/>
        </p:blipFill>
        <p:spPr>
          <a:xfrm>
            <a:off x="1692360" y="2133720"/>
            <a:ext cx="7024680" cy="4592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615760" y="444600"/>
            <a:ext cx="54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Комната матери Н.В. Г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3000598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63358363"/>
          <p:cNvPicPr/>
          <p:nvPr/>
        </p:nvPicPr>
        <p:blipFill>
          <a:blip r:embed="rId2"/>
          <a:stretch/>
        </p:blipFill>
        <p:spPr>
          <a:xfrm>
            <a:off x="2916360" y="476280"/>
            <a:ext cx="594360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973440" y="3860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Гости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57:27Z</dcterms:created>
  <dc:creator>User</dc:creator>
  <dc:description/>
  <dc:language>en-US</dc:language>
  <cp:lastModifiedBy>завуч</cp:lastModifiedBy>
  <dcterms:modified xsi:type="dcterms:W3CDTF">2015-01-16T11:55:18Z</dcterms:modified>
  <cp:revision>5</cp:revision>
  <dc:subject/>
  <dc:title>Слайд 1</dc:title>
</cp:coreProperties>
</file>