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D9AE-C66D-4348-85A5-6085F9E8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A34F-4366-4672-8372-78A28A00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8C2D-43DB-4BD2-8E36-2C3298A8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4CA6-7FBE-4FDE-916F-C3099A49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EF8B-CCDB-4203-87CC-237F0B88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23C7-5A98-4EE4-85D2-608FE72D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91C4-1BD5-4648-8684-5617E874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B300-F545-4EA7-AE3F-C252DBB6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04BE-D1CD-4568-AE5D-A470F157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735F-9823-448D-8016-05A2E41A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86E9-BA35-4CD2-986F-08C6C6C4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444-AEB1-4F6F-A410-9EA703E1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1DF4-1A50-4EDF-B315-D092079F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FED3-5146-4D63-A918-CD3EEA8A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4A66-FED6-4AC6-98C9-868327FD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6C90-7B50-42F9-A82C-ABD75559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5500-4DB6-4C92-8329-E9A59CD5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9E8F-0F8D-43E2-A6D1-2EBBD399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9175-74CA-4B7A-BE9A-475FFE61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246B-DBF4-414C-BA16-FAE4A84B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7ADF-4E62-4E30-99D9-69D66F06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1A49-C451-4E53-94FD-826A10BF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0C0C-2374-4EA0-8CFE-0A993497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C623-F397-43A5-A787-B9801027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48FA-8F27-42F8-9FD9-CF29A503C63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7909-B09A-4072-87FB-8539FE11AA3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ЛИЧНАЯ ГИГИЕНА, 5 КЛАСС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Picture 96" descr="E:\ВСЕ ПРЕЗЕНТАЦИИ\Анимированные рисунки и рамки\Анимация\80.GIF"/>
          <p:cNvPicPr/>
          <p:nvPr/>
        </p:nvPicPr>
        <p:blipFill>
          <a:blip r:embed="rId1"/>
          <a:stretch/>
        </p:blipFill>
        <p:spPr>
          <a:xfrm>
            <a:off x="1116000" y="2205000"/>
            <a:ext cx="2879640" cy="21081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95280" y="4797360"/>
            <a:ext cx="649116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33"/>
                </a:solidFill>
                <a:latin typeface="Arial"/>
              </a:rPr>
              <a:t>ГБС(К)ОУ школа-интернат </a:t>
            </a:r>
            <a:r>
              <a:rPr b="0" lang="en-US" sz="1600" spc="-1" strike="noStrike">
                <a:solidFill>
                  <a:srgbClr val="330033"/>
                </a:solidFill>
                <a:latin typeface="Arial"/>
              </a:rPr>
              <a:t>VIII </a:t>
            </a:r>
            <a:r>
              <a:rPr b="0" lang="ru-RU" sz="1600" spc="-1" strike="noStrike">
                <a:solidFill>
                  <a:srgbClr val="330033"/>
                </a:solidFill>
                <a:latin typeface="Arial"/>
              </a:rPr>
              <a:t> вида станицы Медведовской Краснодар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33"/>
                </a:solidFill>
                <a:latin typeface="Arial"/>
              </a:rPr>
              <a:t>                                                                    </a:t>
            </a:r>
            <a:r>
              <a:rPr b="0" lang="ru-RU" sz="1600" spc="-1" strike="noStrike">
                <a:solidFill>
                  <a:srgbClr val="330033"/>
                </a:solidFill>
                <a:latin typeface="Arial"/>
              </a:rPr>
              <a:t>Учитель: Миронюк З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НАЗОВИТЕ СРЕДСТВА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ЛИЧНОЙ ГИГИЕН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gigiena1"/>
          <p:cNvPicPr/>
          <p:nvPr/>
        </p:nvPicPr>
        <p:blipFill>
          <a:blip r:embed="rId1"/>
          <a:stretch/>
        </p:blipFill>
        <p:spPr>
          <a:xfrm>
            <a:off x="971640" y="1366920"/>
            <a:ext cx="77770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3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ХОД ЗА КОЖЕ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7" name="Picture 9" descr="acne-14"/>
          <p:cNvPicPr/>
          <p:nvPr/>
        </p:nvPicPr>
        <p:blipFill>
          <a:blip r:embed="rId1"/>
          <a:stretch/>
        </p:blipFill>
        <p:spPr>
          <a:xfrm>
            <a:off x="1193760" y="1600200"/>
            <a:ext cx="3251160" cy="218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stock-photo-set-of-perfumery-7271131"/>
          <p:cNvPicPr/>
          <p:nvPr/>
        </p:nvPicPr>
        <p:blipFill>
          <a:blip r:embed="rId2"/>
          <a:stretch/>
        </p:blipFill>
        <p:spPr>
          <a:xfrm>
            <a:off x="6113520" y="1978200"/>
            <a:ext cx="1334880" cy="946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348ace306f"/>
          <p:cNvPicPr/>
          <p:nvPr/>
        </p:nvPicPr>
        <p:blipFill>
          <a:blip r:embed="rId3"/>
          <a:stretch/>
        </p:blipFill>
        <p:spPr>
          <a:xfrm>
            <a:off x="5394240" y="2997360"/>
            <a:ext cx="2774880" cy="1800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95280" y="4508640"/>
            <a:ext cx="8353440" cy="16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улярное обмывание водой со специальными моющими средст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улярная смена бел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щита открытых участков от мелких тра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щита от неблагоприятных воздействий окружающе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е пит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ход за волосам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56000" y="1773360"/>
            <a:ext cx="43308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cc99"/>
                </a:solidFill>
                <a:latin typeface="Arial"/>
              </a:rPr>
              <a:t>СОДЕРДАНИЕ В ЧИСТО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-соблюдение режима мытья волос с о специальными моющими средст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-регулярная стрижка вол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cc99"/>
                </a:solidFill>
                <a:latin typeface="Arial"/>
              </a:rPr>
              <a:t>ЗАЩ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-не ходить без головного убора в морозную и жаркую по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cc99"/>
                </a:solidFill>
                <a:latin typeface="Arial"/>
              </a:rPr>
              <a:t>УКРЕПЛЕНИЕ ВОЛ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-правильное 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-регулярное расчес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cc99"/>
                </a:solidFill>
                <a:latin typeface="Arial"/>
              </a:rPr>
              <a:t>Своевременная профилактика и л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33"/>
                </a:solidFill>
                <a:latin typeface="Arial"/>
              </a:rPr>
              <a:t>-расческа должна быть индивидуа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33"/>
                </a:solidFill>
                <a:latin typeface="Arial"/>
              </a:rPr>
              <a:t>-при заболевании обратиться к врач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348ace306f"/>
          <p:cNvPicPr/>
          <p:nvPr/>
        </p:nvPicPr>
        <p:blipFill>
          <a:blip r:embed="rId1"/>
          <a:stretch/>
        </p:blipFill>
        <p:spPr>
          <a:xfrm>
            <a:off x="684360" y="1484280"/>
            <a:ext cx="3527280" cy="46814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2"/>
          <p:cNvSpPr/>
          <p:nvPr/>
        </p:nvSpPr>
        <p:spPr>
          <a:xfrm>
            <a:off x="1979640" y="3933720"/>
            <a:ext cx="151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УХОД ЗА ЗУБАМИ И ПОЛОСТЬЮ РТА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33"/>
                </a:solidFill>
                <a:latin typeface="Arial"/>
              </a:rPr>
              <a:t>СОДЕРЖАНИЕ В ЧИСТ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0033"/>
                </a:solidFill>
                <a:latin typeface="Arial"/>
              </a:rPr>
              <a:t>-чистить зубы 2 раза в су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0033"/>
                </a:solidFill>
                <a:latin typeface="Arial"/>
              </a:rPr>
              <a:t>-полоскать полость рта после каждого приёма пи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33"/>
                </a:solidFill>
                <a:latin typeface="Arial"/>
              </a:rPr>
              <a:t>ЗАЩ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беречь от механических повреждений во время спортивных и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33"/>
                </a:solidFill>
                <a:latin typeface="Arial"/>
              </a:rPr>
              <a:t>УКРЕ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употреблять в пищу продукты укрепляющие зубы и дёс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33"/>
                </a:solidFill>
                <a:latin typeface="Arial"/>
              </a:rPr>
              <a:t>Современная профилактика и л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использовать только индивидуальную щётку, посещать 2 раза в год стоматол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1245346291_3"/>
          <p:cNvPicPr/>
          <p:nvPr/>
        </p:nvPicPr>
        <p:blipFill>
          <a:blip r:embed="rId1"/>
          <a:stretch/>
        </p:blipFill>
        <p:spPr>
          <a:xfrm>
            <a:off x="900000" y="1628640"/>
            <a:ext cx="3527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актическая раб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040" y="1600200"/>
            <a:ext cx="38098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787640" y="1700280"/>
            <a:ext cx="380988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280" y="4220640"/>
            <a:ext cx="79311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тите зубы не только справа налево, но и сверху вниз и снизу вверх, с наружной стороны и с внутрен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ётку после использование тщательно промойте и просуши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огда не чистите зубы чужой щёт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щите рот тёплой водой после 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а раза в год проверяйте состояние зубов у вра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zubbbb"/>
          <p:cNvPicPr/>
          <p:nvPr/>
        </p:nvPicPr>
        <p:blipFill>
          <a:blip r:embed="rId1"/>
          <a:stretch/>
        </p:blipFill>
        <p:spPr>
          <a:xfrm>
            <a:off x="1214280" y="1571760"/>
            <a:ext cx="2814840" cy="2736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zubnayapasta"/>
          <p:cNvPicPr/>
          <p:nvPr/>
        </p:nvPicPr>
        <p:blipFill>
          <a:blip r:embed="rId2"/>
          <a:stretch/>
        </p:blipFill>
        <p:spPr>
          <a:xfrm>
            <a:off x="4500720" y="1571760"/>
            <a:ext cx="33573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АВИЛА ЛИЧНОЙ ГИГИЕН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38102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042560" y="3212640"/>
            <a:ext cx="7643880" cy="29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ть руки перед едой, после посещения туалета, после всякого загряз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ичь коротко ногти на руках и ног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ть на ночь ноги и вытирать их специальным полотенц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ться до пояса, мыть лицо, уши и ше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ть в порядке вол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тить уши регуляр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431K0478"/>
          <p:cNvPicPr/>
          <p:nvPr/>
        </p:nvPicPr>
        <p:blipFill>
          <a:blip r:embed="rId1"/>
          <a:stretch/>
        </p:blipFill>
        <p:spPr>
          <a:xfrm>
            <a:off x="900000" y="1484280"/>
            <a:ext cx="417672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тог занят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2565360"/>
            <a:ext cx="77724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какой темой сегодня познакомили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итайте в тетради  правила ухода за зуб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значит слово «гигиена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9T18:39:42Z</dcterms:created>
  <dc:creator>Комп</dc:creator>
  <dc:description/>
  <dc:language>en-US</dc:language>
  <cp:lastModifiedBy>Зинаида</cp:lastModifiedBy>
  <dcterms:modified xsi:type="dcterms:W3CDTF">2015-01-16T19:15:10Z</dcterms:modified>
  <cp:revision>5</cp:revision>
  <dc:subject/>
  <dc:title>Слайд 1</dc:title>
</cp:coreProperties>
</file>