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07E-FF6A-46C8-83CA-41207C4B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273-1F73-4FA8-A2CB-4576C353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E17-CBDA-4E79-B8BC-3210FE1B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E6F-5EB0-4414-A80B-97E19034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92F-3C6F-4382-AEC9-6FC3E1CF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F80-6F07-4AC0-B51D-9791D2A9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845-9AE2-49DC-99AD-262B47D5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979-926E-4EB5-B4FB-67578B5D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D33-CC90-4BC3-989B-6C3D29A2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913-9818-44A0-80E1-2842139E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10F-BDEA-4C7B-A926-162D304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6B8-B5FE-4E38-8C44-EA23E4AB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ACFB-62FC-485D-BAB9-526D33ACD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vtoliteratura.ru/files/karty/RF%20197%2013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kazlar.ru/alboms/welli/022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samara-photo.ru/images/4ad37ff33ce83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759280" cy="5759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539640" y="189000"/>
            <a:ext cx="8064720" cy="61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2281894"/>
                <a:gd name="adj2" fmla="val 79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асшта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0" y="2849400"/>
            <a:ext cx="3780000" cy="378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6732720" y="4508640"/>
            <a:ext cx="215712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карте с масштабом 1: 150 000 расстояние между деревней и станцией равно 2,8 см. Найти расстояние между ними на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"/>
              <p:cNvSpPr txBox="1"/>
              <p:nvPr/>
            </p:nvSpPr>
            <p:spPr>
              <a:xfrm>
                <a:off x="468360" y="4653000"/>
                <a:ext cx="81723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8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0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0000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00</m:t>
                    </m:r>
                    <m:r>
                      <m:t xml:space="preserve">м</m:t>
                    </m:r>
                    <m:r>
                      <m:t xml:space="preserve">=</m:t>
                    </m:r>
                    <m:r>
                      <m:t xml:space="preserve">4,2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539640" y="402840"/>
            <a:ext cx="8236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тояние между двумя городами равно 400 к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те длину отрезка, соединяющего эти города на карте, выполненн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масштабе 1 : 5 000 00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58920" y="494172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00км = 400 000м = 40 000 0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84360" y="566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0 000 000 : 5 000 000 = 40 : 5 = 8 (с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лгоритм нахождения расстояния на карт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2565360"/>
            <a:ext cx="87850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чтобы найти расстояние на карте, надо расстояние на местности разделить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 делитель в отношении, показывающем масштаб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Копия AN00790_"/>
          <p:cNvPicPr/>
          <p:nvPr/>
        </p:nvPicPr>
        <p:blipFill>
          <a:blip r:embed="rId1"/>
          <a:stretch/>
        </p:blipFill>
        <p:spPr>
          <a:xfrm>
            <a:off x="539640" y="549360"/>
            <a:ext cx="2044800" cy="2133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2693880" y="2133720"/>
            <a:ext cx="629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масштаб задан дробью с числителем 1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img_1825w"/>
          <p:cNvPicPr/>
          <p:nvPr/>
        </p:nvPicPr>
        <p:blipFill>
          <a:blip r:embed="rId1"/>
          <a:stretch/>
        </p:blipFill>
        <p:spPr>
          <a:xfrm>
            <a:off x="285840" y="285840"/>
            <a:ext cx="8424720" cy="3809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28440" y="4429080"/>
            <a:ext cx="73580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длину Москвы-реки на карте 1:5000000,если её длина на местности равна 470 кило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50920" y="404640"/>
            <a:ext cx="80661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Решение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=470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штаб 1:50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Реш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70 км=47000000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7000000 : 5000000= 9,4 (с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твет: длина Москвы-реки на карте 9,4 сантиметр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Картинка 10 из 5932"/>
          <p:cNvPicPr/>
          <p:nvPr/>
        </p:nvPicPr>
        <p:blipFill>
          <a:blip r:embed="rId1"/>
          <a:stretch/>
        </p:blipFill>
        <p:spPr>
          <a:xfrm>
            <a:off x="5292720" y="189000"/>
            <a:ext cx="37083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Являются ли эти записи отношениями? Где вы с ними встречались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381636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 100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 25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 4 000 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Картинка 53 из 125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1916280"/>
            <a:ext cx="50767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Картинка 61 из 4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73360"/>
            <a:ext cx="3487680" cy="4671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716360" y="189000"/>
            <a:ext cx="4103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шта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:34 – 1: 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Картинка 1 из 116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7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468360" y="4797360"/>
            <a:ext cx="388764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кроорганизм Даф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штаб 95: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Картинка 54 из 11633"/>
          <p:cNvPicPr/>
          <p:nvPr/>
        </p:nvPicPr>
        <p:blipFill>
          <a:blip r:embed="rId1"/>
          <a:stretch/>
        </p:blipFill>
        <p:spPr>
          <a:xfrm>
            <a:off x="395280" y="40464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4724280"/>
            <a:ext cx="37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ь атома в высоком масштабе увели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Картинка 49 из 4320"/>
          <p:cNvPicPr/>
          <p:nvPr/>
        </p:nvPicPr>
        <p:blipFill>
          <a:blip r:embed="rId2"/>
          <a:stretch/>
        </p:blipFill>
        <p:spPr>
          <a:xfrm>
            <a:off x="4643280" y="3429000"/>
            <a:ext cx="4324680" cy="2762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5076720" y="1413000"/>
            <a:ext cx="388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ь пожарной машины в  уменьшенном масшта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тношение длины отрез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 изображ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 его настоящей длин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масштабом изобра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547640" y="4221000"/>
                <a:ext cx="13716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5"/>
          <p:cNvSpPr/>
          <p:nvPr/>
        </p:nvSpPr>
        <p:spPr>
          <a:xfrm>
            <a:off x="5508720" y="4437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: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500720" y="558972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: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чите фраз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если длина отрезка СК на карте в 20 000 раз меньше, чем на местности, то масштаб этой карт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если отрезок АВ = 1 см изображён на карте с масштабом 1 : 10 000, то на местности его дли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564000" y="5734080"/>
            <a:ext cx="460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i?id=15553634&amp;tov=2"/>
          <p:cNvPicPr/>
          <p:nvPr/>
        </p:nvPicPr>
        <p:blipFill>
          <a:blip r:embed="rId1"/>
          <a:stretch/>
        </p:blipFill>
        <p:spPr>
          <a:xfrm>
            <a:off x="7093080" y="4149720"/>
            <a:ext cx="168264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Картинка 13 из 90311"/>
          <p:cNvPicPr/>
          <p:nvPr/>
        </p:nvPicPr>
        <p:blipFill>
          <a:blip r:embed="rId2"/>
          <a:stretch/>
        </p:blipFill>
        <p:spPr>
          <a:xfrm>
            <a:off x="250920" y="189000"/>
            <a:ext cx="2485800" cy="1866960"/>
          </a:xfrm>
          <a:prstGeom prst="rect">
            <a:avLst/>
          </a:prstGeom>
          <a:ln w="0">
            <a:noFill/>
          </a:ln>
        </p:spPr>
      </p:pic>
      <p:sp>
        <p:nvSpPr>
          <p:cNvPr id="65" name="Line 12"/>
          <p:cNvSpPr/>
          <p:nvPr/>
        </p:nvSpPr>
        <p:spPr>
          <a:xfrm>
            <a:off x="2700360" y="1773360"/>
            <a:ext cx="4392720" cy="2519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 rot="1844400">
            <a:off x="1547280" y="3643560"/>
            <a:ext cx="73234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от Москвы до Санкт-Петербур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ямой составляет  примерно 635 км от центра до центра. По автотрассе протяженность маршрут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0 к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995640" y="18900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сколько раз надо уменьшить это расстояние, чтобы его можно было изобразить  на слайде в виде отрезка длиной в 14 с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24000" y="5300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0000000см: 14см = 5000000(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24000" y="59500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означает отношение 1: 5000000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402480" y="465300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00км=700000м=7000000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шите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карте с масштабом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тояние равно 5 с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расстояние на мест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5867280" y="907920"/>
                <a:ext cx="13716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5" name="Picture 6" descr="Картинка 18 из 173619"/>
          <p:cNvPicPr/>
          <p:nvPr/>
        </p:nvPicPr>
        <p:blipFill>
          <a:blip r:embed="rId1"/>
          <a:stretch/>
        </p:blipFill>
        <p:spPr>
          <a:xfrm>
            <a:off x="6227640" y="2349360"/>
            <a:ext cx="2592360" cy="2374920"/>
          </a:xfrm>
          <a:prstGeom prst="rect">
            <a:avLst/>
          </a:prstGeom>
          <a:ln w="0">
            <a:noFill/>
          </a:ln>
        </p:spPr>
      </p:pic>
      <p:sp>
        <p:nvSpPr>
          <p:cNvPr id="76" name="Line 7"/>
          <p:cNvSpPr/>
          <p:nvPr/>
        </p:nvSpPr>
        <p:spPr>
          <a:xfrm>
            <a:off x="6732720" y="3141720"/>
            <a:ext cx="1368360" cy="5745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11280" y="393372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7"/>
              <p:cNvSpPr txBox="1"/>
              <p:nvPr/>
            </p:nvSpPr>
            <p:spPr>
              <a:xfrm>
                <a:off x="0" y="4869000"/>
                <a:ext cx="9001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00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</m:t>
                    </m:r>
                    <m:r>
                      <m:t xml:space="preserve">м</m:t>
                    </m:r>
                    <m:r>
                      <m:t xml:space="preserve">=</m:t>
                    </m:r>
                    <m:r>
                      <m:t xml:space="preserve">2,5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лгоритм нахождения расстояния на местност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тобы найти расстояние на местности, над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асстояние на кар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множить на делитель в отношении, показывающем масшта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Копия AN00790_"/>
          <p:cNvPicPr/>
          <p:nvPr/>
        </p:nvPicPr>
        <p:blipFill>
          <a:blip r:embed="rId1"/>
          <a:stretch/>
        </p:blipFill>
        <p:spPr>
          <a:xfrm>
            <a:off x="6948360" y="2924280"/>
            <a:ext cx="2044800" cy="2133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46836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масштаб задан дробью с числителем 1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8:52:05Z</dcterms:created>
  <dc:creator>Your User Name</dc:creator>
  <dc:description/>
  <dc:language>en-US</dc:language>
  <cp:lastModifiedBy>Никита</cp:lastModifiedBy>
  <dcterms:modified xsi:type="dcterms:W3CDTF">2013-01-17T17:36:42Z</dcterms:modified>
  <cp:revision>17</cp:revision>
  <dc:subject/>
  <dc:title>Вычислите:</dc:title>
</cp:coreProperties>
</file>