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11.png" ContentType="image/png"/>
  <Override PartName="/ppt/media/image19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20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2C53-C0F3-46C4-9850-A438E1AB3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F9E0-80C8-4E3B-B6E5-867B682F5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CC3-CC05-439D-86D1-477F4AD9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FFE-1E85-4698-8BA6-56451058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547-6EC5-4699-937B-9DC87C5F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AAC-D76B-48DB-981A-DE5512B0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F06-B703-4693-9373-5D2F1E2A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0CC-30B8-497C-BCAB-8C766DE7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E9E-D80D-45F7-8DEE-91984E61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EA9-F488-4EED-B8F6-E4EDBB0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CB8-C19F-42BE-8E23-03E0AD92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EFF-2310-4990-A778-31B60FD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1C2-779A-4498-B1F1-80FFC64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807-B28F-4337-8A65-C60F0945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C13E-0502-4067-BC67-20CB8EF7C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749160" y="993600"/>
            <a:ext cx="7785360" cy="335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857920" y="4428720"/>
            <a:ext cx="30002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иманова Анна Вениамин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географ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лавской основной шко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071800" y="142920"/>
            <a:ext cx="5429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образования и молодёжн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лавская основна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286080" y="6143760"/>
            <a:ext cx="1500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714760" y="4865040"/>
            <a:ext cx="3000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Белавка, 2012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http://thebester.ru/uploads/images/00/60/57/2011/09/28/972056ac81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ор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5" descr=""/>
          <p:cNvPicPr/>
          <p:nvPr/>
        </p:nvPicPr>
        <p:blipFill>
          <a:blip r:embed="rId2"/>
          <a:stretch/>
        </p:blipFill>
        <p:spPr>
          <a:xfrm>
            <a:off x="2066760" y="2743200"/>
            <a:ext cx="50832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2428560"/>
            <a:ext cx="37861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ое изображение оборотной стороны - здание Большого театра 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tl04_Image1" descr="http://www.cbr.ru/bank-notes_coins/bank-notes/G2004/B100/100R_04_av.jpg"/>
          <p:cNvPicPr/>
          <p:nvPr/>
        </p:nvPicPr>
        <p:blipFill>
          <a:blip r:embed="rId1"/>
          <a:stretch/>
        </p:blipFill>
        <p:spPr>
          <a:xfrm>
            <a:off x="357120" y="357120"/>
            <a:ext cx="478656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Рисунок 6" descr="http://www.cbr.ru/bank-notes_coins/bank-notes/G2004/B100/100R_04_rv.jpg"/>
          <p:cNvPicPr/>
          <p:nvPr/>
        </p:nvPicPr>
        <p:blipFill>
          <a:blip r:embed="rId2"/>
          <a:stretch/>
        </p:blipFill>
        <p:spPr>
          <a:xfrm>
            <a:off x="3857760" y="3929040"/>
            <a:ext cx="48574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Box 7"/>
          <p:cNvSpPr/>
          <p:nvPr/>
        </p:nvSpPr>
        <p:spPr>
          <a:xfrm>
            <a:off x="5357880" y="642960"/>
            <a:ext cx="378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ое изображение лицевой стороны -квадрига на портике здания Большого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http://thebester.ru/uploads/images/00/60/57/2011/09/28/fd1e28b54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Гор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7" descr=""/>
          <p:cNvPicPr/>
          <p:nvPr/>
        </p:nvPicPr>
        <p:blipFill>
          <a:blip r:embed="rId2"/>
          <a:stretch/>
        </p:blipFill>
        <p:spPr>
          <a:xfrm>
            <a:off x="927000" y="2962440"/>
            <a:ext cx="78026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http://www.cbr.ru/bank-notes_coins/bank-notes/G2004/B500/500R_04_av.jpg"/>
          <p:cNvPicPr/>
          <p:nvPr/>
        </p:nvPicPr>
        <p:blipFill>
          <a:blip r:embed="rId1"/>
          <a:stretch/>
        </p:blipFill>
        <p:spPr>
          <a:xfrm>
            <a:off x="357120" y="500040"/>
            <a:ext cx="492912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Содержимое 4" descr="http://www.cbr.ru/bank-notes_coins/bank-notes/G2004/B500/500R_04_rv.jpg"/>
          <p:cNvPicPr/>
          <p:nvPr/>
        </p:nvPicPr>
        <p:blipFill>
          <a:blip r:embed="rId2"/>
          <a:stretch/>
        </p:blipFill>
        <p:spPr>
          <a:xfrm>
            <a:off x="3643200" y="4143240"/>
            <a:ext cx="5000760" cy="214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TextBox 5"/>
          <p:cNvSpPr/>
          <p:nvPr/>
        </p:nvSpPr>
        <p:spPr>
          <a:xfrm>
            <a:off x="5500800" y="285840"/>
            <a:ext cx="271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ое изображение лицевой стороны - памятник Петру I на фоне парусника в порту Архангель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428760" y="2234880"/>
            <a:ext cx="278604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ое изображение оборотной стороны - Соловецкий монасты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ор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4" descr=""/>
          <p:cNvPicPr/>
          <p:nvPr/>
        </p:nvPicPr>
        <p:blipFill>
          <a:blip r:embed="rId2"/>
          <a:stretch/>
        </p:blipFill>
        <p:spPr>
          <a:xfrm>
            <a:off x="1438200" y="2962440"/>
            <a:ext cx="698652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http://www.cbr.ru/bank-notes_coins/bank-notes/G2004/B1000/1000R_04_av.jpg"/>
          <p:cNvPicPr/>
          <p:nvPr/>
        </p:nvPicPr>
        <p:blipFill>
          <a:blip r:embed="rId1"/>
          <a:stretch/>
        </p:blipFill>
        <p:spPr>
          <a:xfrm>
            <a:off x="357120" y="285840"/>
            <a:ext cx="457200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Содержимое 4" descr="http://www.cbr.ru/bank-notes_coins/bank-notes/G2004/B1000/1000R_04_rv.jpg"/>
          <p:cNvPicPr/>
          <p:nvPr/>
        </p:nvPicPr>
        <p:blipFill>
          <a:blip r:embed="rId2"/>
          <a:stretch/>
        </p:blipFill>
        <p:spPr>
          <a:xfrm>
            <a:off x="3929040" y="3714840"/>
            <a:ext cx="485784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TextBox 5"/>
          <p:cNvSpPr/>
          <p:nvPr/>
        </p:nvSpPr>
        <p:spPr>
          <a:xfrm>
            <a:off x="5143680" y="857160"/>
            <a:ext cx="292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изображения лицевой стороны - памятник Ярославу Мудрому, часовня на фоне кремля г. Яросла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00040" y="4500720"/>
            <a:ext cx="328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изображения оборотной стороны -колокольня и церковь Иоанна Предтечи в г. Ярослав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http://thebester.ru/uploads/images/00/60/57/2011/09/28/7f71da1c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http://thebester.ru/uploads/images/00/60/57/2011/09/28/6d100a679d.jpg"/>
          <p:cNvPicPr/>
          <p:nvPr/>
        </p:nvPicPr>
        <p:blipFill>
          <a:blip r:embed="rId1"/>
          <a:stretch/>
        </p:blipFill>
        <p:spPr>
          <a:xfrm>
            <a:off x="357120" y="214200"/>
            <a:ext cx="3929040" cy="492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Рисунок 3" descr="http://thebester.ru/uploads/images/00/60/57/2011/09/28/5f690a0013.jpg"/>
          <p:cNvPicPr/>
          <p:nvPr/>
        </p:nvPicPr>
        <p:blipFill>
          <a:blip r:embed="rId2"/>
          <a:stretch/>
        </p:blipFill>
        <p:spPr>
          <a:xfrm>
            <a:off x="4572000" y="1500120"/>
            <a:ext cx="400068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Рисунок 5" descr="Картинка 55 из 9814"/>
          <p:cNvPicPr/>
          <p:nvPr/>
        </p:nvPicPr>
        <p:blipFill>
          <a:blip r:embed="rId1"/>
          <a:stretch/>
        </p:blipFill>
        <p:spPr>
          <a:xfrm>
            <a:off x="285840" y="285840"/>
            <a:ext cx="4357440" cy="36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Рисунок 6" descr="Картинка 46 из 105174"/>
          <p:cNvPicPr/>
          <p:nvPr/>
        </p:nvPicPr>
        <p:blipFill>
          <a:blip r:embed="rId2"/>
          <a:stretch/>
        </p:blipFill>
        <p:spPr>
          <a:xfrm>
            <a:off x="2500200" y="2928960"/>
            <a:ext cx="4357800" cy="36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Рисунок 7" descr="Картинка 1049 из 105171"/>
          <p:cNvPicPr/>
          <p:nvPr/>
        </p:nvPicPr>
        <p:blipFill>
          <a:blip r:embed="rId3"/>
          <a:stretch/>
        </p:blipFill>
        <p:spPr>
          <a:xfrm>
            <a:off x="4572000" y="1357200"/>
            <a:ext cx="4357800" cy="36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3" descr="http://thebester.ru/uploads/images/00/60/57/2011/09/28/296b16b8d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ор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2962440"/>
            <a:ext cx="60534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http://www.cbr.ru/bank-notes_coins/bank-notes/G2010/B5000/5000R_10_av.jpg"/>
          <p:cNvPicPr/>
          <p:nvPr/>
        </p:nvPicPr>
        <p:blipFill>
          <a:blip r:embed="rId1"/>
          <a:stretch/>
        </p:blipFill>
        <p:spPr>
          <a:xfrm>
            <a:off x="428760" y="500040"/>
            <a:ext cx="478620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Содержимое 4" descr="http://www.cbr.ru/bank-notes_coins/bank-notes/G2010/B5000/5000R_10_rv.jpg"/>
          <p:cNvPicPr/>
          <p:nvPr/>
        </p:nvPicPr>
        <p:blipFill>
          <a:blip r:embed="rId2"/>
          <a:stretch/>
        </p:blipFill>
        <p:spPr>
          <a:xfrm>
            <a:off x="3643200" y="3929040"/>
            <a:ext cx="500076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TextBox 5"/>
          <p:cNvSpPr/>
          <p:nvPr/>
        </p:nvSpPr>
        <p:spPr>
          <a:xfrm>
            <a:off x="5214960" y="500040"/>
            <a:ext cx="328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изображения лицевой стороны — памятник Н.Н. Муравьеву-Амурскому, набережная в г. Хабаров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428760" y="31680"/>
            <a:ext cx="30715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inherit"/>
                <a:ea typeface="Times New Roman"/>
              </a:rPr>
              <a:t>Основное изображение оборотной стороны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inherit"/>
                <a:ea typeface="Times New Roman"/>
              </a:rPr>
              <a:t> мост через р. Амур в г. Хабаров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2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216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Действительно, Красноярск, Архангельск, Ярославль, Хабаровск – характеризуют нашу страну с разных позиций: указывают на её огромное пространство, разнообразие природных условий и экономическое развитие, культурные традиции. А Москва и Санкт-Петербург - роль их в развитии государства неоцен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928800" y="128592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Картинка 174 из 98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Картинка 229 из 98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юди часто обращаются к денежным знакам, но не всегда заостряют внимание на том, что изображено на купюрах, а ведь  банкноты России носят познавательный харак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5" descr=""/>
          <p:cNvPicPr/>
          <p:nvPr/>
        </p:nvPicPr>
        <p:blipFill>
          <a:blip r:embed="rId1"/>
          <a:stretch/>
        </p:blipFill>
        <p:spPr>
          <a:xfrm>
            <a:off x="-115920" y="311040"/>
            <a:ext cx="93632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412120" cy="1779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Прямоугольник 10" descr=""/>
          <p:cNvPicPr/>
          <p:nvPr/>
        </p:nvPicPr>
        <p:blipFill>
          <a:blip r:embed="rId2"/>
          <a:stretch/>
        </p:blipFill>
        <p:spPr>
          <a:xfrm>
            <a:off x="781200" y="2670120"/>
            <a:ext cx="8412120" cy="17496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3" descr=""/>
          <p:cNvPicPr/>
          <p:nvPr/>
        </p:nvPicPr>
        <p:blipFill>
          <a:blip r:embed="rId3"/>
          <a:stretch/>
        </p:blipFill>
        <p:spPr>
          <a:xfrm>
            <a:off x="3060720" y="2279520"/>
            <a:ext cx="3016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3714840"/>
            <a:ext cx="27860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оборотной стороне изображена плотина Красноярской ГЭ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http://www.cbr.ru/bank-notes_coins/bank-notes/G2004/B10/10R_04_av.jpg"/>
          <p:cNvPicPr/>
          <p:nvPr/>
        </p:nvPicPr>
        <p:blipFill>
          <a:blip r:embed="rId1"/>
          <a:stretch/>
        </p:blipFill>
        <p:spPr>
          <a:xfrm>
            <a:off x="214200" y="0"/>
            <a:ext cx="621504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Рисунок 6" descr="http://www.cbr.ru/bank-notes_coins/bank-notes/G2004/B10/10R_04_rv.jpg"/>
          <p:cNvPicPr/>
          <p:nvPr/>
        </p:nvPicPr>
        <p:blipFill>
          <a:blip r:embed="rId2"/>
          <a:stretch/>
        </p:blipFill>
        <p:spPr>
          <a:xfrm>
            <a:off x="2714760" y="3643200"/>
            <a:ext cx="621504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Box 8"/>
          <p:cNvSpPr/>
          <p:nvPr/>
        </p:nvSpPr>
        <p:spPr>
          <a:xfrm>
            <a:off x="2571840" y="214200"/>
            <a:ext cx="3857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6572160" y="428760"/>
            <a:ext cx="235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м изображением на лицевой стороне является мост через реку Енисей и часовня в Краснояр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99680"/>
            <a:ext cx="8329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Прямоугольник 8" descr=""/>
          <p:cNvPicPr/>
          <p:nvPr/>
        </p:nvPicPr>
        <p:blipFill>
          <a:blip r:embed="rId1"/>
          <a:stretch/>
        </p:blipFill>
        <p:spPr>
          <a:xfrm>
            <a:off x="208080" y="219240"/>
            <a:ext cx="8727840" cy="1712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>
            <a:off x="1071720" y="29289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14" descr=""/>
          <p:cNvPicPr/>
          <p:nvPr/>
        </p:nvPicPr>
        <p:blipFill>
          <a:blip r:embed="rId2"/>
          <a:stretch/>
        </p:blipFill>
        <p:spPr>
          <a:xfrm>
            <a:off x="-487440" y="2852640"/>
            <a:ext cx="10260000" cy="22989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7" descr=""/>
          <p:cNvPicPr/>
          <p:nvPr/>
        </p:nvPicPr>
        <p:blipFill>
          <a:blip r:embed="rId3"/>
          <a:stretch/>
        </p:blipFill>
        <p:spPr>
          <a:xfrm>
            <a:off x="3206880" y="2163600"/>
            <a:ext cx="37972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3786120"/>
            <a:ext cx="29718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изображения оборотной стороны - здание Биржи и Ростральная колонна в Санкт-Петербур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http://www.cbr.ru/bank-notes_coins/bank-notes/G2004/B50/50R_04_av.jpg"/>
          <p:cNvPicPr/>
          <p:nvPr/>
        </p:nvPicPr>
        <p:blipFill>
          <a:blip r:embed="rId1"/>
          <a:stretch/>
        </p:blipFill>
        <p:spPr>
          <a:xfrm>
            <a:off x="214200" y="214200"/>
            <a:ext cx="528660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Рисунок 6" descr="http://www.cbr.ru/bank-notes_coins/bank-notes/G2004/B50/50R_04_rv.jpg"/>
          <p:cNvPicPr/>
          <p:nvPr/>
        </p:nvPicPr>
        <p:blipFill>
          <a:blip r:embed="rId2"/>
          <a:stretch/>
        </p:blipFill>
        <p:spPr>
          <a:xfrm>
            <a:off x="3571920" y="3929040"/>
            <a:ext cx="528624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Box 7"/>
          <p:cNvSpPr/>
          <p:nvPr/>
        </p:nvSpPr>
        <p:spPr>
          <a:xfrm>
            <a:off x="5643720" y="642960"/>
            <a:ext cx="2571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е изображение лицевой стороны - скульптура в основании Ростральной колонны на фоне Петропавловской креп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6:30:44Z</dcterms:created>
  <dc:creator>АННА</dc:creator>
  <dc:description/>
  <dc:language>en-US</dc:language>
  <cp:lastModifiedBy>АННА</cp:lastModifiedBy>
  <dcterms:modified xsi:type="dcterms:W3CDTF">2012-03-26T16:46:13Z</dcterms:modified>
  <cp:revision>18</cp:revision>
  <dc:subject/>
  <dc:title>Мастер-класс «География и деньги»</dc:title>
</cp:coreProperties>
</file>