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5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5BF-0F5B-44A8-93A0-466EC5FA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F2A-8E03-4284-81A3-7626DA1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C13-0EAF-4C56-937D-C385EB79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D86-BF09-40F9-B9CC-1932CC19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0FD1-6653-4FC9-A9FF-28DE9F54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F08-FF9B-432E-8069-D2309B2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392-AB75-4CAE-AD4A-0D82E343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66BD-E911-4006-9C0F-5E86A0B3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AF2-20B8-4343-ADF2-B3383566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5EE5-04F0-4576-8278-DBD02A97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864-0F5B-4E3C-A9CE-E99B2B3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CC2-EE81-41D9-AF33-33F4506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2D01-1571-46FA-8BC8-0566824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0B6-BE2F-4228-AC59-1CB341EF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A1E-99FD-42F0-A43A-3A771CE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06C-0833-4776-9E39-3C0FEF56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9A00-2BE1-4056-9D22-84D18F85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065B-1F5D-4CB8-BB02-757F323D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13A7-D4A1-4CD3-9628-359DBA6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8F07-0F1A-438C-A632-8D797EC7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CAFE-4F74-41C1-96DB-26E6B8B2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7E73-CC65-4A9C-95F0-4B8F84F7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7CA-EBE0-4FFB-BC5F-C0BFD9D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DA7C-8E3B-4281-9112-70D78516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63DC-0B63-483D-8547-D49D104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AC4F-853F-4F3D-9997-AFFFE0F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21E3-B5A7-4AA4-AB23-3E95956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D6C2-2182-4345-B6F0-EFD2A1D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7F0A-E460-4C91-BB71-797B911D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CA37-A281-434A-888C-5544F6EF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1E2D-C467-4843-958F-8488189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7394-FEBA-4BCC-A534-BD1783B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D3CC-3833-4D15-9F96-B631E666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1AE-6FAC-4646-862E-FE3BCE05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3ADD-AF30-4662-B3F5-DB7EAE3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5EC3-5FA6-42AE-BFF9-6B0C2A03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AA75-5C26-40A5-8C9A-B8E45C1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D769-67AB-4957-AF1B-8C2AA3D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096B-64B6-46BA-8A6F-6F77DDA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8F36-3954-4A55-B25E-568E23B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F15B-FDAB-41D0-B5E2-AFEE58E2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34F4-4735-4129-A8E6-3A31A0C1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AD1A-D9E3-47B1-98B6-BF130B3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D609-1896-4FD4-AEAD-B188D3E2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179-423A-4D29-B6A6-B69F8DB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045A-77F1-4B63-A80F-2944D590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473B-5DFD-40E7-B406-FB85F77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46AA-78B5-4B3A-84CC-CE7F2AB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DE1D-7A16-458A-BA88-7812B100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0944-1D36-4AAA-AF8C-CC2B3048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6486-60A7-456D-9F41-289E088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92B2-E59B-4064-93DC-940479A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EB36-C47D-4A4B-B0DA-F3638FD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9D92-8F91-4C75-9462-2F713E1D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E4D6-63B3-4D37-850A-36651FA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9D3-7E1C-43C1-9513-0F679916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F3B8-2498-4649-887C-428A1114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EB77-405F-4EC5-BE8A-4C31C157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69CC9-2A0A-4131-A393-236E28F6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3FB20-FC47-4E2F-86D1-9E5C103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39414-E53B-4E82-B1D1-C2A72487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D164E-0BD3-4E81-9A14-C324C0F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52A00-6E3D-49B6-B941-9135968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E898-4B29-423B-896B-2D03995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A998-9DB7-4753-AB20-0DAF311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30A9-61A7-4262-814A-E8EF545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501-F21A-4406-AEF4-55BC5FCE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61E79-7707-4F9E-9633-1A95A26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C5CF-B405-44AB-9B33-4F90C42C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E061-F881-4086-AAF0-F2B468CD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1EB-5D08-4FF3-BDD1-925CB2F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EAA-F709-446D-A542-F212BA6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2CE-2FEE-49AA-97BC-B63A428DC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5B6A-15E8-402F-BC2C-0E6A209C7F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FFF5-A9B0-4977-8E47-512B2DAB48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4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AA45-9C20-424D-804F-C3A02DB08F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1CFC-5013-4028-9313-CF7AAB28B2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4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5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5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9DD2-1D0B-449E-B93C-1BD9899B46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festival.1september.ru/articles/560632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2421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11617"/>
                </a:solidFill>
                <a:latin typeface="Corbel"/>
              </a:rPr>
              <a:t>«</a:t>
            </a:r>
            <a:r>
              <a:rPr b="1" lang="ru-RU" sz="5400" spc="-1" strike="noStrike">
                <a:solidFill>
                  <a:srgbClr val="611617"/>
                </a:solidFill>
                <a:latin typeface="Georgia"/>
              </a:rPr>
              <a:t>СИММЕТРИЯ В </a:t>
            </a:r>
            <a:br>
              <a:rPr sz="5400"/>
            </a:br>
            <a:r>
              <a:rPr b="1" lang="ru-RU" sz="5400" spc="-1" strike="noStrike">
                <a:solidFill>
                  <a:srgbClr val="611617"/>
                </a:solidFill>
                <a:latin typeface="Georgia"/>
              </a:rPr>
              <a:t>ДРЕВНЕРУССКОМ ОРНАМЕНТЕ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3643200" y="4429080"/>
            <a:ext cx="50007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Выполнили: учащиеся группы №7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А. Александров, А. Макаров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Руководитель: О. В. Афанасьева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1886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</a:rPr>
              <a:t>ПРИМЕРЫ РУССКОГО ОРНАМЕН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4" descr="images"/>
          <p:cNvPicPr/>
          <p:nvPr/>
        </p:nvPicPr>
        <p:blipFill>
          <a:blip r:embed="rId1"/>
          <a:srcRect l="0" t="0" r="0" b="3545"/>
          <a:stretch/>
        </p:blipFill>
        <p:spPr>
          <a:xfrm>
            <a:off x="1428840" y="1571760"/>
            <a:ext cx="2228760" cy="2500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images"/>
          <p:cNvPicPr/>
          <p:nvPr/>
        </p:nvPicPr>
        <p:blipFill>
          <a:blip r:embed="rId2"/>
          <a:stretch/>
        </p:blipFill>
        <p:spPr>
          <a:xfrm>
            <a:off x="6572160" y="1643040"/>
            <a:ext cx="2336760" cy="2325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22"/>
          <p:cNvPicPr/>
          <p:nvPr/>
        </p:nvPicPr>
        <p:blipFill>
          <a:blip r:embed="rId3"/>
          <a:stretch/>
        </p:blipFill>
        <p:spPr>
          <a:xfrm>
            <a:off x="2571840" y="4286160"/>
            <a:ext cx="4968720" cy="2346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5" descr="http://www.tunnel.ru/userfiles/ck/images/6854/rus_izba_06.jpg"/>
          <p:cNvPicPr/>
          <p:nvPr/>
        </p:nvPicPr>
        <p:blipFill>
          <a:blip r:embed="rId4"/>
          <a:stretch/>
        </p:blipFill>
        <p:spPr>
          <a:xfrm>
            <a:off x="4000680" y="1643040"/>
            <a:ext cx="221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4280" y="500040"/>
            <a:ext cx="7429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МОТИВ “</a:t>
            </a:r>
            <a:r>
              <a:rPr b="1" i="1" lang="ru-RU" sz="3600" spc="-1" strike="noStrike">
                <a:solidFill>
                  <a:srgbClr val="922223"/>
                </a:solidFill>
                <a:latin typeface="Georgia"/>
              </a:rPr>
              <a:t>ОБЕРЕГОВЫХ” </a:t>
            </a: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ЗНАКОВ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85520" y="1428480"/>
            <a:ext cx="8148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Свои «обереговые» символы славяне размещали на «уязвимых» участках жилища и двора. Заклинательным орнаментом они закрывали все проёмы, через которые нечистая сила могла проникнуть к человеку: ворота, двери, окна, застрехи. Символ солнца, размещаемый в проемах, должен охранять жилище от ночной нечисти.   На крыше дома - конёк (символизировал солнце). На фасаде дома славяне изображали небо и ход солнца – утром, в полдень и вечеро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85520" y="214200"/>
            <a:ext cx="8148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Особую магию и особый смысл у славян имели обрядовые полотенца. Узоры на них представляли не что иное, как славянский календарь, который образно отражал семейно-родовые события или аграрно-ритуальные торжества, свойственные земледельческой культуре. На всех праздниках первым на полотенце выносили хлеб да соль. Соль - символ солнца, любви; хлеб - земля, милость; полотенце - символ жизни человеческой, полоса судьбы, часть чистого космического пространств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929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МОТИВ  ПЛЕТЁНКИ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00080" y="3642840"/>
            <a:ext cx="78580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22223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Характерен для так называемых русальских браслетов, как знак воды и царства подземного владыки Переплу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Рисунок 4" descr="F:\001 .ОКСАНА  !!!\Сканер конкурс\2014-03-24\002.jpg"/>
          <p:cNvPicPr/>
          <p:nvPr/>
        </p:nvPicPr>
        <p:blipFill>
          <a:blip r:embed="rId1"/>
          <a:stretch/>
        </p:blipFill>
        <p:spPr>
          <a:xfrm>
            <a:off x="3143160" y="1071720"/>
            <a:ext cx="3929040" cy="2571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"/>
          <p:cNvSpPr/>
          <p:nvPr/>
        </p:nvSpPr>
        <p:spPr>
          <a:xfrm>
            <a:off x="1571760" y="557208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МОТИВ </a:t>
            </a:r>
            <a:r>
              <a:rPr b="1" i="1" lang="ru-RU" sz="3600" spc="-1" strike="noStrike">
                <a:solidFill>
                  <a:srgbClr val="922223"/>
                </a:solidFill>
                <a:latin typeface="Georgia"/>
              </a:rPr>
              <a:t>ДРЕВА ЖИЗНИ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МОТИВ ДРЕВНЕЙ </a:t>
            </a:r>
            <a:br>
              <a:rPr sz="3600"/>
            </a:br>
            <a:r>
              <a:rPr b="1" i="1" lang="ru-RU" sz="3600" spc="-1" strike="noStrike">
                <a:solidFill>
                  <a:srgbClr val="922223"/>
                </a:solidFill>
                <a:latin typeface="Georgia"/>
              </a:rPr>
              <a:t>БОГИНИ МОКОШ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85880" y="15717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4f271c"/>
                </a:solidFill>
                <a:latin typeface="Georgia"/>
              </a:rPr>
              <a:t>Единственный женский образ в древнерусской мифологии, как специфического воплощения представления о Великой Праматери, общего для всех народов на определённой стадии исторического существова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4f271c"/>
                </a:solidFill>
                <a:latin typeface="Georgia"/>
              </a:rPr>
              <a:t>Обычно её изображение помещали в центре трёхчастной компози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Рисунок 3" descr="http://img1.liveinternet.ru/images/attach/c/1/50/310/50310899_1256477236_033.jpg"/>
          <p:cNvPicPr/>
          <p:nvPr/>
        </p:nvPicPr>
        <p:blipFill>
          <a:blip r:embed="rId1"/>
          <a:stretch/>
        </p:blipFill>
        <p:spPr>
          <a:xfrm>
            <a:off x="5929200" y="4572000"/>
            <a:ext cx="1785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148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1617"/>
                </a:solidFill>
                <a:latin typeface="Georgia"/>
              </a:rPr>
              <a:t>ВИДЫ СИММЕТРИИ, ИСПОЛЬЗУЕМЫЕ ДЛЯ СОЗДАНИЯ ОРНАМЕНТА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3214440"/>
            <a:ext cx="7429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Параллельный перено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Центральная симметр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Поворо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ПАРАЛЛЕЛЬНЫЙ ПЕРЕНОС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57160" y="5072040"/>
            <a:ext cx="814392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ри параллельном переносе все точки фигуры смещаются в одном  и том же направлении на одно и то же расстоя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4" descr="параллельный перенос"/>
          <p:cNvPicPr/>
          <p:nvPr/>
        </p:nvPicPr>
        <p:blipFill>
          <a:blip r:embed="rId1"/>
          <a:stretch/>
        </p:blipFill>
        <p:spPr>
          <a:xfrm>
            <a:off x="3000240" y="1428840"/>
            <a:ext cx="3954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791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ЦЕНТРАЛЬНАЯ СИММЕТР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71640" y="4500720"/>
            <a:ext cx="774360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ри центральной симметрии каждая точка переходит в точку симметричную ей относительно фиксированной точ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центральная симметрия"/>
          <p:cNvPicPr/>
          <p:nvPr/>
        </p:nvPicPr>
        <p:blipFill>
          <a:blip r:embed="rId1"/>
          <a:stretch/>
        </p:blipFill>
        <p:spPr>
          <a:xfrm>
            <a:off x="1428840" y="1428840"/>
            <a:ext cx="75610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269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ОСЕВАЯ СИММЕТР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00000" y="4857480"/>
            <a:ext cx="7958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ри осевой симметрии каждая точка фигуры переходит в точку, симметричную ей относительно фиксированной прям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4" descr="осевая симметрия"/>
          <p:cNvPicPr/>
          <p:nvPr/>
        </p:nvPicPr>
        <p:blipFill>
          <a:blip r:embed="rId1"/>
          <a:stretch/>
        </p:blipFill>
        <p:spPr>
          <a:xfrm>
            <a:off x="2643120" y="1214280"/>
            <a:ext cx="49705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ПОВОРО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85880" y="4786200"/>
            <a:ext cx="8215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ри повороте все точки фигуры поворачиваются на один и тот же угол вокруг одной и той же точки – центра поворот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поворот"/>
          <p:cNvPicPr/>
          <p:nvPr/>
        </p:nvPicPr>
        <p:blipFill>
          <a:blip r:embed="rId1"/>
          <a:stretch/>
        </p:blipFill>
        <p:spPr>
          <a:xfrm>
            <a:off x="3000240" y="1000080"/>
            <a:ext cx="4321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3920" y="259920"/>
            <a:ext cx="79297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1617"/>
                </a:solidFill>
                <a:latin typeface="Georgia"/>
              </a:rPr>
              <a:t>Цель: </a:t>
            </a:r>
            <a:br>
              <a:rPr sz="2800"/>
            </a:b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родемонстрировать возможности законов геометрии при создании различных орнаментов, украшающих многие предметы декоративно-прикладного искусств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71360" y="2708280"/>
            <a:ext cx="755316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611617"/>
                </a:solidFill>
                <a:latin typeface="Georgi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овторить и расширить знания об известных видах симметр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Научиться выделять и описывать симметрию в рисунке орнамен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Обобщить и систематизировать сведения, использующиеся при создании орнамен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Создание орнамента с помощью осевой симметрии 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параллельного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1803600" cy="217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1726920" cy="2146320"/>
          </a:xfrm>
          <a:prstGeom prst="rect">
            <a:avLst/>
          </a:prstGeom>
          <a:ln w="0">
            <a:noFill/>
          </a:ln>
        </p:spPr>
      </p:pic>
      <p:sp>
        <p:nvSpPr>
          <p:cNvPr id="374" name="Line 6"/>
          <p:cNvSpPr/>
          <p:nvPr/>
        </p:nvSpPr>
        <p:spPr>
          <a:xfrm flipV="1">
            <a:off x="4716360" y="24922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3"/>
          <a:stretch/>
        </p:blipFill>
        <p:spPr>
          <a:xfrm>
            <a:off x="1763640" y="5013360"/>
            <a:ext cx="5688000" cy="1422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8"/>
          <p:cNvSpPr/>
          <p:nvPr/>
        </p:nvSpPr>
        <p:spPr>
          <a:xfrm>
            <a:off x="1692360" y="1844640"/>
            <a:ext cx="633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ОСЕВАЯ СИММЕТРИЯ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7" name="Picture 9" descr=""/>
          <p:cNvPicPr/>
          <p:nvPr/>
        </p:nvPicPr>
        <p:blipFill>
          <a:blip r:embed="rId4"/>
          <a:stretch/>
        </p:blipFill>
        <p:spPr>
          <a:xfrm>
            <a:off x="4788000" y="479736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ПАРАЛЛЕЛЬНЫЙ ПЕ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8097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25 -2.22222E-006 L 0.45625 -2.22222E-006 E">
                                      <p:cBhvr>
                                        <p:cTn id="157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Создание орнамента с помощью центральной симметрии и параллельного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1719360" cy="2116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4248000" cy="19764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1"/>
          <p:cNvSpPr/>
          <p:nvPr/>
        </p:nvSpPr>
        <p:spPr>
          <a:xfrm>
            <a:off x="1547640" y="1628640"/>
            <a:ext cx="633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ЦЕНТРАЛЬНАЯ СИММЕТРИ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ПАРАЛЛЕЛЬНЫЙ ПЕРЕ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7848720" cy="2119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Рисунок1"/>
          <p:cNvPicPr/>
          <p:nvPr/>
        </p:nvPicPr>
        <p:blipFill>
          <a:blip r:embed="rId2"/>
          <a:stretch/>
        </p:blipFill>
        <p:spPr>
          <a:xfrm>
            <a:off x="611280" y="1628640"/>
            <a:ext cx="3689280" cy="228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9" descr="Рисунок1"/>
          <p:cNvPicPr/>
          <p:nvPr/>
        </p:nvPicPr>
        <p:blipFill>
          <a:blip r:embed="rId3"/>
          <a:stretch/>
        </p:blipFill>
        <p:spPr>
          <a:xfrm>
            <a:off x="468360" y="1628640"/>
            <a:ext cx="368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44393 0.00139 E">
                                      <p:cBhvr>
                                        <p:cTn id="178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ПО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4000680" y="2000160"/>
            <a:ext cx="1434960" cy="1700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2"/>
          <a:stretch/>
        </p:blipFill>
        <p:spPr>
          <a:xfrm>
            <a:off x="4572000" y="3786120"/>
            <a:ext cx="1655640" cy="1314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3"/>
          <a:stretch/>
        </p:blipFill>
        <p:spPr>
          <a:xfrm>
            <a:off x="3429000" y="4500720"/>
            <a:ext cx="1251000" cy="1512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4"/>
          <a:stretch/>
        </p:blipFill>
        <p:spPr>
          <a:xfrm>
            <a:off x="2714760" y="3143160"/>
            <a:ext cx="1585800" cy="1257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1" descr=""/>
          <p:cNvPicPr/>
          <p:nvPr/>
        </p:nvPicPr>
        <p:blipFill>
          <a:blip r:embed="rId5"/>
          <a:stretch/>
        </p:blipFill>
        <p:spPr>
          <a:xfrm>
            <a:off x="4357800" y="3929040"/>
            <a:ext cx="1713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ПАРАЛЛЕЛЬНЫЙ ПЕРЕН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36720" cy="2577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736720" cy="257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7370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КАК ПОЛУЧЕН ОРНАМЕНТ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4683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642960" y="1268280"/>
            <a:ext cx="8358120" cy="1125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"/>
          <p:cNvPicPr/>
          <p:nvPr/>
        </p:nvPicPr>
        <p:blipFill>
          <a:blip r:embed="rId2"/>
          <a:stretch/>
        </p:blipFill>
        <p:spPr>
          <a:xfrm>
            <a:off x="647640" y="3068640"/>
            <a:ext cx="8353440" cy="884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3"/>
          <a:stretch/>
        </p:blipFill>
        <p:spPr>
          <a:xfrm>
            <a:off x="642960" y="4797360"/>
            <a:ext cx="8358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ОРНАМЕНТ ПОЛУЧЕН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920" y="1356840"/>
            <a:ext cx="4683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5816520" cy="36226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9"/>
          <p:cNvSpPr/>
          <p:nvPr/>
        </p:nvSpPr>
        <p:spPr>
          <a:xfrm>
            <a:off x="6357960" y="1857240"/>
            <a:ext cx="26067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Georgia"/>
              </a:rPr>
              <a:t>С помощью параллельного переноса.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Georgia"/>
              </a:rPr>
              <a:t>С помощью осевой симметрии и параллельного переноса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Georgia"/>
              </a:rPr>
              <a:t>С помощью осевой симметрии и параллельного переноса.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7286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Таким образом, описание отдельных древнерусских орнаментальных мотивов и схемы их расположения на деталях жилища, предметах украшения и быта являются причиной эстетической прив-лекательности орнамента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4280" y="259920"/>
            <a:ext cx="74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Georgia"/>
              </a:rPr>
              <a:t>ИСПОЛЬЗУЕМЫЕ ИСТОЧНИ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000080" y="144756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О.В. Слесарева «Чудесная тайна геометри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Математика в школе,  О.Э. Анацко, Е.М. Ханукович,  Бинарный ур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Georgia"/>
                <a:hlinkClick r:id="rId1"/>
              </a:rPr>
              <a:t>http://ru.wikipedia.or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Перельман Я.И. «Занимательная геометр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Georgia"/>
                <a:hlinkClick r:id="rId2"/>
              </a:rPr>
              <a:t>http://festival.1september.ru/articles/560632/</a:t>
            </a: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Г. Вейль «Симметр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Georgia"/>
              </a:rPr>
              <a:t>Б. А. Рыбаков «Язычество Древней Рус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1617"/>
                </a:solidFill>
                <a:latin typeface="Georgia"/>
              </a:rPr>
              <a:t>ВИДЫ ОРНАМЕНТА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71840" y="1285920"/>
            <a:ext cx="4357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ПЛОСКОСТН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Рисунок 17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3000240" y="1785960"/>
            <a:ext cx="3581640" cy="26384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1000080" y="43578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Плоскостной орнамент представляет украшение, выполненное на плоскости с помощью линий. Плоскостные орнаменты применяются при украшении одежды, росписи стен зданий в виде бордюров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68360" y="213372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3214800" y="2500200"/>
            <a:ext cx="3601800" cy="676080"/>
            <a:chOff x="3214800" y="2500200"/>
            <a:chExt cx="3601800" cy="676080"/>
          </a:xfrm>
        </p:grpSpPr>
        <p:pic>
          <p:nvPicPr>
            <p:cNvPr id="308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3214800" y="2500200"/>
              <a:ext cx="1971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159160" y="2500200"/>
              <a:ext cx="16574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7"/>
          <p:cNvSpPr/>
          <p:nvPr/>
        </p:nvSpPr>
        <p:spPr>
          <a:xfrm>
            <a:off x="2500200" y="1789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11617"/>
                </a:solidFill>
                <a:latin typeface="Georgia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611617"/>
                </a:solidFill>
                <a:latin typeface="Georgia"/>
                <a:ea typeface="Times New Roman"/>
              </a:rPr>
              <a:t>) Внутри полосы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Group 16"/>
          <p:cNvGrpSpPr/>
          <p:nvPr/>
        </p:nvGrpSpPr>
        <p:grpSpPr>
          <a:xfrm>
            <a:off x="2643120" y="4071960"/>
            <a:ext cx="4567320" cy="676080"/>
            <a:chOff x="2643120" y="4071960"/>
            <a:chExt cx="4567320" cy="676080"/>
          </a:xfrm>
        </p:grpSpPr>
        <p:pic>
          <p:nvPicPr>
            <p:cNvPr id="312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2643120" y="4071960"/>
              <a:ext cx="177336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Рисунок 5" descr=""/>
            <p:cNvPicPr/>
            <p:nvPr/>
          </p:nvPicPr>
          <p:blipFill>
            <a:blip r:embed="rId4"/>
            <a:stretch/>
          </p:blipFill>
          <p:spPr>
            <a:xfrm>
              <a:off x="4371840" y="4071960"/>
              <a:ext cx="2838600" cy="67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17"/>
          <p:cNvGrpSpPr/>
          <p:nvPr/>
        </p:nvGrpSpPr>
        <p:grpSpPr>
          <a:xfrm>
            <a:off x="2786040" y="5786280"/>
            <a:ext cx="4824000" cy="676080"/>
            <a:chOff x="2786040" y="5786280"/>
            <a:chExt cx="4824000" cy="676080"/>
          </a:xfrm>
        </p:grpSpPr>
        <p:pic>
          <p:nvPicPr>
            <p:cNvPr id="315" name="Рисунок 6" descr=""/>
            <p:cNvPicPr/>
            <p:nvPr/>
          </p:nvPicPr>
          <p:blipFill>
            <a:blip r:embed="rId5"/>
            <a:stretch/>
          </p:blipFill>
          <p:spPr>
            <a:xfrm>
              <a:off x="2786040" y="5786280"/>
              <a:ext cx="267300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Рисунок 7" descr=""/>
            <p:cNvPicPr/>
            <p:nvPr/>
          </p:nvPicPr>
          <p:blipFill>
            <a:blip r:embed="rId6"/>
            <a:stretch/>
          </p:blipFill>
          <p:spPr>
            <a:xfrm>
              <a:off x="5414400" y="5786280"/>
              <a:ext cx="21956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Rectangle 13"/>
          <p:cNvSpPr/>
          <p:nvPr/>
        </p:nvSpPr>
        <p:spPr>
          <a:xfrm>
            <a:off x="3143160" y="343224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Georgia"/>
                <a:ea typeface="Times New Roman"/>
              </a:rPr>
              <a:t>б) На полосе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2214720" y="50403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Georgia"/>
                <a:ea typeface="Arial"/>
              </a:rPr>
              <a:t>в) С двух сторон полосы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ЛИНЕЙНЫЙ </a:t>
            </a:r>
            <a:br>
              <a:rPr sz="3600"/>
            </a:b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(варианты расположения)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2802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СЕТЧАТЫ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2500200" y="1428840"/>
            <a:ext cx="5143320" cy="2372760"/>
            <a:chOff x="2500200" y="1428840"/>
            <a:chExt cx="5143320" cy="2372760"/>
          </a:xfrm>
        </p:grpSpPr>
        <p:pic>
          <p:nvPicPr>
            <p:cNvPr id="322" name="Рисунок 8" descr="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2601720" cy="23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5067720" y="1481040"/>
              <a:ext cx="2575800" cy="23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Text Box 7"/>
          <p:cNvSpPr/>
          <p:nvPr/>
        </p:nvSpPr>
        <p:spPr>
          <a:xfrm>
            <a:off x="1071720" y="4214880"/>
            <a:ext cx="782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Сетчатым его называют потому, что его композиция строится при помощи сетки. Сетчатый орнамент применяется для оформления пола, потолка, стен помещения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ЦЕНТРИЧЕСК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Group 7"/>
          <p:cNvGrpSpPr/>
          <p:nvPr/>
        </p:nvGrpSpPr>
        <p:grpSpPr>
          <a:xfrm>
            <a:off x="2214720" y="1143000"/>
            <a:ext cx="5758560" cy="2714400"/>
            <a:chOff x="2214720" y="1143000"/>
            <a:chExt cx="5758560" cy="2714400"/>
          </a:xfrm>
        </p:grpSpPr>
        <p:pic>
          <p:nvPicPr>
            <p:cNvPr id="327" name="Рисунок 10" descr=""/>
            <p:cNvPicPr/>
            <p:nvPr/>
          </p:nvPicPr>
          <p:blipFill>
            <a:blip r:embed="rId1"/>
            <a:stretch/>
          </p:blipFill>
          <p:spPr>
            <a:xfrm>
              <a:off x="2214720" y="1143000"/>
              <a:ext cx="2666160" cy="27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Рисунок 11" descr=""/>
            <p:cNvPicPr/>
            <p:nvPr/>
          </p:nvPicPr>
          <p:blipFill>
            <a:blip r:embed="rId2"/>
            <a:stretch/>
          </p:blipFill>
          <p:spPr>
            <a:xfrm>
              <a:off x="5254560" y="1302840"/>
              <a:ext cx="2718720" cy="253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Text Box 8"/>
          <p:cNvSpPr/>
          <p:nvPr/>
        </p:nvSpPr>
        <p:spPr>
          <a:xfrm>
            <a:off x="1000080" y="385776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Центрический  орнаментом называют узор, декоративные элементы которого сгруппированы так, что создают центрическое движение. Замкнутый орнамент чаще всего используется для украшения салфеток, скатертей, тарелок и т.д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ГЕОМЕТРИЧЕСК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2050920" y="1643040"/>
            <a:ext cx="6163920" cy="2571480"/>
            <a:chOff x="2050920" y="1643040"/>
            <a:chExt cx="6163920" cy="2571480"/>
          </a:xfrm>
        </p:grpSpPr>
        <p:pic>
          <p:nvPicPr>
            <p:cNvPr id="332" name="Рисунок 21" descr=""/>
            <p:cNvPicPr/>
            <p:nvPr/>
          </p:nvPicPr>
          <p:blipFill>
            <a:blip r:embed="rId1"/>
            <a:stretch/>
          </p:blipFill>
          <p:spPr>
            <a:xfrm>
              <a:off x="2050920" y="1643040"/>
              <a:ext cx="282672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Рисунок 22" descr=""/>
            <p:cNvPicPr/>
            <p:nvPr/>
          </p:nvPicPr>
          <p:blipFill>
            <a:blip r:embed="rId2"/>
            <a:stretch/>
          </p:blipFill>
          <p:spPr>
            <a:xfrm>
              <a:off x="5317920" y="1813680"/>
              <a:ext cx="2896920" cy="228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7"/>
          <p:cNvSpPr/>
          <p:nvPr/>
        </p:nvSpPr>
        <p:spPr>
          <a:xfrm>
            <a:off x="1143000" y="4572000"/>
            <a:ext cx="7643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В геометрическом орнаменте в качестве мотива выступают геометрические фигуры: круг, квадрат, треугольник и т.д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Georgia"/>
              </a:rPr>
              <a:t>РАСТИТЕЛЬНЫ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2428920" y="1428840"/>
            <a:ext cx="5471280" cy="2663280"/>
            <a:chOff x="2428920" y="1428840"/>
            <a:chExt cx="5471280" cy="2663280"/>
          </a:xfrm>
        </p:grpSpPr>
        <p:pic>
          <p:nvPicPr>
            <p:cNvPr id="337" name="Рисунок 12" descr=""/>
            <p:cNvPicPr/>
            <p:nvPr/>
          </p:nvPicPr>
          <p:blipFill>
            <a:blip r:embed="rId1"/>
            <a:stretch/>
          </p:blipFill>
          <p:spPr>
            <a:xfrm>
              <a:off x="2428920" y="1428840"/>
              <a:ext cx="258480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5440680" y="1428840"/>
              <a:ext cx="2459520" cy="26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7"/>
          <p:cNvSpPr/>
          <p:nvPr/>
        </p:nvSpPr>
        <p:spPr>
          <a:xfrm>
            <a:off x="1332000" y="4429080"/>
            <a:ext cx="7311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Georgia"/>
              </a:rPr>
              <a:t>В растительном – формы заимствованы из мира природы, например: листья растений, плоды, цветы, веточки и т.д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1617"/>
                </a:solidFill>
                <a:latin typeface="Georgia"/>
              </a:rPr>
              <a:t>ДРЕВНЕРУССКИЙ ОРНАМЕН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42600" y="10000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4f271c"/>
                </a:solidFill>
                <a:latin typeface="Georgia"/>
              </a:rPr>
              <a:t>Орнаментальные композиции, как украшения предметов быта, на Руси существовали очень давно. Крестьянские избы украшались резным узором. На окнах висели занавески, вышитые причудливым орнаментом и весь дом был наполнен расписной посудой, вышивкой и кружев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71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f271c"/>
                </a:solidFill>
                <a:latin typeface="Georgia"/>
              </a:rPr>
              <a:t>Русский орнамент очень разнообразен. Декоративные элементы составлялись из символов и отражали чувства и интересы крестьянина. Цвет в узоре имел особое значение. Красный цвет выражал восторг, радость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6:05:31Z</dcterms:created>
  <dc:creator>User</dc:creator>
  <dc:description/>
  <dc:language>en-US</dc:language>
  <cp:lastModifiedBy>Леонид</cp:lastModifiedBy>
  <dcterms:modified xsi:type="dcterms:W3CDTF">2015-01-16T14:33:20Z</dcterms:modified>
  <cp:revision>51</cp:revision>
  <dc:subject/>
  <dc:title>«Орнамент - математическое воплощение красоты»</dc:title>
</cp:coreProperties>
</file>