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8.png" ContentType="image/png"/>
  <Override PartName="/ppt/media/image5.gif" ContentType="image/gi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C400-D3A3-4145-8452-774A01C61A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AA5D-CF79-405A-BC38-8C79CE7984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1B45-5006-4F57-B3F6-75BEF75589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идактические материалы по геометрии для 7 класса».  Зив Б.Г., Мейлер В.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408E-6CC9-4FD8-8180-CA8C1178E8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8F89-B296-4D80-B472-3BE7F1AF56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347-8FCB-451E-A905-5EED5BF8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339-A163-43E4-A38E-21103E09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4BF-7A74-42C2-960D-03DDCD19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C1D-E681-4E64-9D2C-1FA4BAF5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B118-59DE-4F2E-AD51-58FEE895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4361-1609-4731-A1C0-86C0B455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E4F8-D8C0-435D-896A-35D7A21B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9546-BCFD-4BAE-9E47-545513E3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8387-B8D0-4C8A-8990-AAD459C5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058B-11AC-4840-8F90-3BBE919E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07B1-4449-4867-810A-AEEA3F54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1D8-EB09-49D4-88CA-D21B5F7F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8268-5429-4804-BE3B-30E817FB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7D79-E5B1-4721-A782-E100E523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AA38-AEB8-43A2-A687-E41AC4C9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BFB1-5E11-42A7-8CCF-FC1D93D9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C606-5D6D-4F51-8C18-15790D79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9FE-CFC0-4ECF-B727-B643103B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E62-DC8A-4F40-A73D-CD90DBA6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C1B-C7FA-4E2F-A6D2-10363D97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1D7-8D32-447A-AA3D-BDA659BF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C7F-EC29-4D58-88BF-925D896E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0FD-F6FD-4D1D-BC25-D27E8B5C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F99-EFFE-4088-95EA-85362018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D08E-C8D2-42AB-A98D-884C848A61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C49E-1CEA-400D-AA06-58BA40771D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Треугольник.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Первый признак равенства треуг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5572080" y="3857760"/>
            <a:ext cx="2374920" cy="2376360"/>
          </a:xfrm>
          <a:prstGeom prst="flowChartExtract">
            <a:avLst/>
          </a:prstGeom>
          <a:solidFill>
            <a:srgbClr val="ccffcc">
              <a:alpha val="61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1357200" y="3786120"/>
            <a:ext cx="2376720" cy="2376720"/>
          </a:xfrm>
          <a:prstGeom prst="flowChartExtra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372360" y="549360"/>
            <a:ext cx="233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МБОУ СОШ №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г. Нижний 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Лапкина О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73 -0.00463 L -0.45973 -0.00463 E">
                                      <p:cBhvr>
                                        <p:cTn id="3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ый треугольник 1"/>
          <p:cNvSpPr/>
          <p:nvPr/>
        </p:nvSpPr>
        <p:spPr>
          <a:xfrm rot="8149800">
            <a:off x="991800" y="1352160"/>
            <a:ext cx="2817720" cy="914400"/>
          </a:xfrm>
          <a:prstGeom prst="rtTriangle">
            <a:avLst/>
          </a:prstGeom>
          <a:solidFill>
            <a:srgbClr val="eeece1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ый треугольник 2"/>
          <p:cNvSpPr/>
          <p:nvPr/>
        </p:nvSpPr>
        <p:spPr>
          <a:xfrm rot="18973800">
            <a:off x="993240" y="1355400"/>
            <a:ext cx="2840040" cy="914400"/>
          </a:xfrm>
          <a:prstGeom prst="rtTriangle">
            <a:avLst/>
          </a:prstGeom>
          <a:solidFill>
            <a:srgbClr val="eeece1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Дуга 3"/>
          <p:cNvSpPr/>
          <p:nvPr/>
        </p:nvSpPr>
        <p:spPr>
          <a:xfrm rot="6048600">
            <a:off x="10017360" y="1751760"/>
            <a:ext cx="571320" cy="71640"/>
          </a:xfrm>
          <a:custGeom>
            <a:avLst/>
            <a:gdLst/>
            <a:ahLst/>
            <a:rect l="l" t="t" r="r" b="b"/>
            <a:pathLst>
              <a:path stroke="0" w="571500" h="71438">
                <a:moveTo>
                  <a:pt x="285750" y="0"/>
                </a:moveTo>
                <a:cubicBezTo>
                  <a:pt x="443565" y="0"/>
                  <a:pt x="571500" y="15992"/>
                  <a:pt x="571500" y="35719"/>
                </a:cubicBezTo>
                <a:lnTo>
                  <a:pt x="285750" y="35719"/>
                </a:lnTo>
                <a:lnTo>
                  <a:pt x="285750" y="0"/>
                </a:lnTo>
                <a:close/>
              </a:path>
              <a:path fill="none" w="571500" h="71438">
                <a:moveTo>
                  <a:pt x="285750" y="0"/>
                </a:moveTo>
                <a:cubicBezTo>
                  <a:pt x="443565" y="0"/>
                  <a:pt x="571500" y="15992"/>
                  <a:pt x="571500" y="35719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олилиния 4"/>
          <p:cNvSpPr/>
          <p:nvPr/>
        </p:nvSpPr>
        <p:spPr>
          <a:xfrm rot="6561000">
            <a:off x="3120840" y="1103400"/>
            <a:ext cx="549360" cy="38160"/>
          </a:xfrm>
          <a:custGeom>
            <a:avLst/>
            <a:gdLst/>
            <a:ahLst/>
            <a:rect l="l" t="t" r="r" b="b"/>
            <a:pathLst>
              <a:path w="548640" h="39188">
                <a:moveTo>
                  <a:pt x="0" y="0"/>
                </a:moveTo>
                <a:lnTo>
                  <a:pt x="548640" y="39188"/>
                </a:lnTo>
                <a:lnTo>
                  <a:pt x="548640" y="39188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олилиния 5"/>
          <p:cNvSpPr/>
          <p:nvPr/>
        </p:nvSpPr>
        <p:spPr>
          <a:xfrm rot="6439200">
            <a:off x="1184040" y="2462040"/>
            <a:ext cx="547560" cy="39600"/>
          </a:xfrm>
          <a:custGeom>
            <a:avLst/>
            <a:gdLst/>
            <a:ahLst/>
            <a:rect l="l" t="t" r="r" b="b"/>
            <a:pathLst>
              <a:path w="548640" h="39188">
                <a:moveTo>
                  <a:pt x="0" y="0"/>
                </a:moveTo>
                <a:lnTo>
                  <a:pt x="548640" y="39188"/>
                </a:lnTo>
                <a:lnTo>
                  <a:pt x="548640" y="39188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1143000" y="2286000"/>
            <a:ext cx="3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3357720" y="928800"/>
            <a:ext cx="3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11"/>
          <p:cNvSpPr/>
          <p:nvPr/>
        </p:nvSpPr>
        <p:spPr>
          <a:xfrm flipV="1">
            <a:off x="3285360" y="642600"/>
            <a:ext cx="214200" cy="214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12"/>
          <p:cNvSpPr/>
          <p:nvPr/>
        </p:nvSpPr>
        <p:spPr>
          <a:xfrm flipV="1">
            <a:off x="1357200" y="2857320"/>
            <a:ext cx="214560" cy="214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2"/>
          <p:cNvSpPr/>
          <p:nvPr/>
        </p:nvSpPr>
        <p:spPr>
          <a:xfrm>
            <a:off x="646560" y="22147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3"/>
          <p:cNvSpPr/>
          <p:nvPr/>
        </p:nvSpPr>
        <p:spPr>
          <a:xfrm>
            <a:off x="3000240" y="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5"/>
          <p:cNvSpPr/>
          <p:nvPr/>
        </p:nvSpPr>
        <p:spPr>
          <a:xfrm>
            <a:off x="3789360" y="11430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6"/>
          <p:cNvSpPr/>
          <p:nvPr/>
        </p:nvSpPr>
        <p:spPr>
          <a:xfrm>
            <a:off x="1504080" y="314316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7"/>
          <p:cNvSpPr/>
          <p:nvPr/>
        </p:nvSpPr>
        <p:spPr>
          <a:xfrm>
            <a:off x="4662000" y="428760"/>
            <a:ext cx="268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В₁=ВС;  </a:t>
            </a:r>
            <a:r>
              <a:rPr b="1" lang="ru-RU" sz="28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=</a:t>
            </a:r>
            <a:r>
              <a:rPr b="1" lang="ru-RU" sz="28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∆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ВС=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∆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В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0"/>
          <p:cNvSpPr/>
          <p:nvPr/>
        </p:nvSpPr>
        <p:spPr>
          <a:xfrm>
            <a:off x="4311000" y="2928960"/>
            <a:ext cx="445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оказательство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ассмотрим ∆ АВС и ∆ АВ₁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7"/>
          <p:cNvSpPr/>
          <p:nvPr/>
        </p:nvSpPr>
        <p:spPr>
          <a:xfrm flipV="1">
            <a:off x="1046160" y="1143000"/>
            <a:ext cx="2739960" cy="1333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0"/>
          <p:cNvSpPr/>
          <p:nvPr/>
        </p:nvSpPr>
        <p:spPr>
          <a:xfrm>
            <a:off x="4643280" y="38577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.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В₁ =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21"/>
          <p:cNvSpPr/>
          <p:nvPr/>
        </p:nvSpPr>
        <p:spPr>
          <a:xfrm>
            <a:off x="4711680" y="4357800"/>
            <a:ext cx="32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 =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(по услов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22"/>
          <p:cNvSpPr/>
          <p:nvPr/>
        </p:nvSpPr>
        <p:spPr>
          <a:xfrm>
            <a:off x="4649400" y="492912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.АС – об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4"/>
          <p:cNvSpPr/>
          <p:nvPr/>
        </p:nvSpPr>
        <p:spPr>
          <a:xfrm>
            <a:off x="4214880" y="5429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=&gt;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∆ АВС=∆ АВ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(по двум сторо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 углу между ни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4" name="Полилиния 32"/>
          <p:cNvSpPr/>
          <p:nvPr/>
        </p:nvSpPr>
        <p:spPr>
          <a:xfrm>
            <a:off x="2000160" y="1643040"/>
            <a:ext cx="428760" cy="568440"/>
          </a:xfrm>
          <a:custGeom>
            <a:avLst/>
            <a:gdLst/>
            <a:ahLst/>
            <a:rect l="l" t="t" r="r" b="b"/>
            <a:pathLst>
              <a:path w="578239" h="425896">
                <a:moveTo>
                  <a:pt x="7870" y="398352"/>
                </a:moveTo>
                <a:cubicBezTo>
                  <a:pt x="36175" y="285139"/>
                  <a:pt x="0" y="425896"/>
                  <a:pt x="25977" y="334978"/>
                </a:cubicBezTo>
                <a:cubicBezTo>
                  <a:pt x="29842" y="321449"/>
                  <a:pt x="36851" y="286069"/>
                  <a:pt x="44084" y="271603"/>
                </a:cubicBezTo>
                <a:cubicBezTo>
                  <a:pt x="56687" y="246396"/>
                  <a:pt x="69330" y="237304"/>
                  <a:pt x="89351" y="217283"/>
                </a:cubicBezTo>
                <a:cubicBezTo>
                  <a:pt x="105287" y="169477"/>
                  <a:pt x="90465" y="195415"/>
                  <a:pt x="152726" y="153908"/>
                </a:cubicBezTo>
                <a:lnTo>
                  <a:pt x="179886" y="135802"/>
                </a:lnTo>
                <a:cubicBezTo>
                  <a:pt x="210064" y="138820"/>
                  <a:pt x="241648" y="135264"/>
                  <a:pt x="270421" y="144855"/>
                </a:cubicBezTo>
                <a:cubicBezTo>
                  <a:pt x="280743" y="148296"/>
                  <a:pt x="283662" y="162283"/>
                  <a:pt x="288528" y="172015"/>
                </a:cubicBezTo>
                <a:cubicBezTo>
                  <a:pt x="301283" y="197525"/>
                  <a:pt x="299538" y="242078"/>
                  <a:pt x="333795" y="253497"/>
                </a:cubicBezTo>
                <a:cubicBezTo>
                  <a:pt x="378370" y="268355"/>
                  <a:pt x="351542" y="260981"/>
                  <a:pt x="415276" y="271603"/>
                </a:cubicBezTo>
                <a:lnTo>
                  <a:pt x="469597" y="217283"/>
                </a:lnTo>
                <a:lnTo>
                  <a:pt x="496757" y="190122"/>
                </a:lnTo>
                <a:cubicBezTo>
                  <a:pt x="524452" y="107043"/>
                  <a:pt x="478156" y="236379"/>
                  <a:pt x="532971" y="126748"/>
                </a:cubicBezTo>
                <a:cubicBezTo>
                  <a:pt x="541507" y="109677"/>
                  <a:pt x="546449" y="90944"/>
                  <a:pt x="551078" y="72427"/>
                </a:cubicBezTo>
                <a:cubicBezTo>
                  <a:pt x="554096" y="60356"/>
                  <a:pt x="555763" y="47864"/>
                  <a:pt x="560132" y="36213"/>
                </a:cubicBezTo>
                <a:cubicBezTo>
                  <a:pt x="564871" y="23576"/>
                  <a:pt x="578239" y="0"/>
                  <a:pt x="578239" y="0"/>
                </a:cubicBezTo>
              </a:path>
            </a:pathLst>
          </a:custGeom>
          <a:noFill/>
          <a:ln w="316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2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2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Равнобедренный треугольник 1"/>
          <p:cNvSpPr/>
          <p:nvPr/>
        </p:nvSpPr>
        <p:spPr>
          <a:xfrm flipH="1">
            <a:off x="1714680" y="1643040"/>
            <a:ext cx="1668240" cy="2643120"/>
          </a:xfrm>
          <a:prstGeom prst="triangle">
            <a:avLst>
              <a:gd name="adj" fmla="val 50000"/>
            </a:avLst>
          </a:prstGeom>
          <a:solidFill>
            <a:srgbClr val="eeece1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Равнобедренный треугольник 2"/>
          <p:cNvSpPr/>
          <p:nvPr/>
        </p:nvSpPr>
        <p:spPr>
          <a:xfrm>
            <a:off x="2000160" y="1643040"/>
            <a:ext cx="1060560" cy="2643120"/>
          </a:xfrm>
          <a:prstGeom prst="triangle">
            <a:avLst>
              <a:gd name="adj" fmla="val 50398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4"/>
          <p:cNvSpPr/>
          <p:nvPr/>
        </p:nvSpPr>
        <p:spPr>
          <a:xfrm>
            <a:off x="1071720" y="4286160"/>
            <a:ext cx="27860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0"/>
          <p:cNvSpPr/>
          <p:nvPr/>
        </p:nvSpPr>
        <p:spPr>
          <a:xfrm>
            <a:off x="930960" y="43578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1"/>
          <p:cNvSpPr/>
          <p:nvPr/>
        </p:nvSpPr>
        <p:spPr>
          <a:xfrm>
            <a:off x="1431000" y="43578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3"/>
          <p:cNvSpPr/>
          <p:nvPr/>
        </p:nvSpPr>
        <p:spPr>
          <a:xfrm>
            <a:off x="3218040" y="43578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4"/>
          <p:cNvSpPr/>
          <p:nvPr/>
        </p:nvSpPr>
        <p:spPr>
          <a:xfrm>
            <a:off x="3645720" y="435780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5"/>
          <p:cNvSpPr/>
          <p:nvPr/>
        </p:nvSpPr>
        <p:spPr>
          <a:xfrm>
            <a:off x="1859400" y="43578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6"/>
          <p:cNvSpPr/>
          <p:nvPr/>
        </p:nvSpPr>
        <p:spPr>
          <a:xfrm>
            <a:off x="2431440" y="121428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8"/>
          <p:cNvSpPr/>
          <p:nvPr/>
        </p:nvSpPr>
        <p:spPr>
          <a:xfrm>
            <a:off x="2859480" y="435780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олилиния 20"/>
          <p:cNvSpPr/>
          <p:nvPr/>
        </p:nvSpPr>
        <p:spPr>
          <a:xfrm>
            <a:off x="1414440" y="4022640"/>
            <a:ext cx="335160" cy="284400"/>
          </a:xfrm>
          <a:custGeom>
            <a:avLst/>
            <a:gdLst/>
            <a:ahLst/>
            <a:rect l="l" t="t" r="r" b="b"/>
            <a:pathLst>
              <a:path w="335573" h="284667">
                <a:moveTo>
                  <a:pt x="17521" y="258499"/>
                </a:moveTo>
                <a:cubicBezTo>
                  <a:pt x="111641" y="195752"/>
                  <a:pt x="0" y="284667"/>
                  <a:pt x="70529" y="125977"/>
                </a:cubicBezTo>
                <a:cubicBezTo>
                  <a:pt x="76202" y="113212"/>
                  <a:pt x="97792" y="118972"/>
                  <a:pt x="110286" y="112725"/>
                </a:cubicBezTo>
                <a:cubicBezTo>
                  <a:pt x="213048" y="61345"/>
                  <a:pt x="89869" y="106279"/>
                  <a:pt x="189799" y="72969"/>
                </a:cubicBezTo>
                <a:cubicBezTo>
                  <a:pt x="193931" y="66771"/>
                  <a:pt x="228028" y="9992"/>
                  <a:pt x="242808" y="6708"/>
                </a:cubicBezTo>
                <a:cubicBezTo>
                  <a:pt x="272993" y="0"/>
                  <a:pt x="304651" y="6708"/>
                  <a:pt x="335573" y="6708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21"/>
          <p:cNvSpPr/>
          <p:nvPr/>
        </p:nvSpPr>
        <p:spPr>
          <a:xfrm rot="5853000">
            <a:off x="3230280" y="3954240"/>
            <a:ext cx="335160" cy="325440"/>
          </a:xfrm>
          <a:custGeom>
            <a:avLst/>
            <a:gdLst/>
            <a:ahLst/>
            <a:rect l="l" t="t" r="r" b="b"/>
            <a:pathLst>
              <a:path w="335573" h="284667">
                <a:moveTo>
                  <a:pt x="17521" y="258499"/>
                </a:moveTo>
                <a:cubicBezTo>
                  <a:pt x="111641" y="195752"/>
                  <a:pt x="0" y="284667"/>
                  <a:pt x="70529" y="125977"/>
                </a:cubicBezTo>
                <a:cubicBezTo>
                  <a:pt x="76202" y="113212"/>
                  <a:pt x="97792" y="118972"/>
                  <a:pt x="110286" y="112725"/>
                </a:cubicBezTo>
                <a:cubicBezTo>
                  <a:pt x="213048" y="61345"/>
                  <a:pt x="89869" y="106279"/>
                  <a:pt x="189799" y="72969"/>
                </a:cubicBezTo>
                <a:cubicBezTo>
                  <a:pt x="193931" y="66771"/>
                  <a:pt x="228028" y="9992"/>
                  <a:pt x="242808" y="6708"/>
                </a:cubicBezTo>
                <a:cubicBezTo>
                  <a:pt x="272993" y="0"/>
                  <a:pt x="304651" y="6708"/>
                  <a:pt x="335573" y="6708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2"/>
          <p:cNvSpPr/>
          <p:nvPr/>
        </p:nvSpPr>
        <p:spPr>
          <a:xfrm>
            <a:off x="1359720" y="3714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23"/>
          <p:cNvSpPr/>
          <p:nvPr/>
        </p:nvSpPr>
        <p:spPr>
          <a:xfrm>
            <a:off x="3502800" y="3714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25"/>
          <p:cNvSpPr/>
          <p:nvPr/>
        </p:nvSpPr>
        <p:spPr>
          <a:xfrm>
            <a:off x="1857240" y="3143160"/>
            <a:ext cx="285840" cy="716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26"/>
          <p:cNvSpPr/>
          <p:nvPr/>
        </p:nvSpPr>
        <p:spPr>
          <a:xfrm>
            <a:off x="1785960" y="3214800"/>
            <a:ext cx="357120" cy="71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30"/>
          <p:cNvSpPr/>
          <p:nvPr/>
        </p:nvSpPr>
        <p:spPr>
          <a:xfrm>
            <a:off x="2928960" y="3214800"/>
            <a:ext cx="285840" cy="71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31"/>
          <p:cNvSpPr/>
          <p:nvPr/>
        </p:nvSpPr>
        <p:spPr>
          <a:xfrm>
            <a:off x="2857680" y="3143160"/>
            <a:ext cx="285480" cy="716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32"/>
          <p:cNvSpPr/>
          <p:nvPr/>
        </p:nvSpPr>
        <p:spPr>
          <a:xfrm flipV="1">
            <a:off x="1785960" y="4143240"/>
            <a:ext cx="71280" cy="285840"/>
          </a:xfrm>
          <a:prstGeom prst="line">
            <a:avLst/>
          </a:prstGeom>
          <a:ln w="284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37"/>
          <p:cNvSpPr/>
          <p:nvPr/>
        </p:nvSpPr>
        <p:spPr>
          <a:xfrm flipH="1" flipV="1">
            <a:off x="3142800" y="4143240"/>
            <a:ext cx="71640" cy="28584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41"/>
          <p:cNvSpPr/>
          <p:nvPr/>
        </p:nvSpPr>
        <p:spPr>
          <a:xfrm>
            <a:off x="3947760" y="285840"/>
            <a:ext cx="374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НО: ВЕ =ЕС; ВК = Р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=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;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КЕ = 11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казать: ∆ВЕК = ∆Р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йти: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Е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7"/>
          <p:cNvSpPr/>
          <p:nvPr/>
        </p:nvSpPr>
        <p:spPr>
          <a:xfrm>
            <a:off x="3812400" y="2286000"/>
            <a:ext cx="5298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и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;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и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 – смежные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=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(по свойству смеж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г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ВЕ=Е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ВК=РС=&gt;∆ВЕК=∆РСЕ( по перв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 признаку равенства треугол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в) ч.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РС=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КЕ=110° т.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К=∆Р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1714680" y="392904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3071880" y="3929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"/>
          <p:cNvGrpSpPr/>
          <p:nvPr/>
        </p:nvGrpSpPr>
        <p:grpSpPr>
          <a:xfrm>
            <a:off x="1619280" y="1268280"/>
            <a:ext cx="5981760" cy="4343040"/>
            <a:chOff x="1619280" y="1268280"/>
            <a:chExt cx="5981760" cy="4343040"/>
          </a:xfrm>
        </p:grpSpPr>
        <p:sp>
          <p:nvSpPr>
            <p:cNvPr id="360" name="AutoShape 5"/>
            <p:cNvSpPr/>
            <p:nvPr/>
          </p:nvSpPr>
          <p:spPr>
            <a:xfrm>
              <a:off x="3059280" y="2154960"/>
              <a:ext cx="3082680" cy="26614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6"/>
            <p:cNvSpPr/>
            <p:nvPr/>
          </p:nvSpPr>
          <p:spPr>
            <a:xfrm>
              <a:off x="1619280" y="4724640"/>
              <a:ext cx="1771560" cy="886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ff"/>
                  </a:solidFill>
                  <a:latin typeface="Calibri"/>
                </a:rPr>
                <a:t>Уго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7"/>
            <p:cNvSpPr/>
            <p:nvPr/>
          </p:nvSpPr>
          <p:spPr>
            <a:xfrm>
              <a:off x="3724200" y="1268280"/>
              <a:ext cx="1771920" cy="8866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ff"/>
                  </a:solidFill>
                  <a:latin typeface="Calibri"/>
                </a:rPr>
                <a:t>Уго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8"/>
            <p:cNvSpPr/>
            <p:nvPr/>
          </p:nvSpPr>
          <p:spPr>
            <a:xfrm>
              <a:off x="5829480" y="4724640"/>
              <a:ext cx="1771560" cy="8866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ff"/>
                  </a:solidFill>
                  <a:latin typeface="Calibri"/>
                </a:rPr>
                <a:t>Уго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10"/>
          <p:cNvSpPr/>
          <p:nvPr/>
        </p:nvSpPr>
        <p:spPr>
          <a:xfrm flipH="1">
            <a:off x="5292720" y="285264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2556000" y="306864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851280" y="479700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348000" y="5661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6"/>
          <p:cNvSpPr/>
          <p:nvPr/>
        </p:nvSpPr>
        <p:spPr>
          <a:xfrm>
            <a:off x="1116000" y="2708280"/>
            <a:ext cx="129708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Calibri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7"/>
          <p:cNvSpPr/>
          <p:nvPr/>
        </p:nvSpPr>
        <p:spPr>
          <a:xfrm>
            <a:off x="6156360" y="2421000"/>
            <a:ext cx="1584360" cy="43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Calibri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8"/>
          <p:cNvSpPr/>
          <p:nvPr/>
        </p:nvSpPr>
        <p:spPr>
          <a:xfrm>
            <a:off x="3132000" y="5805360"/>
            <a:ext cx="158436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Calibri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61128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ff"/>
                </a:solidFill>
                <a:latin typeface="Comic Sans MS"/>
              </a:rPr>
              <a:t>Элементы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5796000" y="40464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ff"/>
                </a:solidFill>
                <a:latin typeface="Comic Sans MS"/>
              </a:rPr>
              <a:t>- его стороны и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22"/>
          <p:cNvGrpSpPr/>
          <p:nvPr/>
        </p:nvGrpSpPr>
        <p:grpSpPr>
          <a:xfrm>
            <a:off x="1581120" y="1257480"/>
            <a:ext cx="5981760" cy="4343040"/>
            <a:chOff x="1581120" y="1257480"/>
            <a:chExt cx="5981760" cy="4343040"/>
          </a:xfrm>
        </p:grpSpPr>
        <p:sp>
          <p:nvSpPr>
            <p:cNvPr id="374" name="AutoShape 23"/>
            <p:cNvSpPr/>
            <p:nvPr/>
          </p:nvSpPr>
          <p:spPr>
            <a:xfrm>
              <a:off x="3021120" y="2144160"/>
              <a:ext cx="3082680" cy="26614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1581120" y="4713840"/>
              <a:ext cx="1771560" cy="886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5"/>
            <p:cNvSpPr/>
            <p:nvPr/>
          </p:nvSpPr>
          <p:spPr>
            <a:xfrm>
              <a:off x="3686040" y="1257480"/>
              <a:ext cx="1771920" cy="8866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6"/>
            <p:cNvSpPr/>
            <p:nvPr/>
          </p:nvSpPr>
          <p:spPr>
            <a:xfrm>
              <a:off x="5791320" y="4713840"/>
              <a:ext cx="1771560" cy="8866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Oval 27"/>
          <p:cNvSpPr/>
          <p:nvPr/>
        </p:nvSpPr>
        <p:spPr>
          <a:xfrm>
            <a:off x="900000" y="2708280"/>
            <a:ext cx="187344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3059280" y="5805360"/>
            <a:ext cx="187308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9"/>
          <p:cNvSpPr/>
          <p:nvPr/>
        </p:nvSpPr>
        <p:spPr>
          <a:xfrm>
            <a:off x="6084720" y="2349360"/>
            <a:ext cx="187344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0"/>
          <p:cNvSpPr/>
          <p:nvPr/>
        </p:nvSpPr>
        <p:spPr>
          <a:xfrm>
            <a:off x="2700360" y="314172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2"/>
          <p:cNvSpPr/>
          <p:nvPr/>
        </p:nvSpPr>
        <p:spPr>
          <a:xfrm flipH="1">
            <a:off x="5219280" y="2852640"/>
            <a:ext cx="1081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3"/>
          <p:cNvSpPr/>
          <p:nvPr/>
        </p:nvSpPr>
        <p:spPr>
          <a:xfrm flipV="1">
            <a:off x="3851280" y="4868640"/>
            <a:ext cx="6494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4"/>
          <p:cNvSpPr/>
          <p:nvPr/>
        </p:nvSpPr>
        <p:spPr>
          <a:xfrm>
            <a:off x="5580000" y="404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7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7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57120" y="2214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alibri"/>
              </a:rPr>
              <a:t>Если     …          одного треугольника соответственно равны    ...     другого треугольника, то такие треугольники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468360" y="1197000"/>
            <a:ext cx="2519280" cy="503280"/>
          </a:xfrm>
          <a:prstGeom prst="triangle">
            <a:avLst>
              <a:gd name="adj" fmla="val 50000"/>
            </a:avLst>
          </a:prstGeom>
          <a:solidFill>
            <a:srgbClr val="ff00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3708360" y="1197000"/>
            <a:ext cx="2519280" cy="503280"/>
          </a:xfrm>
          <a:prstGeom prst="triangle">
            <a:avLst>
              <a:gd name="adj" fmla="val 50000"/>
            </a:avLst>
          </a:prstGeom>
          <a:solidFill>
            <a:srgbClr val="ff00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"/>
          <p:cNvSpPr/>
          <p:nvPr/>
        </p:nvSpPr>
        <p:spPr>
          <a:xfrm flipV="1">
            <a:off x="468360" y="1197000"/>
            <a:ext cx="1295280" cy="5032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9"/>
          <p:cNvSpPr/>
          <p:nvPr/>
        </p:nvSpPr>
        <p:spPr>
          <a:xfrm flipV="1">
            <a:off x="3708360" y="1197000"/>
            <a:ext cx="1224000" cy="5032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0"/>
          <p:cNvSpPr/>
          <p:nvPr/>
        </p:nvSpPr>
        <p:spPr>
          <a:xfrm>
            <a:off x="468360" y="1700280"/>
            <a:ext cx="251928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1"/>
          <p:cNvSpPr/>
          <p:nvPr/>
        </p:nvSpPr>
        <p:spPr>
          <a:xfrm>
            <a:off x="3708360" y="1700280"/>
            <a:ext cx="251928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rc 12"/>
          <p:cNvSpPr/>
          <p:nvPr/>
        </p:nvSpPr>
        <p:spPr>
          <a:xfrm>
            <a:off x="1042920" y="1484280"/>
            <a:ext cx="144360" cy="216000"/>
          </a:xfrm>
          <a:custGeom>
            <a:avLst/>
            <a:gdLst>
              <a:gd name="textAreaLeft" fmla="*/ 0 w 144360"/>
              <a:gd name="textAreaRight" fmla="*/ 14436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rc 13"/>
          <p:cNvSpPr/>
          <p:nvPr/>
        </p:nvSpPr>
        <p:spPr>
          <a:xfrm>
            <a:off x="4211640" y="1484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8"/>
          <p:cNvSpPr/>
          <p:nvPr/>
        </p:nvSpPr>
        <p:spPr>
          <a:xfrm>
            <a:off x="285840" y="42876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Первый признак равенства 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8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9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9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9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8"/>
          <p:cNvGrpSpPr/>
          <p:nvPr/>
        </p:nvGrpSpPr>
        <p:grpSpPr>
          <a:xfrm>
            <a:off x="3635280" y="3933720"/>
            <a:ext cx="647640" cy="647640"/>
            <a:chOff x="3635280" y="3933720"/>
            <a:chExt cx="647640" cy="647640"/>
          </a:xfrm>
        </p:grpSpPr>
        <p:sp>
          <p:nvSpPr>
            <p:cNvPr id="396" name="AutoShape 6"/>
            <p:cNvSpPr/>
            <p:nvPr/>
          </p:nvSpPr>
          <p:spPr>
            <a:xfrm>
              <a:off x="363528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377820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504d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9"/>
          <p:cNvGrpSpPr/>
          <p:nvPr/>
        </p:nvGrpSpPr>
        <p:grpSpPr>
          <a:xfrm>
            <a:off x="4500720" y="3933720"/>
            <a:ext cx="647640" cy="647640"/>
            <a:chOff x="4500720" y="3933720"/>
            <a:chExt cx="647640" cy="647640"/>
          </a:xfrm>
        </p:grpSpPr>
        <p:sp>
          <p:nvSpPr>
            <p:cNvPr id="399" name="AutoShape 10"/>
            <p:cNvSpPr/>
            <p:nvPr/>
          </p:nvSpPr>
          <p:spPr>
            <a:xfrm>
              <a:off x="450072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464364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504d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2"/>
          <p:cNvGrpSpPr/>
          <p:nvPr/>
        </p:nvGrpSpPr>
        <p:grpSpPr>
          <a:xfrm>
            <a:off x="5435640" y="3933720"/>
            <a:ext cx="647640" cy="647640"/>
            <a:chOff x="5435640" y="3933720"/>
            <a:chExt cx="647640" cy="647640"/>
          </a:xfrm>
        </p:grpSpPr>
        <p:sp>
          <p:nvSpPr>
            <p:cNvPr id="402" name="AutoShape 13"/>
            <p:cNvSpPr/>
            <p:nvPr/>
          </p:nvSpPr>
          <p:spPr>
            <a:xfrm>
              <a:off x="543564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4"/>
            <p:cNvSpPr/>
            <p:nvPr/>
          </p:nvSpPr>
          <p:spPr>
            <a:xfrm>
              <a:off x="557856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504d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5"/>
          <p:cNvGrpSpPr/>
          <p:nvPr/>
        </p:nvGrpSpPr>
        <p:grpSpPr>
          <a:xfrm>
            <a:off x="6300720" y="3933720"/>
            <a:ext cx="647640" cy="647640"/>
            <a:chOff x="6300720" y="3933720"/>
            <a:chExt cx="647640" cy="647640"/>
          </a:xfrm>
        </p:grpSpPr>
        <p:sp>
          <p:nvSpPr>
            <p:cNvPr id="405" name="AutoShape 16"/>
            <p:cNvSpPr/>
            <p:nvPr/>
          </p:nvSpPr>
          <p:spPr>
            <a:xfrm>
              <a:off x="630072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7"/>
            <p:cNvSpPr/>
            <p:nvPr/>
          </p:nvSpPr>
          <p:spPr>
            <a:xfrm>
              <a:off x="644364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504d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21"/>
          <p:cNvGrpSpPr/>
          <p:nvPr/>
        </p:nvGrpSpPr>
        <p:grpSpPr>
          <a:xfrm>
            <a:off x="3635280" y="4941720"/>
            <a:ext cx="647640" cy="647640"/>
            <a:chOff x="3635280" y="4941720"/>
            <a:chExt cx="647640" cy="647640"/>
          </a:xfrm>
        </p:grpSpPr>
        <p:sp>
          <p:nvSpPr>
            <p:cNvPr id="408" name="AutoShape 22"/>
            <p:cNvSpPr/>
            <p:nvPr/>
          </p:nvSpPr>
          <p:spPr>
            <a:xfrm>
              <a:off x="363528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23"/>
            <p:cNvSpPr/>
            <p:nvPr/>
          </p:nvSpPr>
          <p:spPr>
            <a:xfrm>
              <a:off x="377820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504d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4"/>
          <p:cNvGrpSpPr/>
          <p:nvPr/>
        </p:nvGrpSpPr>
        <p:grpSpPr>
          <a:xfrm>
            <a:off x="4500720" y="4941720"/>
            <a:ext cx="647640" cy="647640"/>
            <a:chOff x="4500720" y="4941720"/>
            <a:chExt cx="647640" cy="647640"/>
          </a:xfrm>
        </p:grpSpPr>
        <p:sp>
          <p:nvSpPr>
            <p:cNvPr id="411" name="AutoShape 25"/>
            <p:cNvSpPr/>
            <p:nvPr/>
          </p:nvSpPr>
          <p:spPr>
            <a:xfrm>
              <a:off x="450072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6"/>
            <p:cNvSpPr/>
            <p:nvPr/>
          </p:nvSpPr>
          <p:spPr>
            <a:xfrm>
              <a:off x="464364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504d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AutoShape 27">
            <a:hlinkClick r:id="rId1" action="ppaction://hlinksldjump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504d"/>
          </a:solidFill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28"/>
          <p:cNvSpPr txBox="1"/>
          <p:nvPr/>
        </p:nvSpPr>
        <p:spPr>
          <a:xfrm>
            <a:off x="900000" y="836640"/>
            <a:ext cx="6913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Первый 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признак  равенства треугольников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415" name="Group 29"/>
          <p:cNvGrpSpPr/>
          <p:nvPr/>
        </p:nvGrpSpPr>
        <p:grpSpPr>
          <a:xfrm>
            <a:off x="7164360" y="3933720"/>
            <a:ext cx="647640" cy="647640"/>
            <a:chOff x="7164360" y="3933720"/>
            <a:chExt cx="647640" cy="647640"/>
          </a:xfrm>
        </p:grpSpPr>
        <p:sp>
          <p:nvSpPr>
            <p:cNvPr id="416" name="AutoShape 30"/>
            <p:cNvSpPr/>
            <p:nvPr/>
          </p:nvSpPr>
          <p:spPr>
            <a:xfrm>
              <a:off x="716436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1">
              <a:hlinkClick r:id="rId2" action="ppaction://hlinksldjump"/>
            </p:cNvPr>
            <p:cNvSpPr/>
            <p:nvPr/>
          </p:nvSpPr>
          <p:spPr>
            <a:xfrm>
              <a:off x="730728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504d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32"/>
          <p:cNvGrpSpPr/>
          <p:nvPr/>
        </p:nvGrpSpPr>
        <p:grpSpPr>
          <a:xfrm>
            <a:off x="5435640" y="4941720"/>
            <a:ext cx="647640" cy="647640"/>
            <a:chOff x="5435640" y="4941720"/>
            <a:chExt cx="647640" cy="647640"/>
          </a:xfrm>
        </p:grpSpPr>
        <p:sp>
          <p:nvSpPr>
            <p:cNvPr id="419" name="AutoShape 33"/>
            <p:cNvSpPr/>
            <p:nvPr/>
          </p:nvSpPr>
          <p:spPr>
            <a:xfrm>
              <a:off x="543564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4">
              <a:hlinkClick r:id="rId3" action="ppaction://hlinksldjump"/>
            </p:cNvPr>
            <p:cNvSpPr/>
            <p:nvPr/>
          </p:nvSpPr>
          <p:spPr>
            <a:xfrm>
              <a:off x="557856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504d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35"/>
          <p:cNvGrpSpPr/>
          <p:nvPr/>
        </p:nvGrpSpPr>
        <p:grpSpPr>
          <a:xfrm>
            <a:off x="6300720" y="4941720"/>
            <a:ext cx="647640" cy="647640"/>
            <a:chOff x="6300720" y="4941720"/>
            <a:chExt cx="647640" cy="647640"/>
          </a:xfrm>
        </p:grpSpPr>
        <p:sp>
          <p:nvSpPr>
            <p:cNvPr id="422" name="AutoShape 36"/>
            <p:cNvSpPr/>
            <p:nvPr/>
          </p:nvSpPr>
          <p:spPr>
            <a:xfrm>
              <a:off x="630072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7">
              <a:hlinkClick r:id="rId4" action="ppaction://hlinksldjump"/>
            </p:cNvPr>
            <p:cNvSpPr/>
            <p:nvPr/>
          </p:nvSpPr>
          <p:spPr>
            <a:xfrm>
              <a:off x="644364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504d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1"/>
          <p:cNvGrpSpPr/>
          <p:nvPr/>
        </p:nvGrpSpPr>
        <p:grpSpPr>
          <a:xfrm>
            <a:off x="7164360" y="4941720"/>
            <a:ext cx="647640" cy="647640"/>
            <a:chOff x="7164360" y="4941720"/>
            <a:chExt cx="647640" cy="647640"/>
          </a:xfrm>
        </p:grpSpPr>
        <p:sp>
          <p:nvSpPr>
            <p:cNvPr id="425" name="AutoShape 39"/>
            <p:cNvSpPr/>
            <p:nvPr/>
          </p:nvSpPr>
          <p:spPr>
            <a:xfrm>
              <a:off x="716436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0">
              <a:hlinkClick r:id="rId5" action="ppaction://hlinksldjump"/>
            </p:cNvPr>
            <p:cNvSpPr/>
            <p:nvPr/>
          </p:nvSpPr>
          <p:spPr>
            <a:xfrm>
              <a:off x="7235640" y="50846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504d"/>
                  </a:solidFill>
                  <a:latin typeface="Verdan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7"/>
          <p:cNvGrpSpPr/>
          <p:nvPr/>
        </p:nvGrpSpPr>
        <p:grpSpPr>
          <a:xfrm>
            <a:off x="2268360" y="1628640"/>
            <a:ext cx="4174920" cy="2592360"/>
            <a:chOff x="2268360" y="1628640"/>
            <a:chExt cx="4174920" cy="2592360"/>
          </a:xfrm>
        </p:grpSpPr>
        <p:sp>
          <p:nvSpPr>
            <p:cNvPr id="428" name="Freeform 5"/>
            <p:cNvSpPr/>
            <p:nvPr/>
          </p:nvSpPr>
          <p:spPr>
            <a:xfrm>
              <a:off x="2268360" y="2925360"/>
              <a:ext cx="3743280" cy="1295640"/>
            </a:xfrm>
            <a:custGeom>
              <a:avLst/>
              <a:gdLst>
                <a:gd name="textAreaLeft" fmla="*/ 0 w 3743280"/>
                <a:gd name="textAreaRight" fmla="*/ 3743640 w 374328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2358" h="816">
                  <a:moveTo>
                    <a:pt x="0" y="816"/>
                  </a:moveTo>
                  <a:lnTo>
                    <a:pt x="1315" y="0"/>
                  </a:lnTo>
                  <a:lnTo>
                    <a:pt x="2358" y="816"/>
                  </a:lnTo>
                  <a:lnTo>
                    <a:pt x="0" y="816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 rot="10800000">
              <a:off x="2700000" y="1628640"/>
              <a:ext cx="3743280" cy="1295280"/>
            </a:xfrm>
            <a:custGeom>
              <a:avLst/>
              <a:gdLst>
                <a:gd name="textAreaLeft" fmla="*/ 0 w 3743280"/>
                <a:gd name="textAreaRight" fmla="*/ 3743640 w 374328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2358" h="816">
                  <a:moveTo>
                    <a:pt x="0" y="816"/>
                  </a:moveTo>
                  <a:lnTo>
                    <a:pt x="1315" y="0"/>
                  </a:lnTo>
                  <a:lnTo>
                    <a:pt x="2358" y="816"/>
                  </a:lnTo>
                  <a:lnTo>
                    <a:pt x="0" y="816"/>
                  </a:lnTo>
                  <a:close/>
                </a:path>
              </a:pathLst>
            </a:custGeom>
            <a:blipFill rotWithShape="0">
              <a:blip r:embed="rId2">
                <a:alphaModFix amt="45000"/>
              </a:blip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Line 8"/>
          <p:cNvSpPr/>
          <p:nvPr/>
        </p:nvSpPr>
        <p:spPr>
          <a:xfrm>
            <a:off x="3276720" y="335772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3419640" y="328464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5003640" y="2205000"/>
            <a:ext cx="287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1"/>
          <p:cNvSpPr/>
          <p:nvPr/>
        </p:nvSpPr>
        <p:spPr>
          <a:xfrm>
            <a:off x="5146560" y="213192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 flipV="1">
            <a:off x="3492360" y="2205000"/>
            <a:ext cx="432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 flipV="1">
            <a:off x="4859280" y="3357720"/>
            <a:ext cx="432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1788840" y="371628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2158200" y="10526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341760" y="1052640"/>
            <a:ext cx="3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7"/>
          <p:cNvSpPr/>
          <p:nvPr/>
        </p:nvSpPr>
        <p:spPr>
          <a:xfrm>
            <a:off x="6093720" y="3789360"/>
            <a:ext cx="4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8"/>
          <p:cNvSpPr/>
          <p:nvPr/>
        </p:nvSpPr>
        <p:spPr>
          <a:xfrm>
            <a:off x="4665240" y="2637000"/>
            <a:ext cx="4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23"/>
          <p:cNvGrpSpPr/>
          <p:nvPr/>
        </p:nvGrpSpPr>
        <p:grpSpPr>
          <a:xfrm>
            <a:off x="3778200" y="4941720"/>
            <a:ext cx="4970520" cy="811080"/>
            <a:chOff x="3778200" y="4941720"/>
            <a:chExt cx="4970520" cy="811080"/>
          </a:xfrm>
        </p:grpSpPr>
        <p:sp>
          <p:nvSpPr>
            <p:cNvPr id="442" name="Text Box 20"/>
            <p:cNvSpPr/>
            <p:nvPr/>
          </p:nvSpPr>
          <p:spPr>
            <a:xfrm>
              <a:off x="4065480" y="5232240"/>
              <a:ext cx="38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Доказать: </a:t>
              </a:r>
              <a:r>
                <a:rPr b="1" lang="el-GR" sz="2800" spc="-1" strike="noStrike">
                  <a:solidFill>
                    <a:srgbClr val="000000"/>
                  </a:solidFill>
                  <a:latin typeface="Calibri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ВОС=</a:t>
              </a:r>
              <a:r>
                <a:rPr b="1" lang="el-GR" sz="2800" spc="-1" strike="noStrike">
                  <a:solidFill>
                    <a:srgbClr val="000000"/>
                  </a:solidFill>
                  <a:latin typeface="Calibri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А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21"/>
            <p:cNvSpPr/>
            <p:nvPr/>
          </p:nvSpPr>
          <p:spPr>
            <a:xfrm>
              <a:off x="3778200" y="4941720"/>
              <a:ext cx="497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AutoShape 22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4"/>
          <p:cNvSpPr/>
          <p:nvPr/>
        </p:nvSpPr>
        <p:spPr>
          <a:xfrm>
            <a:off x="7273080" y="217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7"/>
          <p:cNvGrpSpPr/>
          <p:nvPr/>
        </p:nvGrpSpPr>
        <p:grpSpPr>
          <a:xfrm>
            <a:off x="1940040" y="-159480"/>
            <a:ext cx="5551560" cy="5735160"/>
            <a:chOff x="1940040" y="-159480"/>
            <a:chExt cx="5551560" cy="5735160"/>
          </a:xfrm>
        </p:grpSpPr>
        <p:sp>
          <p:nvSpPr>
            <p:cNvPr id="447" name="Freeform 5"/>
            <p:cNvSpPr/>
            <p:nvPr/>
          </p:nvSpPr>
          <p:spPr>
            <a:xfrm rot="1343400">
              <a:off x="2484360" y="971640"/>
              <a:ext cx="4463640" cy="3470040"/>
            </a:xfrm>
            <a:custGeom>
              <a:avLst/>
              <a:gdLst>
                <a:gd name="textAreaLeft" fmla="*/ 0 w 4463640"/>
                <a:gd name="textAreaRight" fmla="*/ 4464000 w 4463640"/>
                <a:gd name="textAreaTop" fmla="*/ 0 h 3470040"/>
                <a:gd name="textAreaBottom" fmla="*/ 3470400 h 3470040"/>
              </a:gdLst>
              <a:ahLst/>
              <a:rect l="textAreaLeft" t="textAreaTop" r="textAreaRight" b="textAreaBottom"/>
              <a:pathLst>
                <a:path w="2359" h="1723">
                  <a:moveTo>
                    <a:pt x="0" y="1723"/>
                  </a:moveTo>
                  <a:lnTo>
                    <a:pt x="363" y="589"/>
                  </a:lnTo>
                  <a:lnTo>
                    <a:pt x="2359" y="0"/>
                  </a:lnTo>
                  <a:lnTo>
                    <a:pt x="0" y="1723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"/>
            <p:cNvSpPr/>
            <p:nvPr/>
          </p:nvSpPr>
          <p:spPr>
            <a:xfrm flipV="1" rot="18600000">
              <a:off x="2340000" y="1077480"/>
              <a:ext cx="4750920" cy="3260520"/>
            </a:xfrm>
            <a:custGeom>
              <a:avLst/>
              <a:gdLst>
                <a:gd name="textAreaLeft" fmla="*/ 0 w 4750920"/>
                <a:gd name="textAreaRight" fmla="*/ 4751280 w 4750920"/>
                <a:gd name="textAreaTop" fmla="*/ -360 h 3260520"/>
                <a:gd name="textAreaBottom" fmla="*/ 3260520 h 3260520"/>
              </a:gdLst>
              <a:ahLst/>
              <a:rect l="textAreaLeft" t="textAreaTop" r="textAreaRight" b="textAreaBottom"/>
              <a:pathLst>
                <a:path w="2359" h="1723">
                  <a:moveTo>
                    <a:pt x="0" y="1723"/>
                  </a:moveTo>
                  <a:lnTo>
                    <a:pt x="363" y="589"/>
                  </a:lnTo>
                  <a:lnTo>
                    <a:pt x="2359" y="0"/>
                  </a:lnTo>
                  <a:lnTo>
                    <a:pt x="0" y="172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8"/>
          <p:cNvSpPr/>
          <p:nvPr/>
        </p:nvSpPr>
        <p:spPr>
          <a:xfrm>
            <a:off x="1501200" y="285264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166200" y="981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7277040" y="1341360"/>
            <a:ext cx="3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3933360" y="4221000"/>
            <a:ext cx="4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rc 12"/>
          <p:cNvSpPr/>
          <p:nvPr/>
        </p:nvSpPr>
        <p:spPr>
          <a:xfrm>
            <a:off x="2700360" y="2567160"/>
            <a:ext cx="431640" cy="574560"/>
          </a:xfrm>
          <a:custGeom>
            <a:avLst/>
            <a:gdLst>
              <a:gd name="textAreaLeft" fmla="*/ 0 w 431640"/>
              <a:gd name="textAreaRight" fmla="*/ 432000 w 4316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fill="none" w="21600" h="21536">
                <a:moveTo>
                  <a:pt x="1662" y="0"/>
                </a:moveTo>
                <a:cubicBezTo>
                  <a:pt x="12913" y="868"/>
                  <a:pt x="21600" y="10251"/>
                  <a:pt x="21600" y="21536"/>
                </a:cubicBezTo>
              </a:path>
              <a:path stroke="0" w="21600" h="21536">
                <a:moveTo>
                  <a:pt x="1662" y="0"/>
                </a:moveTo>
                <a:cubicBezTo>
                  <a:pt x="12913" y="868"/>
                  <a:pt x="21600" y="10251"/>
                  <a:pt x="21600" y="21536"/>
                </a:cubicBezTo>
                <a:lnTo>
                  <a:pt x="0" y="21536"/>
                </a:lnTo>
                <a:lnTo>
                  <a:pt x="1662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rc 13"/>
          <p:cNvSpPr/>
          <p:nvPr/>
        </p:nvSpPr>
        <p:spPr>
          <a:xfrm rot="3262800">
            <a:off x="2790360" y="3205080"/>
            <a:ext cx="474840" cy="646200"/>
          </a:xfrm>
          <a:custGeom>
            <a:avLst/>
            <a:gdLst>
              <a:gd name="textAreaLeft" fmla="*/ 0 w 474840"/>
              <a:gd name="textAreaRight" fmla="*/ 475200 w 47484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fill="none" w="21530" h="21600">
                <a:moveTo>
                  <a:pt x="0" y="0"/>
                </a:moveTo>
                <a:cubicBezTo>
                  <a:pt x="3" y="0"/>
                  <a:pt x="6" y="-1"/>
                  <a:pt x="9" y="0"/>
                </a:cubicBezTo>
                <a:cubicBezTo>
                  <a:pt x="11221" y="0"/>
                  <a:pt x="20569" y="8578"/>
                  <a:pt x="21529" y="19750"/>
                </a:cubicBezTo>
              </a:path>
              <a:path stroke="0" w="21530" h="21600">
                <a:moveTo>
                  <a:pt x="0" y="0"/>
                </a:moveTo>
                <a:cubicBezTo>
                  <a:pt x="3" y="0"/>
                  <a:pt x="6" y="-1"/>
                  <a:pt x="9" y="0"/>
                </a:cubicBezTo>
                <a:cubicBezTo>
                  <a:pt x="11221" y="0"/>
                  <a:pt x="20569" y="8578"/>
                  <a:pt x="21529" y="19750"/>
                </a:cubicBezTo>
                <a:lnTo>
                  <a:pt x="9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4"/>
          <p:cNvSpPr/>
          <p:nvPr/>
        </p:nvSpPr>
        <p:spPr>
          <a:xfrm>
            <a:off x="2771640" y="1989000"/>
            <a:ext cx="5050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"/>
          <p:cNvSpPr/>
          <p:nvPr/>
        </p:nvSpPr>
        <p:spPr>
          <a:xfrm flipH="1">
            <a:off x="2987640" y="3860640"/>
            <a:ext cx="43200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6"/>
          <p:cNvGrpSpPr/>
          <p:nvPr/>
        </p:nvGrpSpPr>
        <p:grpSpPr>
          <a:xfrm>
            <a:off x="3851280" y="5157720"/>
            <a:ext cx="4081320" cy="811080"/>
            <a:chOff x="3851280" y="5157720"/>
            <a:chExt cx="4081320" cy="811080"/>
          </a:xfrm>
        </p:grpSpPr>
        <p:sp>
          <p:nvSpPr>
            <p:cNvPr id="458" name="Text Box 17"/>
            <p:cNvSpPr/>
            <p:nvPr/>
          </p:nvSpPr>
          <p:spPr>
            <a:xfrm>
              <a:off x="4159080" y="5448240"/>
              <a:ext cx="37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Доказать: </a:t>
              </a:r>
              <a:r>
                <a:rPr b="1" lang="el-GR" sz="2800" spc="-1" strike="noStrike">
                  <a:solidFill>
                    <a:srgbClr val="000000"/>
                  </a:solidFill>
                  <a:latin typeface="Calibri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АВС=</a:t>
              </a:r>
              <a:r>
                <a:rPr b="1" lang="el-GR" sz="2800" spc="-1" strike="noStrike">
                  <a:solidFill>
                    <a:srgbClr val="000000"/>
                  </a:solidFill>
                  <a:latin typeface="Calibri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АД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8"/>
            <p:cNvSpPr/>
            <p:nvPr/>
          </p:nvSpPr>
          <p:spPr>
            <a:xfrm>
              <a:off x="3851280" y="515772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AutoShape 19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7273080" y="217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4"/>
          <p:cNvSpPr/>
          <p:nvPr/>
        </p:nvSpPr>
        <p:spPr>
          <a:xfrm>
            <a:off x="1835280" y="1484280"/>
            <a:ext cx="4967280" cy="2232000"/>
          </a:xfrm>
          <a:prstGeom prst="parallelogram">
            <a:avLst>
              <a:gd name="adj" fmla="val 55637"/>
            </a:avLst>
          </a:prstGeom>
          <a:gradFill rotWithShape="0">
            <a:gsLst>
              <a:gs pos="0">
                <a:srgbClr val="ffffff"/>
              </a:gs>
              <a:gs pos="50000">
                <a:srgbClr val="dd55d3">
                  <a:alpha val="82352"/>
                </a:srgbClr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5"/>
          <p:cNvSpPr/>
          <p:nvPr/>
        </p:nvSpPr>
        <p:spPr>
          <a:xfrm flipH="1">
            <a:off x="1619280" y="1484280"/>
            <a:ext cx="5689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6"/>
          <p:cNvSpPr/>
          <p:nvPr/>
        </p:nvSpPr>
        <p:spPr>
          <a:xfrm>
            <a:off x="684360" y="3716280"/>
            <a:ext cx="6335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2050920" y="549360"/>
            <a:ext cx="4465800" cy="40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1671480" y="4884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0"/>
          <p:cNvSpPr/>
          <p:nvPr/>
        </p:nvSpPr>
        <p:spPr>
          <a:xfrm flipH="1">
            <a:off x="4642920" y="1268280"/>
            <a:ext cx="2876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1"/>
          <p:cNvSpPr/>
          <p:nvPr/>
        </p:nvSpPr>
        <p:spPr>
          <a:xfrm flipH="1">
            <a:off x="3780000" y="3500280"/>
            <a:ext cx="28728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rc 12"/>
          <p:cNvSpPr/>
          <p:nvPr/>
        </p:nvSpPr>
        <p:spPr>
          <a:xfrm flipH="1" flipV="1" rot="4035000">
            <a:off x="2008800" y="884160"/>
            <a:ext cx="431640" cy="620640"/>
          </a:xfrm>
          <a:custGeom>
            <a:avLst/>
            <a:gdLst>
              <a:gd name="textAreaLeft" fmla="*/ -360 w 431640"/>
              <a:gd name="textAreaRight" fmla="*/ 431640 w 431640"/>
              <a:gd name="textAreaTop" fmla="*/ 360 h 620640"/>
              <a:gd name="textAreaBottom" fmla="*/ 621360 h 620640"/>
            </a:gdLst>
            <a:ahLst/>
            <a:rect l="textAreaLeft" t="textAreaTop" r="textAreaRight" b="textAreaBottom"/>
            <a:pathLst>
              <a:path fill="none" w="21600" h="23219">
                <a:moveTo>
                  <a:pt x="1735" y="-1"/>
                </a:moveTo>
                <a:cubicBezTo>
                  <a:pt x="12955" y="903"/>
                  <a:pt x="21600" y="10273"/>
                  <a:pt x="21600" y="21530"/>
                </a:cubicBezTo>
                <a:cubicBezTo>
                  <a:pt x="21600" y="22093"/>
                  <a:pt x="21577" y="22657"/>
                  <a:pt x="21533" y="23218"/>
                </a:cubicBezTo>
              </a:path>
              <a:path stroke="0" w="21600" h="23219">
                <a:moveTo>
                  <a:pt x="1735" y="-1"/>
                </a:moveTo>
                <a:cubicBezTo>
                  <a:pt x="12955" y="903"/>
                  <a:pt x="21600" y="10273"/>
                  <a:pt x="21600" y="21530"/>
                </a:cubicBezTo>
                <a:cubicBezTo>
                  <a:pt x="21600" y="22093"/>
                  <a:pt x="21577" y="22657"/>
                  <a:pt x="21533" y="23218"/>
                </a:cubicBezTo>
                <a:lnTo>
                  <a:pt x="0" y="21530"/>
                </a:lnTo>
                <a:lnTo>
                  <a:pt x="173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rc 13"/>
          <p:cNvSpPr/>
          <p:nvPr/>
        </p:nvSpPr>
        <p:spPr>
          <a:xfrm flipV="1">
            <a:off x="6195960" y="3718080"/>
            <a:ext cx="465120" cy="576000"/>
          </a:xfrm>
          <a:custGeom>
            <a:avLst/>
            <a:gdLst>
              <a:gd name="textAreaLeft" fmla="*/ 0 w 465120"/>
              <a:gd name="textAreaRight" fmla="*/ 465480 w 4651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fill="none" w="23258" h="21600">
                <a:moveTo>
                  <a:pt x="-1" y="63"/>
                </a:moveTo>
                <a:cubicBezTo>
                  <a:pt x="551" y="21"/>
                  <a:pt x="1104" y="-1"/>
                  <a:pt x="1658" y="0"/>
                </a:cubicBezTo>
                <a:cubicBezTo>
                  <a:pt x="13587" y="0"/>
                  <a:pt x="23258" y="9670"/>
                  <a:pt x="23258" y="21600"/>
                </a:cubicBezTo>
              </a:path>
              <a:path stroke="0" w="23258" h="21600">
                <a:moveTo>
                  <a:pt x="-1" y="63"/>
                </a:moveTo>
                <a:cubicBezTo>
                  <a:pt x="551" y="21"/>
                  <a:pt x="1104" y="-1"/>
                  <a:pt x="1658" y="0"/>
                </a:cubicBezTo>
                <a:cubicBezTo>
                  <a:pt x="13587" y="0"/>
                  <a:pt x="23258" y="9670"/>
                  <a:pt x="23258" y="21600"/>
                </a:cubicBezTo>
                <a:lnTo>
                  <a:pt x="1658" y="21600"/>
                </a:lnTo>
                <a:lnTo>
                  <a:pt x="-1" y="6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2195640" y="98100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6038280" y="3645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1356840" y="371628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3166200" y="765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6773760" y="836640"/>
            <a:ext cx="3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5228640" y="3860640"/>
            <a:ext cx="4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21"/>
          <p:cNvGrpSpPr/>
          <p:nvPr/>
        </p:nvGrpSpPr>
        <p:grpSpPr>
          <a:xfrm>
            <a:off x="3851280" y="5157720"/>
            <a:ext cx="4097880" cy="811080"/>
            <a:chOff x="3851280" y="5157720"/>
            <a:chExt cx="4097880" cy="811080"/>
          </a:xfrm>
        </p:grpSpPr>
        <p:sp>
          <p:nvSpPr>
            <p:cNvPr id="478" name="Text Box 22"/>
            <p:cNvSpPr/>
            <p:nvPr/>
          </p:nvSpPr>
          <p:spPr>
            <a:xfrm>
              <a:off x="4139280" y="5448240"/>
              <a:ext cx="38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Доказать: </a:t>
              </a:r>
              <a:r>
                <a:rPr b="1" lang="el-GR" sz="2800" spc="-1" strike="noStrike">
                  <a:solidFill>
                    <a:srgbClr val="000000"/>
                  </a:solidFill>
                  <a:latin typeface="Calibri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АВД=</a:t>
              </a:r>
              <a:r>
                <a:rPr b="1" lang="el-GR" sz="2800" spc="-1" strike="noStrike">
                  <a:solidFill>
                    <a:srgbClr val="000000"/>
                  </a:solidFill>
                  <a:latin typeface="Calibri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ВС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3"/>
            <p:cNvSpPr/>
            <p:nvPr/>
          </p:nvSpPr>
          <p:spPr>
            <a:xfrm>
              <a:off x="3851280" y="515772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24"/>
          <p:cNvSpPr/>
          <p:nvPr/>
        </p:nvSpPr>
        <p:spPr>
          <a:xfrm>
            <a:off x="7273080" y="217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6"/>
          <p:cNvSpPr/>
          <p:nvPr/>
        </p:nvSpPr>
        <p:spPr>
          <a:xfrm>
            <a:off x="250920" y="580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10800" y="3843"/>
                </a:moveTo>
                <a:lnTo>
                  <a:pt x="13376" y="6454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30"/>
                </a:lnTo>
                <a:lnTo>
                  <a:pt x="17763" y="10806"/>
                </a:lnTo>
                <a:lnTo>
                  <a:pt x="16109" y="10806"/>
                </a:lnTo>
                <a:lnTo>
                  <a:pt x="16109" y="17995"/>
                </a:lnTo>
                <a:lnTo>
                  <a:pt x="5491" y="17995"/>
                </a:lnTo>
                <a:lnTo>
                  <a:pt x="5491" y="10806"/>
                </a:lnTo>
                <a:lnTo>
                  <a:pt x="3837" y="10806"/>
                </a:lnTo>
                <a:close/>
              </a:path>
              <a:path fill="darkenLess" w="21600" h="21612">
                <a:moveTo>
                  <a:pt x="13376" y="6454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30"/>
                </a:lnTo>
                <a:close/>
              </a:path>
              <a:path fill="darkenLess" w="21600" h="21612">
                <a:moveTo>
                  <a:pt x="9877" y="14305"/>
                </a:moveTo>
                <a:lnTo>
                  <a:pt x="11723" y="14305"/>
                </a:lnTo>
                <a:lnTo>
                  <a:pt x="11723" y="17995"/>
                </a:lnTo>
                <a:lnTo>
                  <a:pt x="16109" y="17995"/>
                </a:lnTo>
                <a:lnTo>
                  <a:pt x="16109" y="10806"/>
                </a:lnTo>
                <a:lnTo>
                  <a:pt x="5491" y="10806"/>
                </a:lnTo>
                <a:lnTo>
                  <a:pt x="5491" y="17995"/>
                </a:lnTo>
                <a:lnTo>
                  <a:pt x="9877" y="17995"/>
                </a:lnTo>
                <a:close/>
              </a:path>
            </a:pathLst>
          </a:custGeom>
          <a:noFill/>
          <a:ln w="38160">
            <a:solidFill>
              <a:srgbClr val="dd5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AutoShape 4"/>
          <p:cNvSpPr/>
          <p:nvPr/>
        </p:nvSpPr>
        <p:spPr>
          <a:xfrm>
            <a:off x="2268360" y="1844640"/>
            <a:ext cx="4392720" cy="1943280"/>
          </a:xfrm>
          <a:prstGeom prst="parallelogram">
            <a:avLst>
              <a:gd name="adj" fmla="val 56512"/>
            </a:avLst>
          </a:prstGeom>
          <a:gradFill rotWithShape="0">
            <a:gsLst>
              <a:gs pos="0">
                <a:srgbClr val="ffffff"/>
              </a:gs>
              <a:gs pos="50000">
                <a:srgbClr val="009999">
                  <a:alpha val="63137"/>
                </a:srgbClr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5"/>
          <p:cNvSpPr/>
          <p:nvPr/>
        </p:nvSpPr>
        <p:spPr>
          <a:xfrm flipV="1">
            <a:off x="2268360" y="1844640"/>
            <a:ext cx="439128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rc 6"/>
          <p:cNvSpPr/>
          <p:nvPr/>
        </p:nvSpPr>
        <p:spPr>
          <a:xfrm>
            <a:off x="2700360" y="299736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fill="none" w="20928" h="21600">
                <a:moveTo>
                  <a:pt x="0" y="7"/>
                </a:moveTo>
                <a:cubicBezTo>
                  <a:pt x="185" y="2"/>
                  <a:pt x="371" y="-1"/>
                  <a:pt x="557" y="0"/>
                </a:cubicBezTo>
                <a:cubicBezTo>
                  <a:pt x="9717" y="0"/>
                  <a:pt x="17881" y="5778"/>
                  <a:pt x="20927" y="14417"/>
                </a:cubicBezTo>
              </a:path>
              <a:path stroke="0" w="20928" h="21600">
                <a:moveTo>
                  <a:pt x="0" y="7"/>
                </a:moveTo>
                <a:cubicBezTo>
                  <a:pt x="185" y="2"/>
                  <a:pt x="371" y="-1"/>
                  <a:pt x="557" y="0"/>
                </a:cubicBezTo>
                <a:cubicBezTo>
                  <a:pt x="9717" y="0"/>
                  <a:pt x="17881" y="5778"/>
                  <a:pt x="20927" y="14417"/>
                </a:cubicBezTo>
                <a:lnTo>
                  <a:pt x="557" y="21600"/>
                </a:lnTo>
                <a:lnTo>
                  <a:pt x="0" y="7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>
            <a:off x="2843280" y="242100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rc 15"/>
          <p:cNvSpPr/>
          <p:nvPr/>
        </p:nvSpPr>
        <p:spPr>
          <a:xfrm rot="10989600">
            <a:off x="5796000" y="2060280"/>
            <a:ext cx="419040" cy="576360"/>
          </a:xfrm>
          <a:custGeom>
            <a:avLst/>
            <a:gdLst>
              <a:gd name="textAreaLeft" fmla="*/ 0 w 419040"/>
              <a:gd name="textAreaRight" fmla="*/ 419400 w 4190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0928" h="21600">
                <a:moveTo>
                  <a:pt x="0" y="7"/>
                </a:moveTo>
                <a:cubicBezTo>
                  <a:pt x="185" y="2"/>
                  <a:pt x="371" y="-1"/>
                  <a:pt x="557" y="0"/>
                </a:cubicBezTo>
                <a:cubicBezTo>
                  <a:pt x="9717" y="0"/>
                  <a:pt x="17881" y="5778"/>
                  <a:pt x="20927" y="14417"/>
                </a:cubicBezTo>
              </a:path>
              <a:path stroke="0" w="20928" h="21600">
                <a:moveTo>
                  <a:pt x="0" y="7"/>
                </a:moveTo>
                <a:cubicBezTo>
                  <a:pt x="185" y="2"/>
                  <a:pt x="371" y="-1"/>
                  <a:pt x="557" y="0"/>
                </a:cubicBezTo>
                <a:cubicBezTo>
                  <a:pt x="9717" y="0"/>
                  <a:pt x="17881" y="5778"/>
                  <a:pt x="20927" y="14417"/>
                </a:cubicBezTo>
                <a:lnTo>
                  <a:pt x="557" y="21600"/>
                </a:lnTo>
                <a:lnTo>
                  <a:pt x="0" y="7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6"/>
          <p:cNvSpPr/>
          <p:nvPr/>
        </p:nvSpPr>
        <p:spPr>
          <a:xfrm>
            <a:off x="2843280" y="2276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5796000" y="3068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5796000" y="292428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9"/>
          <p:cNvSpPr/>
          <p:nvPr/>
        </p:nvSpPr>
        <p:spPr>
          <a:xfrm>
            <a:off x="1933200" y="378936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0"/>
          <p:cNvSpPr/>
          <p:nvPr/>
        </p:nvSpPr>
        <p:spPr>
          <a:xfrm>
            <a:off x="3166200" y="1197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1"/>
          <p:cNvSpPr/>
          <p:nvPr/>
        </p:nvSpPr>
        <p:spPr>
          <a:xfrm>
            <a:off x="6773760" y="1197000"/>
            <a:ext cx="3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2"/>
          <p:cNvSpPr/>
          <p:nvPr/>
        </p:nvSpPr>
        <p:spPr>
          <a:xfrm>
            <a:off x="5364000" y="3789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23"/>
          <p:cNvGrpSpPr/>
          <p:nvPr/>
        </p:nvGrpSpPr>
        <p:grpSpPr>
          <a:xfrm>
            <a:off x="3851280" y="4869000"/>
            <a:ext cx="4537080" cy="797040"/>
            <a:chOff x="3851280" y="4869000"/>
            <a:chExt cx="4537080" cy="797040"/>
          </a:xfrm>
        </p:grpSpPr>
        <p:sp>
          <p:nvSpPr>
            <p:cNvPr id="495" name="Line 24"/>
            <p:cNvSpPr/>
            <p:nvPr/>
          </p:nvSpPr>
          <p:spPr>
            <a:xfrm>
              <a:off x="3851280" y="4869000"/>
              <a:ext cx="45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Group 25"/>
            <p:cNvGrpSpPr/>
            <p:nvPr/>
          </p:nvGrpSpPr>
          <p:grpSpPr>
            <a:xfrm>
              <a:off x="4123080" y="5013360"/>
              <a:ext cx="4261320" cy="652680"/>
              <a:chOff x="4123080" y="5013360"/>
              <a:chExt cx="4261320" cy="652680"/>
            </a:xfrm>
          </p:grpSpPr>
          <p:sp>
            <p:nvSpPr>
              <p:cNvPr id="497" name="Text Box 26"/>
              <p:cNvSpPr/>
              <p:nvPr/>
            </p:nvSpPr>
            <p:spPr>
              <a:xfrm>
                <a:off x="4123080" y="5095800"/>
                <a:ext cx="179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Calibri"/>
                  </a:rPr>
                  <a:t>Доказать: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8" name="Object 2"/>
                  <p:cNvSpPr txBox="1"/>
                  <p:nvPr/>
                </p:nvSpPr>
                <p:spPr>
                  <a:xfrm>
                    <a:off x="6180120" y="501336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9" name="Rectangle 28"/>
              <p:cNvSpPr/>
              <p:nvPr/>
            </p:nvSpPr>
            <p:spPr>
              <a:xfrm>
                <a:off x="6683400" y="508464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alibri"/>
                  </a:rPr>
                  <a:t>Д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0" name="Group 29"/>
              <p:cNvGrpSpPr/>
              <p:nvPr/>
            </p:nvGrpSpPr>
            <p:grpSpPr>
              <a:xfrm>
                <a:off x="7404120" y="5013360"/>
                <a:ext cx="980280" cy="652680"/>
                <a:chOff x="7404120" y="5013360"/>
                <a:chExt cx="980280" cy="652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01" name="Object 3"/>
                    <p:cNvSpPr txBox="1"/>
                    <p:nvPr/>
                  </p:nvSpPr>
                  <p:spPr>
                    <a:xfrm>
                      <a:off x="7404120" y="5013360"/>
                      <a:ext cx="647280" cy="598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∠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02" name="Rectangle 31"/>
                <p:cNvSpPr/>
                <p:nvPr/>
              </p:nvSpPr>
              <p:spPr>
                <a:xfrm>
                  <a:off x="7907040" y="5084640"/>
                  <a:ext cx="477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00"/>
                      </a:solidFill>
                      <a:latin typeface="Calibri"/>
                    </a:rPr>
                    <a:t>В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3" name="AutoShape 32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3"/>
          <p:cNvSpPr/>
          <p:nvPr/>
        </p:nvSpPr>
        <p:spPr>
          <a:xfrm>
            <a:off x="7273080" y="217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1"/>
          <p:cNvSpPr/>
          <p:nvPr/>
        </p:nvSpPr>
        <p:spPr>
          <a:xfrm>
            <a:off x="2050920" y="4005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 rot="5400000">
            <a:off x="3023640" y="295200"/>
            <a:ext cx="3456000" cy="4392360"/>
          </a:xfrm>
          <a:prstGeom prst="triangle">
            <a:avLst>
              <a:gd name="adj" fmla="val 47403"/>
            </a:avLst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cc0099">
                  <a:alpha val="6235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 flipH="1">
            <a:off x="2555640" y="2421000"/>
            <a:ext cx="439236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rc 6"/>
          <p:cNvSpPr/>
          <p:nvPr/>
        </p:nvSpPr>
        <p:spPr>
          <a:xfrm flipH="1" flipV="1" rot="3641400">
            <a:off x="5073480" y="2571840"/>
            <a:ext cx="517320" cy="360000"/>
          </a:xfrm>
          <a:custGeom>
            <a:avLst/>
            <a:gdLst>
              <a:gd name="textAreaLeft" fmla="*/ -360 w 517320"/>
              <a:gd name="textAreaRight" fmla="*/ 517320 w 517320"/>
              <a:gd name="textAreaTop" fmla="*/ 360 h 360000"/>
              <a:gd name="textAreaBottom" fmla="*/ 360720 h 360000"/>
            </a:gdLst>
            <a:ahLst/>
            <a:rect l="textAreaLeft" t="textAreaTop" r="textAreaRight" b="textAreaBottom"/>
            <a:pathLst>
              <a:path fill="none" w="22165" h="21600">
                <a:moveTo>
                  <a:pt x="0" y="7"/>
                </a:moveTo>
                <a:cubicBezTo>
                  <a:pt x="188" y="2"/>
                  <a:pt x="376" y="-1"/>
                  <a:pt x="565" y="0"/>
                </a:cubicBezTo>
                <a:cubicBezTo>
                  <a:pt x="12494" y="0"/>
                  <a:pt x="22165" y="9670"/>
                  <a:pt x="22165" y="21600"/>
                </a:cubicBezTo>
              </a:path>
              <a:path stroke="0" w="22165" h="21600">
                <a:moveTo>
                  <a:pt x="0" y="7"/>
                </a:moveTo>
                <a:cubicBezTo>
                  <a:pt x="188" y="2"/>
                  <a:pt x="376" y="-1"/>
                  <a:pt x="565" y="0"/>
                </a:cubicBezTo>
                <a:cubicBezTo>
                  <a:pt x="12494" y="0"/>
                  <a:pt x="22165" y="9670"/>
                  <a:pt x="22165" y="21600"/>
                </a:cubicBezTo>
                <a:lnTo>
                  <a:pt x="565" y="21600"/>
                </a:lnTo>
                <a:lnTo>
                  <a:pt x="0" y="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rc 7"/>
          <p:cNvSpPr/>
          <p:nvPr/>
        </p:nvSpPr>
        <p:spPr>
          <a:xfrm flipH="1" flipV="1" rot="3641400">
            <a:off x="5060520" y="1947600"/>
            <a:ext cx="569880" cy="360360"/>
          </a:xfrm>
          <a:custGeom>
            <a:avLst/>
            <a:gdLst>
              <a:gd name="textAreaLeft" fmla="*/ -360 w 569880"/>
              <a:gd name="textAreaRight" fmla="*/ 569880 w 56988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24380" h="21600">
                <a:moveTo>
                  <a:pt x="-1" y="179"/>
                </a:moveTo>
                <a:cubicBezTo>
                  <a:pt x="921" y="60"/>
                  <a:pt x="1850" y="-1"/>
                  <a:pt x="2780" y="0"/>
                </a:cubicBezTo>
                <a:cubicBezTo>
                  <a:pt x="14709" y="0"/>
                  <a:pt x="24380" y="9670"/>
                  <a:pt x="24380" y="21600"/>
                </a:cubicBezTo>
              </a:path>
              <a:path stroke="0" w="24380" h="21600">
                <a:moveTo>
                  <a:pt x="-1" y="179"/>
                </a:moveTo>
                <a:cubicBezTo>
                  <a:pt x="921" y="60"/>
                  <a:pt x="1850" y="-1"/>
                  <a:pt x="2780" y="0"/>
                </a:cubicBezTo>
                <a:cubicBezTo>
                  <a:pt x="14709" y="0"/>
                  <a:pt x="24380" y="9670"/>
                  <a:pt x="24380" y="21600"/>
                </a:cubicBezTo>
                <a:lnTo>
                  <a:pt x="2780" y="21600"/>
                </a:lnTo>
                <a:lnTo>
                  <a:pt x="-1" y="17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8"/>
          <p:cNvSpPr/>
          <p:nvPr/>
        </p:nvSpPr>
        <p:spPr>
          <a:xfrm flipH="1">
            <a:off x="4141440" y="1268280"/>
            <a:ext cx="28908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9"/>
          <p:cNvSpPr/>
          <p:nvPr/>
        </p:nvSpPr>
        <p:spPr>
          <a:xfrm>
            <a:off x="4213080" y="3355920"/>
            <a:ext cx="28764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7020000" y="2060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2050920" y="21319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2050920" y="2602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9"/>
          <p:cNvSpPr/>
          <p:nvPr/>
        </p:nvSpPr>
        <p:spPr>
          <a:xfrm>
            <a:off x="3780000" y="5229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казать: АВ=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0"/>
          <p:cNvSpPr/>
          <p:nvPr/>
        </p:nvSpPr>
        <p:spPr>
          <a:xfrm>
            <a:off x="3851280" y="501336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21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"/>
          <p:cNvSpPr/>
          <p:nvPr/>
        </p:nvSpPr>
        <p:spPr>
          <a:xfrm>
            <a:off x="7273080" y="217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684360" y="1628640"/>
            <a:ext cx="5211720" cy="20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реугольни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1116000" y="4365720"/>
            <a:ext cx="4103640" cy="1008000"/>
          </a:xfrm>
          <a:prstGeom prst="flowChartExtra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reeform 7"/>
          <p:cNvSpPr/>
          <p:nvPr/>
        </p:nvSpPr>
        <p:spPr>
          <a:xfrm flipH="1">
            <a:off x="4427640" y="981000"/>
            <a:ext cx="2952720" cy="331164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3311640"/>
              <a:gd name="textAreaBottom" fmla="*/ 3312000 h 3311640"/>
            </a:gdLst>
            <a:ahLst/>
            <a:rect l="textAreaLeft" t="textAreaTop" r="textAreaRight" b="textAreaBottom"/>
            <a:pathLst>
              <a:path w="1860" h="2087">
                <a:moveTo>
                  <a:pt x="409" y="2087"/>
                </a:moveTo>
                <a:lnTo>
                  <a:pt x="1860" y="2087"/>
                </a:lnTo>
                <a:lnTo>
                  <a:pt x="0" y="0"/>
                </a:lnTo>
                <a:lnTo>
                  <a:pt x="409" y="2087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8"/>
          <p:cNvSpPr/>
          <p:nvPr/>
        </p:nvSpPr>
        <p:spPr>
          <a:xfrm flipV="1">
            <a:off x="4356000" y="4292640"/>
            <a:ext cx="324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9"/>
          <p:cNvSpPr/>
          <p:nvPr/>
        </p:nvSpPr>
        <p:spPr>
          <a:xfrm>
            <a:off x="1476360" y="981000"/>
            <a:ext cx="2952720" cy="331164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3311640"/>
              <a:gd name="textAreaBottom" fmla="*/ 3312000 h 3311640"/>
            </a:gdLst>
            <a:ahLst/>
            <a:rect l="textAreaLeft" t="textAreaTop" r="textAreaRight" b="textAreaBottom"/>
            <a:pathLst>
              <a:path w="1860" h="2087">
                <a:moveTo>
                  <a:pt x="409" y="2087"/>
                </a:moveTo>
                <a:lnTo>
                  <a:pt x="1860" y="2087"/>
                </a:lnTo>
                <a:lnTo>
                  <a:pt x="0" y="0"/>
                </a:lnTo>
                <a:lnTo>
                  <a:pt x="409" y="208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0"/>
          <p:cNvSpPr/>
          <p:nvPr/>
        </p:nvSpPr>
        <p:spPr>
          <a:xfrm flipH="1" flipV="1">
            <a:off x="1186920" y="4292640"/>
            <a:ext cx="3241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rc 15"/>
          <p:cNvSpPr/>
          <p:nvPr/>
        </p:nvSpPr>
        <p:spPr>
          <a:xfrm flipH="1">
            <a:off x="1402560" y="3573360"/>
            <a:ext cx="576360" cy="719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rc 16"/>
          <p:cNvSpPr/>
          <p:nvPr/>
        </p:nvSpPr>
        <p:spPr>
          <a:xfrm>
            <a:off x="6877080" y="3500280"/>
            <a:ext cx="574560" cy="792360"/>
          </a:xfrm>
          <a:custGeom>
            <a:avLst/>
            <a:gdLst>
              <a:gd name="textAreaLeft" fmla="*/ 0 w 574560"/>
              <a:gd name="textAreaRight" fmla="*/ 574920 w 5745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157428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8"/>
          <p:cNvSpPr/>
          <p:nvPr/>
        </p:nvSpPr>
        <p:spPr>
          <a:xfrm>
            <a:off x="6830640" y="37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9"/>
          <p:cNvSpPr/>
          <p:nvPr/>
        </p:nvSpPr>
        <p:spPr>
          <a:xfrm>
            <a:off x="1042920" y="4762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0"/>
          <p:cNvSpPr/>
          <p:nvPr/>
        </p:nvSpPr>
        <p:spPr>
          <a:xfrm>
            <a:off x="6588000" y="4292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7451640" y="549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2"/>
          <p:cNvSpPr/>
          <p:nvPr/>
        </p:nvSpPr>
        <p:spPr>
          <a:xfrm>
            <a:off x="4211640" y="436572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3"/>
          <p:cNvSpPr/>
          <p:nvPr/>
        </p:nvSpPr>
        <p:spPr>
          <a:xfrm>
            <a:off x="1908000" y="4365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4"/>
          <p:cNvSpPr/>
          <p:nvPr/>
        </p:nvSpPr>
        <p:spPr>
          <a:xfrm>
            <a:off x="1547640" y="278136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5"/>
          <p:cNvSpPr/>
          <p:nvPr/>
        </p:nvSpPr>
        <p:spPr>
          <a:xfrm>
            <a:off x="6804000" y="2708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6"/>
          <p:cNvSpPr/>
          <p:nvPr/>
        </p:nvSpPr>
        <p:spPr>
          <a:xfrm>
            <a:off x="6804000" y="285264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7"/>
          <p:cNvSpPr/>
          <p:nvPr/>
        </p:nvSpPr>
        <p:spPr>
          <a:xfrm>
            <a:off x="1547640" y="2924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8"/>
          <p:cNvSpPr/>
          <p:nvPr/>
        </p:nvSpPr>
        <p:spPr>
          <a:xfrm>
            <a:off x="327672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9"/>
          <p:cNvSpPr/>
          <p:nvPr/>
        </p:nvSpPr>
        <p:spPr>
          <a:xfrm>
            <a:off x="565164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3"/>
          <p:cNvGrpSpPr/>
          <p:nvPr/>
        </p:nvGrpSpPr>
        <p:grpSpPr>
          <a:xfrm>
            <a:off x="4932360" y="5229360"/>
            <a:ext cx="3887640" cy="811080"/>
            <a:chOff x="4932360" y="5229360"/>
            <a:chExt cx="3887640" cy="811080"/>
          </a:xfrm>
        </p:grpSpPr>
        <p:sp>
          <p:nvSpPr>
            <p:cNvPr id="539" name="Text Box 31"/>
            <p:cNvSpPr/>
            <p:nvPr/>
          </p:nvSpPr>
          <p:spPr>
            <a:xfrm>
              <a:off x="5411520" y="5519880"/>
              <a:ext cx="284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Доказать: АО=С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2"/>
            <p:cNvSpPr/>
            <p:nvPr/>
          </p:nvSpPr>
          <p:spPr>
            <a:xfrm>
              <a:off x="4932360" y="522936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AutoShape 34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5"/>
          <p:cNvSpPr/>
          <p:nvPr/>
        </p:nvSpPr>
        <p:spPr>
          <a:xfrm>
            <a:off x="7273080" y="217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1"/>
          <p:cNvGrpSpPr/>
          <p:nvPr/>
        </p:nvGrpSpPr>
        <p:grpSpPr>
          <a:xfrm>
            <a:off x="1690560" y="549360"/>
            <a:ext cx="5734080" cy="4108680"/>
            <a:chOff x="1690560" y="549360"/>
            <a:chExt cx="5734080" cy="4108680"/>
          </a:xfrm>
        </p:grpSpPr>
        <p:sp>
          <p:nvSpPr>
            <p:cNvPr id="544" name="Freeform 4"/>
            <p:cNvSpPr/>
            <p:nvPr/>
          </p:nvSpPr>
          <p:spPr>
            <a:xfrm rot="5400000">
              <a:off x="3383280" y="8640"/>
              <a:ext cx="1440000" cy="3816360"/>
            </a:xfrm>
            <a:custGeom>
              <a:avLst/>
              <a:gdLst>
                <a:gd name="textAreaLeft" fmla="*/ 0 w 1440000"/>
                <a:gd name="textAreaRight" fmla="*/ 1440360 w 1440000"/>
                <a:gd name="textAreaTop" fmla="*/ 0 h 3816360"/>
                <a:gd name="textAreaBottom" fmla="*/ 3816720 h 3816360"/>
              </a:gdLst>
              <a:ahLst/>
              <a:rect l="textAreaLeft" t="textAreaTop" r="textAreaRight" b="textAreaBottom"/>
              <a:pathLst>
                <a:path w="907" h="2404">
                  <a:moveTo>
                    <a:pt x="907" y="2404"/>
                  </a:moveTo>
                  <a:lnTo>
                    <a:pt x="0" y="907"/>
                  </a:lnTo>
                  <a:lnTo>
                    <a:pt x="907" y="0"/>
                  </a:lnTo>
                  <a:lnTo>
                    <a:pt x="907" y="240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40096">
                    <a:alpha val="79215"/>
                  </a:srgbClr>
                </a:gs>
              </a:gsLst>
              <a:lin ang="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7"/>
            <p:cNvSpPr/>
            <p:nvPr/>
          </p:nvSpPr>
          <p:spPr>
            <a:xfrm flipV="1" rot="16200000">
              <a:off x="3383640" y="1447920"/>
              <a:ext cx="1439640" cy="381636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-360 h 3816360"/>
                <a:gd name="textAreaBottom" fmla="*/ 3816360 h 3816360"/>
              </a:gdLst>
              <a:ahLst/>
              <a:rect l="textAreaLeft" t="textAreaTop" r="textAreaRight" b="textAreaBottom"/>
              <a:pathLst>
                <a:path w="907" h="2404">
                  <a:moveTo>
                    <a:pt x="907" y="2404"/>
                  </a:moveTo>
                  <a:lnTo>
                    <a:pt x="0" y="907"/>
                  </a:lnTo>
                  <a:lnTo>
                    <a:pt x="907" y="0"/>
                  </a:lnTo>
                  <a:lnTo>
                    <a:pt x="907" y="240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8"/>
            <p:cNvSpPr/>
            <p:nvPr/>
          </p:nvSpPr>
          <p:spPr>
            <a:xfrm>
              <a:off x="2195640" y="2637000"/>
              <a:ext cx="48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9"/>
            <p:cNvSpPr/>
            <p:nvPr/>
          </p:nvSpPr>
          <p:spPr>
            <a:xfrm>
              <a:off x="5506920" y="2133720"/>
              <a:ext cx="865440" cy="50328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10"/>
            <p:cNvSpPr/>
            <p:nvPr/>
          </p:nvSpPr>
          <p:spPr>
            <a:xfrm flipV="1">
              <a:off x="5506920" y="2636280"/>
              <a:ext cx="865440" cy="50292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-360 h 502920"/>
                <a:gd name="textAreaBottom" fmla="*/ 502920 h 502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1"/>
            <p:cNvSpPr/>
            <p:nvPr/>
          </p:nvSpPr>
          <p:spPr>
            <a:xfrm>
              <a:off x="6254280" y="1773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2"/>
            <p:cNvSpPr/>
            <p:nvPr/>
          </p:nvSpPr>
          <p:spPr>
            <a:xfrm>
              <a:off x="6254280" y="2925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5"/>
            <p:cNvSpPr/>
            <p:nvPr/>
          </p:nvSpPr>
          <p:spPr>
            <a:xfrm>
              <a:off x="1690560" y="220500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6"/>
            <p:cNvSpPr/>
            <p:nvPr/>
          </p:nvSpPr>
          <p:spPr>
            <a:xfrm>
              <a:off x="4282920" y="549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7"/>
            <p:cNvSpPr/>
            <p:nvPr/>
          </p:nvSpPr>
          <p:spPr>
            <a:xfrm>
              <a:off x="4282920" y="407664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8"/>
            <p:cNvSpPr/>
            <p:nvPr/>
          </p:nvSpPr>
          <p:spPr>
            <a:xfrm>
              <a:off x="6946920" y="198900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9"/>
            <p:cNvSpPr/>
            <p:nvPr/>
          </p:nvSpPr>
          <p:spPr>
            <a:xfrm>
              <a:off x="4859280" y="3500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20"/>
            <p:cNvSpPr/>
            <p:nvPr/>
          </p:nvSpPr>
          <p:spPr>
            <a:xfrm flipH="1">
              <a:off x="5003280" y="1700280"/>
              <a:ext cx="360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24"/>
          <p:cNvGrpSpPr/>
          <p:nvPr/>
        </p:nvGrpSpPr>
        <p:grpSpPr>
          <a:xfrm>
            <a:off x="4788000" y="4869000"/>
            <a:ext cx="4211640" cy="736200"/>
            <a:chOff x="4788000" y="4869000"/>
            <a:chExt cx="4211640" cy="736200"/>
          </a:xfrm>
        </p:grpSpPr>
        <p:sp>
          <p:nvSpPr>
            <p:cNvPr id="558" name="Rectangle 22"/>
            <p:cNvSpPr/>
            <p:nvPr/>
          </p:nvSpPr>
          <p:spPr>
            <a:xfrm>
              <a:off x="4788000" y="5084640"/>
              <a:ext cx="42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Доказать: АВ=В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23"/>
            <p:cNvSpPr/>
            <p:nvPr/>
          </p:nvSpPr>
          <p:spPr>
            <a:xfrm>
              <a:off x="4788000" y="4869000"/>
              <a:ext cx="331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AutoShape 25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6"/>
          <p:cNvSpPr/>
          <p:nvPr/>
        </p:nvSpPr>
        <p:spPr>
          <a:xfrm>
            <a:off x="7273080" y="217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2319480" y="502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1403280" y="476280"/>
            <a:ext cx="5708880" cy="4037400"/>
            <a:chOff x="1403280" y="476280"/>
            <a:chExt cx="5708880" cy="4037400"/>
          </a:xfrm>
        </p:grpSpPr>
        <p:grpSp>
          <p:nvGrpSpPr>
            <p:cNvPr id="564" name="Group 4"/>
            <p:cNvGrpSpPr/>
            <p:nvPr/>
          </p:nvGrpSpPr>
          <p:grpSpPr>
            <a:xfrm>
              <a:off x="1978200" y="836640"/>
              <a:ext cx="4680000" cy="3240000"/>
              <a:chOff x="1978200" y="836640"/>
              <a:chExt cx="4680000" cy="3240000"/>
            </a:xfrm>
          </p:grpSpPr>
          <p:sp>
            <p:nvSpPr>
              <p:cNvPr id="565" name="Freeform 5"/>
              <p:cNvSpPr/>
              <p:nvPr/>
            </p:nvSpPr>
            <p:spPr>
              <a:xfrm rot="10800000">
                <a:off x="1978200" y="909360"/>
                <a:ext cx="3883680" cy="3167280"/>
              </a:xfrm>
              <a:custGeom>
                <a:avLst/>
                <a:gdLst/>
                <a:ahLst/>
                <a:rect l="l" t="t" r="r" b="b"/>
                <a:pathLst>
                  <a:path w="2178" h="1678">
                    <a:moveTo>
                      <a:pt x="0" y="0"/>
                    </a:moveTo>
                    <a:lnTo>
                      <a:pt x="1769" y="0"/>
                    </a:lnTo>
                    <a:lnTo>
                      <a:pt x="2178" y="167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6"/>
              <p:cNvSpPr/>
              <p:nvPr/>
            </p:nvSpPr>
            <p:spPr>
              <a:xfrm flipH="1" rot="10800000">
                <a:off x="2701080" y="836640"/>
                <a:ext cx="3956760" cy="3240000"/>
              </a:xfrm>
              <a:custGeom>
                <a:avLst/>
                <a:gdLst>
                  <a:gd name="textAreaLeft" fmla="*/ -360 w 3956760"/>
                  <a:gd name="textAreaRight" fmla="*/ 3956760 w 3956760"/>
                  <a:gd name="textAreaTop" fmla="*/ 0 h 3240000"/>
                  <a:gd name="textAreaBottom" fmla="*/ 3240360 h 3240000"/>
                </a:gdLst>
                <a:ahLst/>
                <a:rect l="textAreaLeft" t="textAreaTop" r="textAreaRight" b="textAreaBottom"/>
                <a:pathLst>
                  <a:path w="2178" h="1678">
                    <a:moveTo>
                      <a:pt x="0" y="0"/>
                    </a:moveTo>
                    <a:lnTo>
                      <a:pt x="1769" y="0"/>
                    </a:lnTo>
                    <a:lnTo>
                      <a:pt x="2178" y="167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Text Box 7"/>
            <p:cNvSpPr/>
            <p:nvPr/>
          </p:nvSpPr>
          <p:spPr>
            <a:xfrm>
              <a:off x="2059920" y="3932280"/>
              <a:ext cx="45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8"/>
            <p:cNvSpPr/>
            <p:nvPr/>
          </p:nvSpPr>
          <p:spPr>
            <a:xfrm>
              <a:off x="6684480" y="476280"/>
              <a:ext cx="42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9"/>
            <p:cNvSpPr/>
            <p:nvPr/>
          </p:nvSpPr>
          <p:spPr>
            <a:xfrm>
              <a:off x="1403280" y="47628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10"/>
            <p:cNvSpPr/>
            <p:nvPr/>
          </p:nvSpPr>
          <p:spPr>
            <a:xfrm>
              <a:off x="6052680" y="3932280"/>
              <a:ext cx="3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>
              <a:off x="2050920" y="249228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>
              <a:off x="5938920" y="2492280"/>
              <a:ext cx="57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AutoShape 23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rc 24"/>
          <p:cNvSpPr/>
          <p:nvPr/>
        </p:nvSpPr>
        <p:spPr>
          <a:xfrm>
            <a:off x="2484360" y="3357720"/>
            <a:ext cx="1008000" cy="718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fill="none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</a:path>
              <a:path stroke="0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  <a:lnTo>
                  <a:pt x="0" y="21578"/>
                </a:lnTo>
                <a:lnTo>
                  <a:pt x="984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rc 25"/>
          <p:cNvSpPr/>
          <p:nvPr/>
        </p:nvSpPr>
        <p:spPr>
          <a:xfrm flipH="1">
            <a:off x="5076720" y="3357720"/>
            <a:ext cx="1008000" cy="718920"/>
          </a:xfrm>
          <a:custGeom>
            <a:avLst/>
            <a:gdLst>
              <a:gd name="textAreaLeft" fmla="*/ 360 w 1008000"/>
              <a:gd name="textAreaRight" fmla="*/ 1008720 w 1008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fill="none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</a:path>
              <a:path stroke="0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  <a:lnTo>
                  <a:pt x="0" y="21578"/>
                </a:lnTo>
                <a:lnTo>
                  <a:pt x="984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7"/>
          <p:cNvSpPr/>
          <p:nvPr/>
        </p:nvSpPr>
        <p:spPr>
          <a:xfrm>
            <a:off x="4001040" y="5303880"/>
            <a:ext cx="37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казать: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ДВС=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Д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8"/>
          <p:cNvSpPr/>
          <p:nvPr/>
        </p:nvSpPr>
        <p:spPr>
          <a:xfrm>
            <a:off x="3706920" y="50133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9"/>
          <p:cNvSpPr/>
          <p:nvPr/>
        </p:nvSpPr>
        <p:spPr>
          <a:xfrm>
            <a:off x="7273080" y="217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9"/>
          <p:cNvGrpSpPr/>
          <p:nvPr/>
        </p:nvGrpSpPr>
        <p:grpSpPr>
          <a:xfrm>
            <a:off x="2916360" y="1268280"/>
            <a:ext cx="3310920" cy="3240000"/>
            <a:chOff x="2916360" y="1268280"/>
            <a:chExt cx="3310920" cy="3240000"/>
          </a:xfrm>
        </p:grpSpPr>
        <p:sp>
          <p:nvSpPr>
            <p:cNvPr id="580" name="Oval 4"/>
            <p:cNvSpPr/>
            <p:nvPr/>
          </p:nvSpPr>
          <p:spPr>
            <a:xfrm>
              <a:off x="2916360" y="1268280"/>
              <a:ext cx="3310920" cy="32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55d3">
                    <a:alpha val="4509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5"/>
            <p:cNvSpPr/>
            <p:nvPr/>
          </p:nvSpPr>
          <p:spPr>
            <a:xfrm>
              <a:off x="2916360" y="2888280"/>
              <a:ext cx="3310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"/>
            <p:cNvSpPr/>
            <p:nvPr/>
          </p:nvSpPr>
          <p:spPr>
            <a:xfrm>
              <a:off x="2916360" y="1350360"/>
              <a:ext cx="3310920" cy="3077280"/>
            </a:xfrm>
            <a:custGeom>
              <a:avLst/>
              <a:gdLst>
                <a:gd name="textAreaLeft" fmla="*/ 0 w 3310920"/>
                <a:gd name="textAreaRight" fmla="*/ 3311280 w 3310920"/>
                <a:gd name="textAreaTop" fmla="*/ 0 h 3077280"/>
                <a:gd name="textAreaBottom" fmla="*/ 3077640 h 3077280"/>
              </a:gdLst>
              <a:ahLst/>
              <a:rect l="textAreaLeft" t="textAreaTop" r="textAreaRight" b="textAreaBottom"/>
              <a:pathLst>
                <a:path w="1814" h="1722">
                  <a:moveTo>
                    <a:pt x="0" y="861"/>
                  </a:moveTo>
                  <a:lnTo>
                    <a:pt x="1814" y="861"/>
                  </a:lnTo>
                  <a:lnTo>
                    <a:pt x="589" y="0"/>
                  </a:lnTo>
                  <a:lnTo>
                    <a:pt x="1171" y="1722"/>
                  </a:lnTo>
                  <a:lnTo>
                    <a:pt x="0" y="861"/>
                  </a:lnTo>
                  <a:close/>
                </a:path>
              </a:pathLst>
            </a:custGeom>
            <a:solidFill>
              <a:srgbClr val="ffff66">
                <a:alpha val="17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8"/>
          <p:cNvSpPr/>
          <p:nvPr/>
        </p:nvSpPr>
        <p:spPr>
          <a:xfrm>
            <a:off x="2195640" y="24210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3419640" y="69228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6227640" y="24922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5148360" y="4292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3"/>
          <p:cNvSpPr/>
          <p:nvPr/>
        </p:nvSpPr>
        <p:spPr>
          <a:xfrm>
            <a:off x="4284720" y="22050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8"/>
          <p:cNvGrpSpPr/>
          <p:nvPr/>
        </p:nvGrpSpPr>
        <p:grpSpPr>
          <a:xfrm>
            <a:off x="3924360" y="5373720"/>
            <a:ext cx="4537080" cy="797040"/>
            <a:chOff x="3924360" y="5373720"/>
            <a:chExt cx="4537080" cy="797040"/>
          </a:xfrm>
        </p:grpSpPr>
        <p:sp>
          <p:nvSpPr>
            <p:cNvPr id="589" name="Line 19"/>
            <p:cNvSpPr/>
            <p:nvPr/>
          </p:nvSpPr>
          <p:spPr>
            <a:xfrm>
              <a:off x="3924360" y="5373720"/>
              <a:ext cx="45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Group 20"/>
            <p:cNvGrpSpPr/>
            <p:nvPr/>
          </p:nvGrpSpPr>
          <p:grpSpPr>
            <a:xfrm>
              <a:off x="4196160" y="5518080"/>
              <a:ext cx="4261320" cy="652680"/>
              <a:chOff x="4196160" y="5518080"/>
              <a:chExt cx="4261320" cy="652680"/>
            </a:xfrm>
          </p:grpSpPr>
          <p:sp>
            <p:nvSpPr>
              <p:cNvPr id="591" name="Text Box 21"/>
              <p:cNvSpPr/>
              <p:nvPr/>
            </p:nvSpPr>
            <p:spPr>
              <a:xfrm>
                <a:off x="4196160" y="5600520"/>
                <a:ext cx="179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Calibri"/>
                  </a:rPr>
                  <a:t>Доказать: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2" name="Object 2"/>
                  <p:cNvSpPr txBox="1"/>
                  <p:nvPr/>
                </p:nvSpPr>
                <p:spPr>
                  <a:xfrm>
                    <a:off x="6253200" y="551808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3" name="Rectangle 23"/>
              <p:cNvSpPr/>
              <p:nvPr/>
            </p:nvSpPr>
            <p:spPr>
              <a:xfrm>
                <a:off x="6756480" y="558936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alibri"/>
                  </a:rPr>
                  <a:t>А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" name="Group 24"/>
              <p:cNvGrpSpPr/>
              <p:nvPr/>
            </p:nvGrpSpPr>
            <p:grpSpPr>
              <a:xfrm>
                <a:off x="7477200" y="5518080"/>
                <a:ext cx="980280" cy="652680"/>
                <a:chOff x="7477200" y="5518080"/>
                <a:chExt cx="980280" cy="652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95" name="Object 3"/>
                    <p:cNvSpPr txBox="1"/>
                    <p:nvPr/>
                  </p:nvSpPr>
                  <p:spPr>
                    <a:xfrm>
                      <a:off x="7477200" y="5518080"/>
                      <a:ext cx="647280" cy="598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∠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96" name="Rectangle 26"/>
                <p:cNvSpPr/>
                <p:nvPr/>
              </p:nvSpPr>
              <p:spPr>
                <a:xfrm>
                  <a:off x="7980120" y="5589360"/>
                  <a:ext cx="477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00"/>
                      </a:solidFill>
                      <a:latin typeface="Calibri"/>
                    </a:rPr>
                    <a:t>В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7" name="Text Box 27"/>
          <p:cNvSpPr/>
          <p:nvPr/>
        </p:nvSpPr>
        <p:spPr>
          <a:xfrm>
            <a:off x="7273080" y="217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28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dd5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8"/>
          <p:cNvSpPr/>
          <p:nvPr/>
        </p:nvSpPr>
        <p:spPr>
          <a:xfrm>
            <a:off x="4222800" y="32846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6093720" y="620640"/>
            <a:ext cx="4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0"/>
          <p:cNvSpPr/>
          <p:nvPr/>
        </p:nvSpPr>
        <p:spPr>
          <a:xfrm>
            <a:off x="4252680" y="1413000"/>
            <a:ext cx="3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1"/>
          <p:cNvSpPr/>
          <p:nvPr/>
        </p:nvSpPr>
        <p:spPr>
          <a:xfrm>
            <a:off x="6622200" y="35733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1187280" y="2349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20"/>
          <p:cNvSpPr/>
          <p:nvPr/>
        </p:nvSpPr>
        <p:spPr>
          <a:xfrm rot="10584600">
            <a:off x="1785600" y="1886040"/>
            <a:ext cx="4686120" cy="2122560"/>
          </a:xfrm>
          <a:custGeom>
            <a:avLst/>
            <a:gdLst>
              <a:gd name="textAreaLeft" fmla="*/ 0 w 4686120"/>
              <a:gd name="textAreaRight" fmla="*/ 4686120 w 468612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2952" h="1337">
                <a:moveTo>
                  <a:pt x="0" y="0"/>
                </a:moveTo>
                <a:lnTo>
                  <a:pt x="1133" y="1337"/>
                </a:lnTo>
                <a:lnTo>
                  <a:pt x="2952" y="90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21"/>
          <p:cNvSpPr/>
          <p:nvPr/>
        </p:nvSpPr>
        <p:spPr>
          <a:xfrm rot="10584600">
            <a:off x="1743840" y="1410840"/>
            <a:ext cx="4824360" cy="2017800"/>
          </a:xfrm>
          <a:custGeom>
            <a:avLst/>
            <a:gdLst>
              <a:gd name="textAreaLeft" fmla="*/ 0 w 4824360"/>
              <a:gd name="textAreaRight" fmla="*/ 4824720 w 4824360"/>
              <a:gd name="textAreaTop" fmla="*/ 0 h 2017800"/>
              <a:gd name="textAreaBottom" fmla="*/ 2018160 h 2017800"/>
            </a:gdLst>
            <a:ahLst/>
            <a:rect l="textAreaLeft" t="textAreaTop" r="textAreaRight" b="textAreaBottom"/>
            <a:pathLst>
              <a:path w="3039" h="1271">
                <a:moveTo>
                  <a:pt x="0" y="1271"/>
                </a:moveTo>
                <a:lnTo>
                  <a:pt x="1229" y="0"/>
                </a:lnTo>
                <a:lnTo>
                  <a:pt x="3039" y="545"/>
                </a:lnTo>
                <a:lnTo>
                  <a:pt x="0" y="1271"/>
                </a:lnTo>
                <a:close/>
              </a:path>
            </a:pathLst>
          </a:custGeom>
          <a:blipFill rotWithShape="0">
            <a:blip r:embed="rId2">
              <a:alphaModFix amt="76000"/>
            </a:blip>
            <a:srcRect/>
            <a:stretch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rc 22"/>
          <p:cNvSpPr/>
          <p:nvPr/>
        </p:nvSpPr>
        <p:spPr>
          <a:xfrm flipV="1" rot="10585200">
            <a:off x="1716840" y="1412280"/>
            <a:ext cx="4824360" cy="1150920"/>
          </a:xfrm>
          <a:custGeom>
            <a:avLst/>
            <a:gdLst>
              <a:gd name="textAreaLeft" fmla="*/ 0 w 4824360"/>
              <a:gd name="textAreaRight" fmla="*/ 4824720 w 4824360"/>
              <a:gd name="textAreaTop" fmla="*/ -360 h 1150920"/>
              <a:gd name="textAreaBottom" fmla="*/ 1150920 h 115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rc 23"/>
          <p:cNvSpPr/>
          <p:nvPr/>
        </p:nvSpPr>
        <p:spPr>
          <a:xfrm rot="10584600">
            <a:off x="1802880" y="2638080"/>
            <a:ext cx="4680000" cy="137016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1370160"/>
              <a:gd name="textAreaBottom" fmla="*/ 1370520 h 1370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4"/>
          <p:cNvSpPr/>
          <p:nvPr/>
        </p:nvSpPr>
        <p:spPr>
          <a:xfrm flipH="1" flipV="1">
            <a:off x="3417840" y="1527840"/>
            <a:ext cx="238320" cy="34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5"/>
          <p:cNvSpPr/>
          <p:nvPr/>
        </p:nvSpPr>
        <p:spPr>
          <a:xfrm flipV="1">
            <a:off x="3343320" y="3603600"/>
            <a:ext cx="345960" cy="239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6"/>
          <p:cNvSpPr/>
          <p:nvPr/>
        </p:nvSpPr>
        <p:spPr>
          <a:xfrm flipH="1" flipV="1">
            <a:off x="4588200" y="1815480"/>
            <a:ext cx="1932120" cy="204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30"/>
          <p:cNvGrpSpPr/>
          <p:nvPr/>
        </p:nvGrpSpPr>
        <p:grpSpPr>
          <a:xfrm>
            <a:off x="3081240" y="2859840"/>
            <a:ext cx="387000" cy="417240"/>
            <a:chOff x="3081240" y="2859840"/>
            <a:chExt cx="387000" cy="417240"/>
          </a:xfrm>
        </p:grpSpPr>
        <p:sp>
          <p:nvSpPr>
            <p:cNvPr id="612" name="Line 28"/>
            <p:cNvSpPr/>
            <p:nvPr/>
          </p:nvSpPr>
          <p:spPr>
            <a:xfrm flipH="1">
              <a:off x="3081240" y="2859840"/>
              <a:ext cx="248760" cy="380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9"/>
            <p:cNvSpPr/>
            <p:nvPr/>
          </p:nvSpPr>
          <p:spPr>
            <a:xfrm flipH="1">
              <a:off x="3219480" y="2896560"/>
              <a:ext cx="248760" cy="380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32"/>
          <p:cNvGrpSpPr/>
          <p:nvPr/>
        </p:nvGrpSpPr>
        <p:grpSpPr>
          <a:xfrm>
            <a:off x="3096000" y="2037600"/>
            <a:ext cx="358200" cy="477360"/>
            <a:chOff x="3096000" y="2037600"/>
            <a:chExt cx="358200" cy="477360"/>
          </a:xfrm>
        </p:grpSpPr>
        <p:sp>
          <p:nvSpPr>
            <p:cNvPr id="615" name="Line 33"/>
            <p:cNvSpPr/>
            <p:nvPr/>
          </p:nvSpPr>
          <p:spPr>
            <a:xfrm>
              <a:off x="3096000" y="2156040"/>
              <a:ext cx="27864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34"/>
            <p:cNvSpPr/>
            <p:nvPr/>
          </p:nvSpPr>
          <p:spPr>
            <a:xfrm>
              <a:off x="3175560" y="2037600"/>
              <a:ext cx="278640" cy="35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 Box 36"/>
          <p:cNvSpPr/>
          <p:nvPr/>
        </p:nvSpPr>
        <p:spPr>
          <a:xfrm>
            <a:off x="3355560" y="5084640"/>
            <a:ext cx="46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йти: равные тре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7"/>
          <p:cNvSpPr/>
          <p:nvPr/>
        </p:nvSpPr>
        <p:spPr>
          <a:xfrm>
            <a:off x="3059280" y="4869000"/>
            <a:ext cx="57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8"/>
          <p:cNvSpPr/>
          <p:nvPr/>
        </p:nvSpPr>
        <p:spPr>
          <a:xfrm>
            <a:off x="7004160" y="21744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9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7"/>
          <p:cNvSpPr/>
          <p:nvPr/>
        </p:nvSpPr>
        <p:spPr>
          <a:xfrm>
            <a:off x="1405800" y="27734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329760" y="513540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3449520" y="5745240"/>
            <a:ext cx="3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1"/>
          <p:cNvGrpSpPr/>
          <p:nvPr/>
        </p:nvGrpSpPr>
        <p:grpSpPr>
          <a:xfrm>
            <a:off x="762120" y="3299400"/>
            <a:ext cx="2689200" cy="2472840"/>
            <a:chOff x="762120" y="3299400"/>
            <a:chExt cx="2689200" cy="2472840"/>
          </a:xfrm>
        </p:grpSpPr>
        <p:sp>
          <p:nvSpPr>
            <p:cNvPr id="100" name="Freeform 2"/>
            <p:cNvSpPr/>
            <p:nvPr/>
          </p:nvSpPr>
          <p:spPr>
            <a:xfrm>
              <a:off x="2684520" y="5016600"/>
              <a:ext cx="766800" cy="75564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483" h="476">
                  <a:moveTo>
                    <a:pt x="469" y="472"/>
                  </a:moveTo>
                  <a:lnTo>
                    <a:pt x="0" y="372"/>
                  </a:lnTo>
                  <a:lnTo>
                    <a:pt x="50" y="207"/>
                  </a:lnTo>
                  <a:lnTo>
                    <a:pt x="160" y="73"/>
                  </a:lnTo>
                  <a:lnTo>
                    <a:pt x="189" y="0"/>
                  </a:lnTo>
                  <a:lnTo>
                    <a:pt x="197" y="48"/>
                  </a:lnTo>
                  <a:lnTo>
                    <a:pt x="483" y="476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"/>
            <p:cNvSpPr/>
            <p:nvPr/>
          </p:nvSpPr>
          <p:spPr>
            <a:xfrm rot="6724800">
              <a:off x="1485360" y="3390840"/>
              <a:ext cx="762120" cy="83808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762120" y="4602240"/>
              <a:ext cx="761760" cy="83808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Freeform 5"/>
          <p:cNvSpPr/>
          <p:nvPr/>
        </p:nvSpPr>
        <p:spPr>
          <a:xfrm>
            <a:off x="806400" y="3332160"/>
            <a:ext cx="2664000" cy="24480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1678" h="1542">
                <a:moveTo>
                  <a:pt x="0" y="1225"/>
                </a:moveTo>
                <a:lnTo>
                  <a:pt x="590" y="0"/>
                </a:lnTo>
                <a:lnTo>
                  <a:pt x="1678" y="1542"/>
                </a:lnTo>
                <a:lnTo>
                  <a:pt x="0" y="1225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009600" y="144792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Точки А, В и С – вершины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071160" y="2286000"/>
            <a:ext cx="52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Отрезки АВ, ВС и АС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тороны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9"/>
          <p:cNvGrpSpPr/>
          <p:nvPr/>
        </p:nvGrpSpPr>
        <p:grpSpPr>
          <a:xfrm>
            <a:off x="2895480" y="3429000"/>
            <a:ext cx="5536800" cy="825480"/>
            <a:chOff x="2895480" y="3429000"/>
            <a:chExt cx="5536800" cy="825480"/>
          </a:xfrm>
        </p:grpSpPr>
        <p:sp>
          <p:nvSpPr>
            <p:cNvPr id="107" name="Text Box 10"/>
            <p:cNvSpPr/>
            <p:nvPr/>
          </p:nvSpPr>
          <p:spPr>
            <a:xfrm>
              <a:off x="3625920" y="3429000"/>
              <a:ext cx="480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</a:rPr>
                <a:t>АВС,     ВАС,     ВСА –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</a:rPr>
                <a:t>                               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</a:rPr>
                <a:t>углы тре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2"/>
                <p:cNvSpPr txBox="1"/>
                <p:nvPr/>
              </p:nvSpPr>
              <p:spPr>
                <a:xfrm>
                  <a:off x="4714920" y="342900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Object 3"/>
                <p:cNvSpPr txBox="1"/>
                <p:nvPr/>
              </p:nvSpPr>
              <p:spPr>
                <a:xfrm>
                  <a:off x="3857400" y="3429000"/>
                  <a:ext cx="4431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4"/>
                <p:cNvSpPr txBox="1"/>
                <p:nvPr/>
              </p:nvSpPr>
              <p:spPr>
                <a:xfrm>
                  <a:off x="2895480" y="342900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Text Box 14"/>
          <p:cNvSpPr/>
          <p:nvPr/>
        </p:nvSpPr>
        <p:spPr>
          <a:xfrm>
            <a:off x="4811040" y="4648320"/>
            <a:ext cx="335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Р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АВС     = АВ + ВС + 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ериметр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6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13" name="Freeform 17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8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0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1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0"/>
          <p:cNvGrpSpPr/>
          <p:nvPr/>
        </p:nvGrpSpPr>
        <p:grpSpPr>
          <a:xfrm>
            <a:off x="762120" y="3276720"/>
            <a:ext cx="2743200" cy="2552400"/>
            <a:chOff x="762120" y="3276720"/>
            <a:chExt cx="2743200" cy="2552400"/>
          </a:xfrm>
        </p:grpSpPr>
        <p:sp>
          <p:nvSpPr>
            <p:cNvPr id="122" name="Oval 6"/>
            <p:cNvSpPr/>
            <p:nvPr/>
          </p:nvSpPr>
          <p:spPr>
            <a:xfrm>
              <a:off x="3398760" y="5715000"/>
              <a:ext cx="106560" cy="11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5"/>
            <p:cNvSpPr/>
            <p:nvPr/>
          </p:nvSpPr>
          <p:spPr>
            <a:xfrm>
              <a:off x="1701720" y="3276720"/>
              <a:ext cx="106560" cy="11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6"/>
            <p:cNvSpPr/>
            <p:nvPr/>
          </p:nvSpPr>
          <p:spPr>
            <a:xfrm>
              <a:off x="762120" y="5219640"/>
              <a:ext cx="106200" cy="114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Равнобедренный треугольник 33"/>
          <p:cNvSpPr/>
          <p:nvPr/>
        </p:nvSpPr>
        <p:spPr>
          <a:xfrm flipV="1" rot="10800000">
            <a:off x="5071680" y="4999680"/>
            <a:ext cx="142920" cy="1429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2857680" y="2858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Arial"/>
              </a:rPr>
              <a:t>- геометрическая фигура, состоящая из трех точек, не лежащих на одной прямой и соединенных попарно отрез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5"/>
          <p:cNvSpPr/>
          <p:nvPr/>
        </p:nvSpPr>
        <p:spPr>
          <a:xfrm>
            <a:off x="500040" y="2142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27dc"/>
                </a:solidFill>
                <a:latin typeface="Arial"/>
              </a:rPr>
              <a:t>Треугольник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4"/>
          <p:cNvSpPr/>
          <p:nvPr/>
        </p:nvSpPr>
        <p:spPr>
          <a:xfrm>
            <a:off x="900000" y="4838760"/>
            <a:ext cx="4091040" cy="1182600"/>
          </a:xfrm>
          <a:custGeom>
            <a:avLst/>
            <a:gdLst>
              <a:gd name="textAreaLeft" fmla="*/ 0 w 4091040"/>
              <a:gd name="textAreaRight" fmla="*/ 4091400 w 4091040"/>
              <a:gd name="textAreaTop" fmla="*/ 0 h 1182600"/>
              <a:gd name="textAreaBottom" fmla="*/ 1182960 h 1182600"/>
            </a:gdLst>
            <a:ahLst/>
            <a:rect l="textAreaLeft" t="textAreaTop" r="textAreaRight" b="textAreaBottom"/>
            <a:pathLst>
              <a:path w="2577" h="745">
                <a:moveTo>
                  <a:pt x="0" y="745"/>
                </a:moveTo>
                <a:lnTo>
                  <a:pt x="1281" y="0"/>
                </a:lnTo>
                <a:lnTo>
                  <a:pt x="2577" y="7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482920" y="44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571840" y="15001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5034960" y="580536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644200" y="48690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700360" y="595008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539640" y="580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900000" y="1773360"/>
            <a:ext cx="4103640" cy="4248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9"/>
          <p:cNvSpPr/>
          <p:nvPr/>
        </p:nvSpPr>
        <p:spPr>
          <a:xfrm>
            <a:off x="2959200" y="1765440"/>
            <a:ext cx="1440" cy="4241520"/>
          </a:xfrm>
          <a:custGeom>
            <a:avLst/>
            <a:gdLst>
              <a:gd name="textAreaLeft" fmla="*/ 0 w 1440"/>
              <a:gd name="textAreaRight" fmla="*/ 1800 w 1440"/>
              <a:gd name="textAreaTop" fmla="*/ 0 h 4241520"/>
              <a:gd name="textAreaBottom" fmla="*/ 4241880 h 4241520"/>
            </a:gdLst>
            <a:ahLst/>
            <a:rect l="textAreaLeft" t="textAreaTop" r="textAreaRight" b="textAreaBottom"/>
            <a:pathLst>
              <a:path w="1" h="2672">
                <a:moveTo>
                  <a:pt x="0" y="0"/>
                </a:moveTo>
                <a:lnTo>
                  <a:pt x="0" y="26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0"/>
          <p:cNvSpPr/>
          <p:nvPr/>
        </p:nvSpPr>
        <p:spPr>
          <a:xfrm flipH="1">
            <a:off x="2770920" y="4653000"/>
            <a:ext cx="179640" cy="262080"/>
          </a:xfrm>
          <a:custGeom>
            <a:avLst/>
            <a:gdLst>
              <a:gd name="textAreaLeft" fmla="*/ -360 w 179640"/>
              <a:gd name="textAreaRight" fmla="*/ 179640 w 179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13" h="165">
                <a:moveTo>
                  <a:pt x="0" y="0"/>
                </a:moveTo>
                <a:cubicBezTo>
                  <a:pt x="16" y="9"/>
                  <a:pt x="81" y="25"/>
                  <a:pt x="97" y="53"/>
                </a:cubicBezTo>
                <a:cubicBezTo>
                  <a:pt x="113" y="81"/>
                  <a:pt x="97" y="142"/>
                  <a:pt x="97" y="16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6"/>
          <p:cNvSpPr/>
          <p:nvPr/>
        </p:nvSpPr>
        <p:spPr>
          <a:xfrm flipH="1" flipV="1" rot="3916800">
            <a:off x="1835640" y="5371920"/>
            <a:ext cx="306360" cy="38160"/>
          </a:xfrm>
          <a:custGeom>
            <a:avLst/>
            <a:gdLst>
              <a:gd name="textAreaLeft" fmla="*/ 0 w 306360"/>
              <a:gd name="textAreaRight" fmla="*/ 306360 w 306360"/>
              <a:gd name="textAreaTop" fmla="*/ 360 h 38160"/>
              <a:gd name="textAreaBottom" fmla="*/ 38880 h 38160"/>
            </a:gdLst>
            <a:ahLst/>
            <a:rect l="textAreaLeft" t="textAreaTop" r="textAreaRight" b="textAreaBottom"/>
            <a:pathLst>
              <a:path w="193" h="24">
                <a:moveTo>
                  <a:pt x="0" y="24"/>
                </a:moveTo>
                <a:lnTo>
                  <a:pt x="19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7"/>
          <p:cNvSpPr/>
          <p:nvPr/>
        </p:nvSpPr>
        <p:spPr>
          <a:xfrm flipH="1" flipV="1" rot="18411600">
            <a:off x="3789360" y="5434200"/>
            <a:ext cx="306360" cy="38160"/>
          </a:xfrm>
          <a:custGeom>
            <a:avLst/>
            <a:gdLst>
              <a:gd name="textAreaLeft" fmla="*/ 0 w 306360"/>
              <a:gd name="textAreaRight" fmla="*/ 306360 w 306360"/>
              <a:gd name="textAreaTop" fmla="*/ 360 h 38160"/>
              <a:gd name="textAreaBottom" fmla="*/ 38880 h 38160"/>
            </a:gdLst>
            <a:ahLst/>
            <a:rect l="textAreaLeft" t="textAreaTop" r="textAreaRight" b="textAreaBottom"/>
            <a:pathLst>
              <a:path w="193" h="24">
                <a:moveTo>
                  <a:pt x="0" y="24"/>
                </a:moveTo>
                <a:lnTo>
                  <a:pt x="19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8"/>
          <p:cNvSpPr/>
          <p:nvPr/>
        </p:nvSpPr>
        <p:spPr>
          <a:xfrm>
            <a:off x="2957400" y="4653000"/>
            <a:ext cx="179640" cy="262080"/>
          </a:xfrm>
          <a:custGeom>
            <a:avLst/>
            <a:gdLst>
              <a:gd name="textAreaLeft" fmla="*/ 0 w 179640"/>
              <a:gd name="textAreaRight" fmla="*/ 180000 w 179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13" h="165">
                <a:moveTo>
                  <a:pt x="0" y="0"/>
                </a:moveTo>
                <a:cubicBezTo>
                  <a:pt x="16" y="9"/>
                  <a:pt x="81" y="25"/>
                  <a:pt x="97" y="53"/>
                </a:cubicBezTo>
                <a:cubicBezTo>
                  <a:pt x="113" y="81"/>
                  <a:pt x="97" y="142"/>
                  <a:pt x="97" y="16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3059280" y="4437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2"/>
          <p:cNvSpPr/>
          <p:nvPr/>
        </p:nvSpPr>
        <p:spPr>
          <a:xfrm>
            <a:off x="2916360" y="4797360"/>
            <a:ext cx="730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9"/>
          <p:cNvGrpSpPr/>
          <p:nvPr/>
        </p:nvGrpSpPr>
        <p:grpSpPr>
          <a:xfrm>
            <a:off x="1749600" y="3834360"/>
            <a:ext cx="2406600" cy="347400"/>
            <a:chOff x="1749600" y="3834360"/>
            <a:chExt cx="2406600" cy="347400"/>
          </a:xfrm>
        </p:grpSpPr>
        <p:grpSp>
          <p:nvGrpSpPr>
            <p:cNvPr id="145" name="Group 50"/>
            <p:cNvGrpSpPr/>
            <p:nvPr/>
          </p:nvGrpSpPr>
          <p:grpSpPr>
            <a:xfrm>
              <a:off x="3890160" y="3834360"/>
              <a:ext cx="266040" cy="347400"/>
              <a:chOff x="3890160" y="3834360"/>
              <a:chExt cx="266040" cy="347400"/>
            </a:xfrm>
          </p:grpSpPr>
          <p:sp>
            <p:nvSpPr>
              <p:cNvPr id="146" name="Freeform 51"/>
              <p:cNvSpPr/>
              <p:nvPr/>
            </p:nvSpPr>
            <p:spPr>
              <a:xfrm flipV="1" rot="11742000">
                <a:off x="3968640" y="3940560"/>
                <a:ext cx="160200" cy="22320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223200"/>
                  <a:gd name="textAreaBottom" fmla="*/ 223200 h 223200"/>
                </a:gdLst>
                <a:ahLst/>
                <a:rect l="textAreaLeft" t="textAreaTop" r="textAreaRight" b="textAreaBottom"/>
                <a:pathLst>
                  <a:path w="101" h="141">
                    <a:moveTo>
                      <a:pt x="0" y="0"/>
                    </a:moveTo>
                    <a:lnTo>
                      <a:pt x="101" y="14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2"/>
              <p:cNvSpPr/>
              <p:nvPr/>
            </p:nvSpPr>
            <p:spPr>
              <a:xfrm flipV="1" rot="11742000">
                <a:off x="3917160" y="3852000"/>
                <a:ext cx="160560" cy="2239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360 h 223920"/>
                  <a:gd name="textAreaBottom" fmla="*/ 224640 h 223920"/>
                </a:gdLst>
                <a:ahLst/>
                <a:rect l="textAreaLeft" t="textAreaTop" r="textAreaRight" b="textAreaBottom"/>
                <a:pathLst>
                  <a:path w="101" h="141">
                    <a:moveTo>
                      <a:pt x="0" y="0"/>
                    </a:moveTo>
                    <a:lnTo>
                      <a:pt x="101" y="14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53"/>
            <p:cNvGrpSpPr/>
            <p:nvPr/>
          </p:nvGrpSpPr>
          <p:grpSpPr>
            <a:xfrm>
              <a:off x="1749600" y="3851640"/>
              <a:ext cx="323280" cy="251280"/>
              <a:chOff x="1749600" y="3851640"/>
              <a:chExt cx="323280" cy="251280"/>
            </a:xfrm>
          </p:grpSpPr>
          <p:sp>
            <p:nvSpPr>
              <p:cNvPr id="149" name="Freeform 54"/>
              <p:cNvSpPr/>
              <p:nvPr/>
            </p:nvSpPr>
            <p:spPr>
              <a:xfrm flipV="1" rot="16650000">
                <a:off x="1790640" y="3897000"/>
                <a:ext cx="160200" cy="22356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-360 h 223560"/>
                  <a:gd name="textAreaBottom" fmla="*/ 223560 h 223560"/>
                </a:gdLst>
                <a:ahLst/>
                <a:rect l="textAreaLeft" t="textAreaTop" r="textAreaRight" b="textAreaBottom"/>
                <a:pathLst>
                  <a:path w="101" h="141">
                    <a:moveTo>
                      <a:pt x="0" y="0"/>
                    </a:moveTo>
                    <a:lnTo>
                      <a:pt x="101" y="14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5"/>
              <p:cNvSpPr/>
              <p:nvPr/>
            </p:nvSpPr>
            <p:spPr>
              <a:xfrm flipV="1" rot="16650000">
                <a:off x="1871280" y="3833640"/>
                <a:ext cx="160560" cy="22356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-360 h 223560"/>
                  <a:gd name="textAreaBottom" fmla="*/ 223560 h 223560"/>
                </a:gdLst>
                <a:ahLst/>
                <a:rect l="textAreaLeft" t="textAreaTop" r="textAreaRight" b="textAreaBottom"/>
                <a:pathLst>
                  <a:path w="101" h="141">
                    <a:moveTo>
                      <a:pt x="0" y="0"/>
                    </a:moveTo>
                    <a:lnTo>
                      <a:pt x="101" y="14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Group 46"/>
          <p:cNvGrpSpPr/>
          <p:nvPr/>
        </p:nvGrpSpPr>
        <p:grpSpPr>
          <a:xfrm>
            <a:off x="2627280" y="2205000"/>
            <a:ext cx="649440" cy="459720"/>
            <a:chOff x="2627280" y="2205000"/>
            <a:chExt cx="649440" cy="459720"/>
          </a:xfrm>
        </p:grpSpPr>
        <p:sp>
          <p:nvSpPr>
            <p:cNvPr id="152" name="Text Box 47"/>
            <p:cNvSpPr/>
            <p:nvPr/>
          </p:nvSpPr>
          <p:spPr>
            <a:xfrm>
              <a:off x="2627280" y="220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8"/>
            <p:cNvSpPr/>
            <p:nvPr/>
          </p:nvSpPr>
          <p:spPr>
            <a:xfrm>
              <a:off x="2916360" y="220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Прямоугольный треугольник 64"/>
          <p:cNvSpPr/>
          <p:nvPr/>
        </p:nvSpPr>
        <p:spPr>
          <a:xfrm>
            <a:off x="3000240" y="4857840"/>
            <a:ext cx="2105280" cy="1211040"/>
          </a:xfrm>
          <a:prstGeom prst="rtTriangle">
            <a:avLst/>
          </a:prstGeom>
          <a:solidFill>
            <a:srgbClr val="ff0000">
              <a:alpha val="54000"/>
            </a:srgbClr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Равнобедренный треугольник 65"/>
          <p:cNvSpPr/>
          <p:nvPr/>
        </p:nvSpPr>
        <p:spPr>
          <a:xfrm>
            <a:off x="928800" y="4857840"/>
            <a:ext cx="4071960" cy="1143000"/>
          </a:xfrm>
          <a:prstGeom prst="triangle">
            <a:avLst>
              <a:gd name="adj" fmla="val 49352"/>
            </a:avLst>
          </a:prstGeom>
          <a:solidFill>
            <a:srgbClr val="00b0f0">
              <a:alpha val="3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ый треугольник 67"/>
          <p:cNvSpPr/>
          <p:nvPr/>
        </p:nvSpPr>
        <p:spPr>
          <a:xfrm>
            <a:off x="2928960" y="1857240"/>
            <a:ext cx="2000160" cy="4143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ый треугольник 68"/>
          <p:cNvSpPr/>
          <p:nvPr/>
        </p:nvSpPr>
        <p:spPr>
          <a:xfrm flipH="1">
            <a:off x="856440" y="1857240"/>
            <a:ext cx="2071800" cy="414360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Равнобедренный треугольник 69"/>
          <p:cNvSpPr/>
          <p:nvPr/>
        </p:nvSpPr>
        <p:spPr>
          <a:xfrm>
            <a:off x="857160" y="1714680"/>
            <a:ext cx="4071960" cy="4286160"/>
          </a:xfrm>
          <a:prstGeom prst="triangle">
            <a:avLst>
              <a:gd name="adj" fmla="val 50542"/>
            </a:avLst>
          </a:prstGeom>
          <a:solidFill>
            <a:srgbClr val="e527d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ый треугольник 71"/>
          <p:cNvSpPr/>
          <p:nvPr/>
        </p:nvSpPr>
        <p:spPr>
          <a:xfrm rot="16200000">
            <a:off x="1357200" y="4428720"/>
            <a:ext cx="1143000" cy="2000160"/>
          </a:xfrm>
          <a:prstGeom prst="rtTriangle">
            <a:avLst/>
          </a:prstGeom>
          <a:solidFill>
            <a:srgbClr val="4f81bd">
              <a:alpha val="4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Равнобедренный треугольник 73"/>
          <p:cNvSpPr/>
          <p:nvPr/>
        </p:nvSpPr>
        <p:spPr>
          <a:xfrm rot="6918000">
            <a:off x="233280" y="3564360"/>
            <a:ext cx="4613400" cy="1322280"/>
          </a:xfrm>
          <a:prstGeom prst="triangle">
            <a:avLst>
              <a:gd name="adj" fmla="val 57051"/>
            </a:avLst>
          </a:prstGeom>
          <a:solidFill>
            <a:srgbClr val="92dc30">
              <a:alpha val="3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Равнобедренный треугольник 74"/>
          <p:cNvSpPr/>
          <p:nvPr/>
        </p:nvSpPr>
        <p:spPr>
          <a:xfrm rot="14651400">
            <a:off x="998280" y="3592080"/>
            <a:ext cx="4808520" cy="1268280"/>
          </a:xfrm>
          <a:prstGeom prst="triangle">
            <a:avLst>
              <a:gd name="adj" fmla="val 42069"/>
            </a:avLst>
          </a:prstGeom>
          <a:solidFill>
            <a:srgbClr val="ff9966">
              <a:alpha val="3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>
            <a:off x="1646280" y="3200400"/>
            <a:ext cx="3313080" cy="2879640"/>
          </a:xfrm>
          <a:prstGeom prst="triangle">
            <a:avLst>
              <a:gd name="adj" fmla="val 82991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5311440" y="533520"/>
            <a:ext cx="3638520" cy="3753000"/>
            <a:chOff x="5311440" y="533520"/>
            <a:chExt cx="3638520" cy="3753000"/>
          </a:xfrm>
        </p:grpSpPr>
        <p:sp>
          <p:nvSpPr>
            <p:cNvPr id="164" name="AutoShape 20"/>
            <p:cNvSpPr/>
            <p:nvPr/>
          </p:nvSpPr>
          <p:spPr>
            <a:xfrm>
              <a:off x="5533920" y="896760"/>
              <a:ext cx="3312720" cy="2879280"/>
            </a:xfrm>
            <a:prstGeom prst="triangle">
              <a:avLst>
                <a:gd name="adj" fmla="val 82991"/>
              </a:avLst>
            </a:prstGeom>
            <a:gradFill rotWithShape="0">
              <a:gsLst>
                <a:gs pos="0">
                  <a:srgbClr val="ffffff">
                    <a:alpha val="42352"/>
                  </a:srgbClr>
                </a:gs>
                <a:gs pos="100000">
                  <a:srgbClr val="00ccff">
                    <a:alpha val="4235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1"/>
            <p:cNvSpPr/>
            <p:nvPr/>
          </p:nvSpPr>
          <p:spPr>
            <a:xfrm>
              <a:off x="5311440" y="3705120"/>
              <a:ext cx="53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Calibri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2"/>
            <p:cNvSpPr/>
            <p:nvPr/>
          </p:nvSpPr>
          <p:spPr>
            <a:xfrm>
              <a:off x="8501040" y="3705120"/>
              <a:ext cx="44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alibri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3"/>
            <p:cNvSpPr/>
            <p:nvPr/>
          </p:nvSpPr>
          <p:spPr>
            <a:xfrm>
              <a:off x="8383680" y="533520"/>
              <a:ext cx="37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alibri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2"/>
          <p:cNvGrpSpPr/>
          <p:nvPr/>
        </p:nvGrpSpPr>
        <p:grpSpPr>
          <a:xfrm>
            <a:off x="5311440" y="533520"/>
            <a:ext cx="3638520" cy="3753000"/>
            <a:chOff x="5311440" y="533520"/>
            <a:chExt cx="3638520" cy="3753000"/>
          </a:xfrm>
        </p:grpSpPr>
        <p:sp>
          <p:nvSpPr>
            <p:cNvPr id="169" name="AutoShape 13"/>
            <p:cNvSpPr/>
            <p:nvPr/>
          </p:nvSpPr>
          <p:spPr>
            <a:xfrm>
              <a:off x="5533920" y="896760"/>
              <a:ext cx="3312720" cy="2879280"/>
            </a:xfrm>
            <a:prstGeom prst="triangle">
              <a:avLst>
                <a:gd name="adj" fmla="val 82991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ffff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5311440" y="3705120"/>
              <a:ext cx="53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Calibri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8501040" y="3705120"/>
              <a:ext cx="44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alibri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8383680" y="533520"/>
              <a:ext cx="37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alibri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11"/>
          <p:cNvSpPr/>
          <p:nvPr/>
        </p:nvSpPr>
        <p:spPr>
          <a:xfrm>
            <a:off x="4956120" y="5653080"/>
            <a:ext cx="3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851640" y="276876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228600" y="22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Два треугольника называются равными, если их можно совместить на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228600" y="99072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Если два треугольника равны, то элементы (т.е. стороны и угл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одного треугольника соответственно равны элементам друг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4"/>
          <p:cNvGrpSpPr/>
          <p:nvPr/>
        </p:nvGrpSpPr>
        <p:grpSpPr>
          <a:xfrm>
            <a:off x="457200" y="3500280"/>
            <a:ext cx="2918520" cy="597240"/>
            <a:chOff x="457200" y="3500280"/>
            <a:chExt cx="2918520" cy="597240"/>
          </a:xfrm>
        </p:grpSpPr>
        <mc:AlternateContent>
          <mc:Choice xmlns:a14="http://schemas.microsoft.com/office/drawing/2010/main" Requires="a14">
            <p:sp>
              <p:nvSpPr>
                <p:cNvPr id="178" name="Object 2"/>
                <p:cNvSpPr txBox="1"/>
                <p:nvPr/>
              </p:nvSpPr>
              <p:spPr>
                <a:xfrm>
                  <a:off x="457200" y="3504960"/>
                  <a:ext cx="4971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Text Box 26"/>
            <p:cNvSpPr/>
            <p:nvPr/>
          </p:nvSpPr>
          <p:spPr>
            <a:xfrm>
              <a:off x="1029240" y="3516120"/>
              <a:ext cx="234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Calibri"/>
                </a:rPr>
                <a:t>АВС =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Calibri"/>
                </a:rPr>
                <a:t>MS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3"/>
                <p:cNvSpPr txBox="1"/>
                <p:nvPr/>
              </p:nvSpPr>
              <p:spPr>
                <a:xfrm>
                  <a:off x="1857600" y="3500280"/>
                  <a:ext cx="4968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" name="Group 28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82" name="Freeform 29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2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3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4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5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6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5"/>
          <p:cNvSpPr/>
          <p:nvPr/>
        </p:nvSpPr>
        <p:spPr>
          <a:xfrm>
            <a:off x="1167840" y="571644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4356000" y="3178080"/>
            <a:ext cx="763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4915080" y="6021360"/>
            <a:ext cx="745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1600200" y="6033960"/>
            <a:ext cx="76320" cy="88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-0.31007 0.24537 L -0.42309 0.33519 E">
                                      <p:cBhvr>
                                        <p:cTn id="158" dur="3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reeform 119"/>
          <p:cNvSpPr/>
          <p:nvPr/>
        </p:nvSpPr>
        <p:spPr>
          <a:xfrm rot="2491200">
            <a:off x="6973560" y="1531440"/>
            <a:ext cx="1689120" cy="249732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1188" h="1728">
                <a:moveTo>
                  <a:pt x="1188" y="1728"/>
                </a:moveTo>
                <a:lnTo>
                  <a:pt x="0" y="0"/>
                </a:lnTo>
                <a:lnTo>
                  <a:pt x="0" y="1728"/>
                </a:lnTo>
                <a:lnTo>
                  <a:pt x="1188" y="1728"/>
                </a:lnTo>
                <a:close/>
              </a:path>
            </a:pathLst>
          </a:custGeom>
          <a:solidFill>
            <a:srgbClr val="4f81bd">
              <a:alpha val="60000"/>
            </a:srgbClr>
          </a:solidFill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88"/>
          <p:cNvSpPr/>
          <p:nvPr/>
        </p:nvSpPr>
        <p:spPr>
          <a:xfrm>
            <a:off x="4964040" y="2357280"/>
            <a:ext cx="1689120" cy="249732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1188" h="1728">
                <a:moveTo>
                  <a:pt x="1188" y="1728"/>
                </a:moveTo>
                <a:lnTo>
                  <a:pt x="0" y="0"/>
                </a:lnTo>
                <a:lnTo>
                  <a:pt x="0" y="1728"/>
                </a:lnTo>
                <a:lnTo>
                  <a:pt x="1188" y="1728"/>
                </a:lnTo>
                <a:close/>
              </a:path>
            </a:pathLst>
          </a:custGeom>
          <a:noFill/>
          <a:ln w="28440">
            <a:solidFill>
              <a:srgbClr val="fff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39"/>
          <p:cNvSpPr/>
          <p:nvPr/>
        </p:nvSpPr>
        <p:spPr>
          <a:xfrm>
            <a:off x="4965840" y="2354400"/>
            <a:ext cx="1689120" cy="249696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2496960"/>
              <a:gd name="textAreaBottom" fmla="*/ 2497320 h 2496960"/>
            </a:gdLst>
            <a:ahLst/>
            <a:rect l="textAreaLeft" t="textAreaTop" r="textAreaRight" b="textAreaBottom"/>
            <a:pathLst>
              <a:path w="1188" h="1728">
                <a:moveTo>
                  <a:pt x="1188" y="1728"/>
                </a:moveTo>
                <a:lnTo>
                  <a:pt x="0" y="0"/>
                </a:lnTo>
                <a:lnTo>
                  <a:pt x="0" y="1728"/>
                </a:lnTo>
                <a:lnTo>
                  <a:pt x="1188" y="1728"/>
                </a:lnTo>
                <a:close/>
              </a:path>
            </a:pathLst>
          </a:custGeom>
          <a:noFill/>
          <a:ln w="28440">
            <a:solidFill>
              <a:srgbClr val="fff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0" y="74520"/>
            <a:ext cx="9199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Равенство треугольников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228600" y="1005120"/>
            <a:ext cx="4384800" cy="1313640"/>
          </a:xfrm>
          <a:prstGeom prst="rect">
            <a:avLst/>
          </a:prstGeom>
          <a:noFill/>
          <a:ln w="25560">
            <a:solidFill>
              <a:srgbClr val="e4dc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108000" bIns="1080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Два треугольника равны, если каждый из них можно наложить на другой так, что их вершины и стороны попарно совмест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5"/>
          <p:cNvSpPr/>
          <p:nvPr/>
        </p:nvSpPr>
        <p:spPr>
          <a:xfrm>
            <a:off x="4803840" y="186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6"/>
          <p:cNvSpPr/>
          <p:nvPr/>
        </p:nvSpPr>
        <p:spPr>
          <a:xfrm>
            <a:off x="6521760" y="480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7"/>
          <p:cNvSpPr/>
          <p:nvPr/>
        </p:nvSpPr>
        <p:spPr>
          <a:xfrm>
            <a:off x="257040" y="3772080"/>
            <a:ext cx="38768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0"/>
          <p:cNvSpPr/>
          <p:nvPr/>
        </p:nvSpPr>
        <p:spPr>
          <a:xfrm>
            <a:off x="4650120" y="4824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5229360" y="45529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" name="Line 113"/>
          <p:cNvSpPr/>
          <p:nvPr/>
        </p:nvSpPr>
        <p:spPr>
          <a:xfrm>
            <a:off x="4878360" y="3705120"/>
            <a:ext cx="17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-108000" bIns="-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5"/>
          <p:cNvSpPr/>
          <p:nvPr/>
        </p:nvSpPr>
        <p:spPr>
          <a:xfrm>
            <a:off x="7029720" y="2355840"/>
            <a:ext cx="153360" cy="13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7"/>
          <p:cNvSpPr/>
          <p:nvPr/>
        </p:nvSpPr>
        <p:spPr>
          <a:xfrm>
            <a:off x="214200" y="2571840"/>
            <a:ext cx="4356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Если треугольники равны, то элементы одного  треугольника соответственно равны элементам другого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93"/>
          <p:cNvGrpSpPr/>
          <p:nvPr/>
        </p:nvGrpSpPr>
        <p:grpSpPr>
          <a:xfrm>
            <a:off x="7736040" y="2887920"/>
            <a:ext cx="201960" cy="99360"/>
            <a:chOff x="7736040" y="2887920"/>
            <a:chExt cx="201960" cy="99360"/>
          </a:xfrm>
        </p:grpSpPr>
        <p:sp>
          <p:nvSpPr>
            <p:cNvPr id="208" name="Line 117"/>
            <p:cNvSpPr/>
            <p:nvPr/>
          </p:nvSpPr>
          <p:spPr>
            <a:xfrm flipH="1" flipV="1">
              <a:off x="7746120" y="2887920"/>
              <a:ext cx="191880" cy="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-75960" bIns="-75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59"/>
            <p:cNvSpPr/>
            <p:nvPr/>
          </p:nvSpPr>
          <p:spPr>
            <a:xfrm flipH="1" flipV="1">
              <a:off x="7736040" y="2955240"/>
              <a:ext cx="191520" cy="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-75960" bIns="-75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94"/>
          <p:cNvGrpSpPr/>
          <p:nvPr/>
        </p:nvGrpSpPr>
        <p:grpSpPr>
          <a:xfrm>
            <a:off x="5797080" y="3654360"/>
            <a:ext cx="222480" cy="171360"/>
            <a:chOff x="5797080" y="3654360"/>
            <a:chExt cx="222480" cy="171360"/>
          </a:xfrm>
        </p:grpSpPr>
        <p:sp>
          <p:nvSpPr>
            <p:cNvPr id="211" name="Line 94"/>
            <p:cNvSpPr/>
            <p:nvPr/>
          </p:nvSpPr>
          <p:spPr>
            <a:xfrm flipH="1">
              <a:off x="5797080" y="3654360"/>
              <a:ext cx="181080" cy="12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60"/>
            <p:cNvSpPr/>
            <p:nvPr/>
          </p:nvSpPr>
          <p:spPr>
            <a:xfrm flipH="1">
              <a:off x="5838480" y="3705120"/>
              <a:ext cx="181080" cy="12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3" name=""/>
          <p:cNvGraphicFramePr/>
          <p:nvPr/>
        </p:nvGraphicFramePr>
        <p:xfrm>
          <a:off x="-9360" y="6429240"/>
          <a:ext cx="9199440" cy="474840"/>
        </p:xfrm>
        <a:graphic>
          <a:graphicData uri="http://schemas.openxmlformats.org/drawingml/2006/table">
            <a:tbl>
              <a:tblPr/>
              <a:tblGrid>
                <a:gridCol w="2288880"/>
                <a:gridCol w="2305080"/>
                <a:gridCol w="2314800"/>
                <a:gridCol w="2290680"/>
              </a:tblGrid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6533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6533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6533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65334"/>
                    </a:solidFill>
                  </a:tcPr>
                </a:tc>
              </a:tr>
            </a:tbl>
          </a:graphicData>
        </a:graphic>
      </p:graphicFrame>
      <p:sp>
        <p:nvSpPr>
          <p:cNvPr id="214" name="Text Box 101"/>
          <p:cNvSpPr/>
          <p:nvPr/>
        </p:nvSpPr>
        <p:spPr>
          <a:xfrm>
            <a:off x="7831440" y="836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2"/>
          <p:cNvSpPr/>
          <p:nvPr/>
        </p:nvSpPr>
        <p:spPr>
          <a:xfrm>
            <a:off x="7590240" y="41958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3"/>
          <p:cNvSpPr/>
          <p:nvPr/>
        </p:nvSpPr>
        <p:spPr>
          <a:xfrm>
            <a:off x="5931360" y="2801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82"/>
          <p:cNvSpPr/>
          <p:nvPr/>
        </p:nvSpPr>
        <p:spPr>
          <a:xfrm rot="2491200">
            <a:off x="6997320" y="1609200"/>
            <a:ext cx="1689120" cy="249732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1188" h="1728">
                <a:moveTo>
                  <a:pt x="1188" y="1728"/>
                </a:moveTo>
                <a:lnTo>
                  <a:pt x="0" y="0"/>
                </a:lnTo>
                <a:lnTo>
                  <a:pt x="0" y="1728"/>
                </a:lnTo>
                <a:lnTo>
                  <a:pt x="1188" y="1728"/>
                </a:lnTo>
                <a:close/>
              </a:path>
            </a:pathLst>
          </a:custGeom>
          <a:noFill/>
          <a:ln w="28440">
            <a:solidFill>
              <a:srgbClr val="ffff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97"/>
          <p:cNvGrpSpPr/>
          <p:nvPr/>
        </p:nvGrpSpPr>
        <p:grpSpPr>
          <a:xfrm>
            <a:off x="5703840" y="4762440"/>
            <a:ext cx="114480" cy="179280"/>
            <a:chOff x="5703840" y="4762440"/>
            <a:chExt cx="114480" cy="179280"/>
          </a:xfrm>
        </p:grpSpPr>
        <p:sp>
          <p:nvSpPr>
            <p:cNvPr id="219" name="Line 185"/>
            <p:cNvSpPr/>
            <p:nvPr/>
          </p:nvSpPr>
          <p:spPr>
            <a:xfrm flipV="1">
              <a:off x="5703840" y="476244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71280" bIns="71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86"/>
            <p:cNvSpPr/>
            <p:nvPr/>
          </p:nvSpPr>
          <p:spPr>
            <a:xfrm flipV="1">
              <a:off x="5761080" y="476244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71280" bIns="71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87"/>
            <p:cNvSpPr/>
            <p:nvPr/>
          </p:nvSpPr>
          <p:spPr>
            <a:xfrm flipV="1">
              <a:off x="5818320" y="476244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71280" bIns="71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92"/>
          <p:cNvGrpSpPr/>
          <p:nvPr/>
        </p:nvGrpSpPr>
        <p:grpSpPr>
          <a:xfrm>
            <a:off x="6895080" y="3681720"/>
            <a:ext cx="219600" cy="229320"/>
            <a:chOff x="6895080" y="3681720"/>
            <a:chExt cx="219600" cy="229320"/>
          </a:xfrm>
        </p:grpSpPr>
        <p:sp>
          <p:nvSpPr>
            <p:cNvPr id="223" name="Line 188"/>
            <p:cNvSpPr/>
            <p:nvPr/>
          </p:nvSpPr>
          <p:spPr>
            <a:xfrm flipV="1">
              <a:off x="6895080" y="3681720"/>
              <a:ext cx="135720" cy="15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89"/>
            <p:cNvSpPr/>
            <p:nvPr/>
          </p:nvSpPr>
          <p:spPr>
            <a:xfrm flipV="1">
              <a:off x="6939360" y="3721320"/>
              <a:ext cx="135720" cy="15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90"/>
            <p:cNvSpPr/>
            <p:nvPr/>
          </p:nvSpPr>
          <p:spPr>
            <a:xfrm flipV="1">
              <a:off x="6978960" y="3757680"/>
              <a:ext cx="135720" cy="15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96"/>
          <p:cNvSpPr/>
          <p:nvPr/>
        </p:nvSpPr>
        <p:spPr>
          <a:xfrm>
            <a:off x="257040" y="4359240"/>
            <a:ext cx="38768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rc 204"/>
          <p:cNvSpPr/>
          <p:nvPr/>
        </p:nvSpPr>
        <p:spPr>
          <a:xfrm flipH="1">
            <a:off x="6254640" y="4533840"/>
            <a:ext cx="371520" cy="309600"/>
          </a:xfrm>
          <a:custGeom>
            <a:avLst/>
            <a:gdLst>
              <a:gd name="textAreaLeft" fmla="*/ 360 w 371520"/>
              <a:gd name="textAreaRight" fmla="*/ 372240 w 3715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fill="none" w="21600" h="18043">
                <a:moveTo>
                  <a:pt x="11874" y="-1"/>
                </a:moveTo>
                <a:cubicBezTo>
                  <a:pt x="17945" y="3994"/>
                  <a:pt x="21600" y="10775"/>
                  <a:pt x="21600" y="18043"/>
                </a:cubicBezTo>
              </a:path>
              <a:path stroke="0" w="21600" h="18043">
                <a:moveTo>
                  <a:pt x="11874" y="-1"/>
                </a:moveTo>
                <a:cubicBezTo>
                  <a:pt x="17945" y="3994"/>
                  <a:pt x="21600" y="10775"/>
                  <a:pt x="21600" y="18043"/>
                </a:cubicBezTo>
                <a:lnTo>
                  <a:pt x="0" y="18043"/>
                </a:lnTo>
                <a:lnTo>
                  <a:pt x="11874" y="-1"/>
                </a:lnTo>
                <a:close/>
              </a:path>
            </a:pathLst>
          </a:custGeom>
          <a:noFill/>
          <a:ln w="381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4000" rIns="144000" tIns="108000" bIns="108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205"/>
          <p:cNvSpPr/>
          <p:nvPr/>
        </p:nvSpPr>
        <p:spPr>
          <a:xfrm flipH="1" rot="2117400">
            <a:off x="7434720" y="3912840"/>
            <a:ext cx="371520" cy="309600"/>
          </a:xfrm>
          <a:custGeom>
            <a:avLst/>
            <a:gdLst>
              <a:gd name="textAreaLeft" fmla="*/ 360 w 371520"/>
              <a:gd name="textAreaRight" fmla="*/ 372240 w 3715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fill="none" w="21600" h="18043">
                <a:moveTo>
                  <a:pt x="11874" y="-1"/>
                </a:moveTo>
                <a:cubicBezTo>
                  <a:pt x="17945" y="3994"/>
                  <a:pt x="21600" y="10775"/>
                  <a:pt x="21600" y="18043"/>
                </a:cubicBezTo>
              </a:path>
              <a:path stroke="0" w="21600" h="18043">
                <a:moveTo>
                  <a:pt x="11874" y="-1"/>
                </a:moveTo>
                <a:cubicBezTo>
                  <a:pt x="17945" y="3994"/>
                  <a:pt x="21600" y="10775"/>
                  <a:pt x="21600" y="18043"/>
                </a:cubicBezTo>
                <a:lnTo>
                  <a:pt x="0" y="18043"/>
                </a:lnTo>
                <a:lnTo>
                  <a:pt x="11874" y="-1"/>
                </a:lnTo>
                <a:close/>
              </a:path>
            </a:pathLst>
          </a:custGeom>
          <a:noFill/>
          <a:ln w="381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4000" rIns="144000" tIns="108000" bIns="108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rc 206"/>
          <p:cNvSpPr/>
          <p:nvPr/>
        </p:nvSpPr>
        <p:spPr>
          <a:xfrm flipH="1" rot="14170200">
            <a:off x="4639320" y="2477160"/>
            <a:ext cx="639720" cy="292320"/>
          </a:xfrm>
          <a:custGeom>
            <a:avLst/>
            <a:gdLst>
              <a:gd name="textAreaLeft" fmla="*/ -360 w 639720"/>
              <a:gd name="textAreaRight" fmla="*/ 639720 w 63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fill="none" w="21600" h="10752">
                <a:moveTo>
                  <a:pt x="18733" y="0"/>
                </a:moveTo>
                <a:cubicBezTo>
                  <a:pt x="20611" y="3272"/>
                  <a:pt x="21600" y="6979"/>
                  <a:pt x="21600" y="10752"/>
                </a:cubicBezTo>
              </a:path>
              <a:path stroke="0" w="21600" h="10752">
                <a:moveTo>
                  <a:pt x="18733" y="0"/>
                </a:moveTo>
                <a:cubicBezTo>
                  <a:pt x="20611" y="3272"/>
                  <a:pt x="21600" y="6979"/>
                  <a:pt x="21600" y="10752"/>
                </a:cubicBezTo>
                <a:lnTo>
                  <a:pt x="0" y="10752"/>
                </a:lnTo>
                <a:lnTo>
                  <a:pt x="18733" y="0"/>
                </a:lnTo>
                <a:close/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4000" rIns="144000" tIns="108000" bIns="1080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rc 208"/>
          <p:cNvSpPr/>
          <p:nvPr/>
        </p:nvSpPr>
        <p:spPr>
          <a:xfrm flipH="1" rot="14450400">
            <a:off x="7688160" y="1507320"/>
            <a:ext cx="407880" cy="3740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74040"/>
              <a:gd name="textAreaBottom" fmla="*/ 374400 h 374040"/>
            </a:gdLst>
            <a:ahLst/>
            <a:rect l="textAreaLeft" t="textAreaTop" r="textAreaRight" b="textAreaBottom"/>
            <a:pathLst>
              <a:path fill="none" w="17971" h="20159">
                <a:moveTo>
                  <a:pt x="7756" y="-1"/>
                </a:moveTo>
                <a:cubicBezTo>
                  <a:pt x="11924" y="1603"/>
                  <a:pt x="15493" y="4459"/>
                  <a:pt x="17971" y="8175"/>
                </a:cubicBezTo>
              </a:path>
              <a:path stroke="0" w="17971" h="20159">
                <a:moveTo>
                  <a:pt x="7756" y="-1"/>
                </a:moveTo>
                <a:cubicBezTo>
                  <a:pt x="11924" y="1603"/>
                  <a:pt x="15493" y="4459"/>
                  <a:pt x="17971" y="8175"/>
                </a:cubicBezTo>
                <a:lnTo>
                  <a:pt x="0" y="20159"/>
                </a:lnTo>
                <a:lnTo>
                  <a:pt x="7756" y="-1"/>
                </a:lnTo>
                <a:close/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4000" rIns="144000" tIns="108000" bIns="108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rc 211"/>
          <p:cNvSpPr/>
          <p:nvPr/>
        </p:nvSpPr>
        <p:spPr>
          <a:xfrm>
            <a:off x="4957920" y="4483080"/>
            <a:ext cx="371160" cy="370080"/>
          </a:xfrm>
          <a:custGeom>
            <a:avLst/>
            <a:gdLst>
              <a:gd name="textAreaLeft" fmla="*/ 0 w 371160"/>
              <a:gd name="textAreaRight" fmla="*/ 371520 w 3711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fill="none" w="21600" h="21584">
                <a:moveTo>
                  <a:pt x="831" y="-1"/>
                </a:moveTo>
                <a:cubicBezTo>
                  <a:pt x="12428" y="446"/>
                  <a:pt x="21600" y="9977"/>
                  <a:pt x="21600" y="21584"/>
                </a:cubicBezTo>
              </a:path>
              <a:path stroke="0" w="21600" h="21584">
                <a:moveTo>
                  <a:pt x="831" y="-1"/>
                </a:moveTo>
                <a:cubicBezTo>
                  <a:pt x="12428" y="446"/>
                  <a:pt x="21600" y="9977"/>
                  <a:pt x="21600" y="21584"/>
                </a:cubicBezTo>
                <a:lnTo>
                  <a:pt x="0" y="21584"/>
                </a:lnTo>
                <a:lnTo>
                  <a:pt x="831" y="-1"/>
                </a:lnTo>
                <a:close/>
              </a:path>
            </a:pathLst>
          </a:custGeom>
          <a:noFill/>
          <a:ln w="1144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4000" rIns="144000" tIns="108000" bIns="108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212"/>
          <p:cNvSpPr/>
          <p:nvPr/>
        </p:nvSpPr>
        <p:spPr>
          <a:xfrm rot="2386200">
            <a:off x="6482880" y="3027240"/>
            <a:ext cx="371520" cy="370080"/>
          </a:xfrm>
          <a:custGeom>
            <a:avLst/>
            <a:gdLst>
              <a:gd name="textAreaLeft" fmla="*/ 0 w 371520"/>
              <a:gd name="textAreaRight" fmla="*/ 371880 w 371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fill="none" w="21600" h="21584">
                <a:moveTo>
                  <a:pt x="831" y="-1"/>
                </a:moveTo>
                <a:cubicBezTo>
                  <a:pt x="12428" y="446"/>
                  <a:pt x="21600" y="9977"/>
                  <a:pt x="21600" y="21584"/>
                </a:cubicBezTo>
              </a:path>
              <a:path stroke="0" w="21600" h="21584">
                <a:moveTo>
                  <a:pt x="831" y="-1"/>
                </a:moveTo>
                <a:cubicBezTo>
                  <a:pt x="12428" y="446"/>
                  <a:pt x="21600" y="9977"/>
                  <a:pt x="21600" y="21584"/>
                </a:cubicBezTo>
                <a:lnTo>
                  <a:pt x="0" y="21584"/>
                </a:lnTo>
                <a:lnTo>
                  <a:pt x="831" y="-1"/>
                </a:lnTo>
                <a:close/>
              </a:path>
            </a:pathLst>
          </a:custGeom>
          <a:noFill/>
          <a:ln w="1144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4000" rIns="144000" tIns="108000" bIns="108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43"/>
          <p:cNvSpPr/>
          <p:nvPr/>
        </p:nvSpPr>
        <p:spPr>
          <a:xfrm>
            <a:off x="4965840" y="2355840"/>
            <a:ext cx="1677960" cy="250200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46"/>
          <p:cNvSpPr/>
          <p:nvPr/>
        </p:nvSpPr>
        <p:spPr>
          <a:xfrm flipH="1">
            <a:off x="7643880" y="1357200"/>
            <a:ext cx="357120" cy="300060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48"/>
          <p:cNvSpPr/>
          <p:nvPr/>
        </p:nvSpPr>
        <p:spPr>
          <a:xfrm flipH="1">
            <a:off x="4929120" y="2357280"/>
            <a:ext cx="15840" cy="2500560"/>
          </a:xfrm>
          <a:prstGeom prst="line">
            <a:avLst/>
          </a:prstGeom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49"/>
          <p:cNvSpPr/>
          <p:nvPr/>
        </p:nvSpPr>
        <p:spPr>
          <a:xfrm flipH="1">
            <a:off x="6357960" y="1357200"/>
            <a:ext cx="1643040" cy="1857600"/>
          </a:xfrm>
          <a:prstGeom prst="line">
            <a:avLst/>
          </a:prstGeom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58"/>
          <p:cNvSpPr/>
          <p:nvPr/>
        </p:nvSpPr>
        <p:spPr>
          <a:xfrm flipH="1">
            <a:off x="4928760" y="4857840"/>
            <a:ext cx="1730520" cy="0"/>
          </a:xfrm>
          <a:prstGeom prst="line">
            <a:avLst/>
          </a:prstGeom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62"/>
          <p:cNvSpPr/>
          <p:nvPr/>
        </p:nvSpPr>
        <p:spPr>
          <a:xfrm flipH="1" flipV="1">
            <a:off x="6357960" y="3214440"/>
            <a:ext cx="1301760" cy="1143000"/>
          </a:xfrm>
          <a:prstGeom prst="line">
            <a:avLst/>
          </a:prstGeom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520000">
                                      <p:cBhvr>
                                        <p:cTn id="1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35 0.00115 L -0.20243 0.1706 E">
                                      <p:cBhvr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Равнобедренный треугольник 28"/>
          <p:cNvSpPr/>
          <p:nvPr/>
        </p:nvSpPr>
        <p:spPr>
          <a:xfrm>
            <a:off x="428760" y="214200"/>
            <a:ext cx="3643200" cy="4429080"/>
          </a:xfrm>
          <a:prstGeom prst="triangle">
            <a:avLst>
              <a:gd name="adj" fmla="val 50000"/>
            </a:avLst>
          </a:prstGeom>
          <a:solidFill>
            <a:srgbClr val="c3d69b">
              <a:alpha val="3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Равнобедренный треугольник 1"/>
          <p:cNvSpPr/>
          <p:nvPr/>
        </p:nvSpPr>
        <p:spPr>
          <a:xfrm>
            <a:off x="428760" y="214200"/>
            <a:ext cx="3643200" cy="4429080"/>
          </a:xfrm>
          <a:prstGeom prst="triangle">
            <a:avLst>
              <a:gd name="adj" fmla="val 50000"/>
            </a:avLst>
          </a:prstGeom>
          <a:solidFill>
            <a:srgbClr val="4f81bd">
              <a:alpha val="3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1" descr="anim092"/>
          <p:cNvPicPr/>
          <p:nvPr/>
        </p:nvPicPr>
        <p:blipFill>
          <a:blip r:embed="rId2"/>
          <a:stretch/>
        </p:blipFill>
        <p:spPr>
          <a:xfrm flipH="1" rot="19341000">
            <a:off x="538920" y="344808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1" descr="anim092"/>
          <p:cNvPicPr/>
          <p:nvPr/>
        </p:nvPicPr>
        <p:blipFill>
          <a:blip r:embed="rId3"/>
          <a:stretch/>
        </p:blipFill>
        <p:spPr>
          <a:xfrm flipH="1" rot="19658400">
            <a:off x="5408280" y="533556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8" descr="anim092"/>
          <p:cNvPicPr/>
          <p:nvPr/>
        </p:nvPicPr>
        <p:blipFill>
          <a:blip r:embed="rId4"/>
          <a:stretch/>
        </p:blipFill>
        <p:spPr>
          <a:xfrm rot="1828800">
            <a:off x="2052360" y="3389040"/>
            <a:ext cx="1800000" cy="976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8" descr="anim092"/>
          <p:cNvPicPr/>
          <p:nvPr/>
        </p:nvPicPr>
        <p:blipFill>
          <a:blip r:embed="rId5"/>
          <a:stretch/>
        </p:blipFill>
        <p:spPr>
          <a:xfrm rot="1828800">
            <a:off x="6910200" y="5317920"/>
            <a:ext cx="1800000" cy="976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2" descr="anim092"/>
          <p:cNvPicPr/>
          <p:nvPr/>
        </p:nvPicPr>
        <p:blipFill>
          <a:blip r:embed="rId6"/>
          <a:stretch/>
        </p:blipFill>
        <p:spPr>
          <a:xfrm rot="16200000">
            <a:off x="1302480" y="983520"/>
            <a:ext cx="1800000" cy="975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2" descr="anim092"/>
          <p:cNvPicPr/>
          <p:nvPr/>
        </p:nvPicPr>
        <p:blipFill>
          <a:blip r:embed="rId7"/>
          <a:stretch/>
        </p:blipFill>
        <p:spPr>
          <a:xfrm rot="16200000">
            <a:off x="6159960" y="3054600"/>
            <a:ext cx="1800360" cy="9763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1"/>
          <p:cNvSpPr/>
          <p:nvPr/>
        </p:nvSpPr>
        <p:spPr>
          <a:xfrm>
            <a:off x="142920" y="4500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2"/>
          <p:cNvSpPr/>
          <p:nvPr/>
        </p:nvSpPr>
        <p:spPr>
          <a:xfrm>
            <a:off x="1857240" y="142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3"/>
          <p:cNvSpPr/>
          <p:nvPr/>
        </p:nvSpPr>
        <p:spPr>
          <a:xfrm>
            <a:off x="4071960" y="4357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4"/>
          <p:cNvSpPr/>
          <p:nvPr/>
        </p:nvSpPr>
        <p:spPr>
          <a:xfrm>
            <a:off x="4786200" y="6286680"/>
            <a:ext cx="714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6"/>
          <p:cNvSpPr/>
          <p:nvPr/>
        </p:nvSpPr>
        <p:spPr>
          <a:xfrm>
            <a:off x="7298640" y="2000160"/>
            <a:ext cx="37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7"/>
          <p:cNvSpPr/>
          <p:nvPr/>
        </p:nvSpPr>
        <p:spPr>
          <a:xfrm>
            <a:off x="8765280" y="6072120"/>
            <a:ext cx="36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9"/>
          <p:cNvSpPr/>
          <p:nvPr/>
        </p:nvSpPr>
        <p:spPr>
          <a:xfrm>
            <a:off x="3000240" y="285840"/>
            <a:ext cx="55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mic Sans MS"/>
              </a:rPr>
              <a:t>В равных треугольниках против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равных </a:t>
            </a:r>
            <a:r>
              <a:rPr b="0" lang="ru-RU" sz="1800" spc="-1" strike="noStrike">
                <a:solidFill>
                  <a:srgbClr val="1f497d"/>
                </a:solidFill>
                <a:latin typeface="Comic Sans MS"/>
              </a:rPr>
              <a:t>углов лежат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равные </a:t>
            </a:r>
            <a:r>
              <a:rPr b="0" lang="ru-RU" sz="1800" spc="-1" strike="noStrike">
                <a:solidFill>
                  <a:srgbClr val="1f497d"/>
                </a:solidFill>
                <a:latin typeface="Comic Sans MS"/>
              </a:rPr>
              <a:t>стор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1"/>
          <p:cNvSpPr/>
          <p:nvPr/>
        </p:nvSpPr>
        <p:spPr>
          <a:xfrm>
            <a:off x="3429000" y="12142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И наоборот, против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равных </a:t>
            </a: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сторон лежат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равные</a:t>
            </a: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 у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1" descr="anim092"/>
          <p:cNvPicPr/>
          <p:nvPr/>
        </p:nvPicPr>
        <p:blipFill>
          <a:blip r:embed="rId8"/>
          <a:stretch/>
        </p:blipFill>
        <p:spPr>
          <a:xfrm flipH="1" rot="2953800">
            <a:off x="1128960" y="2440440"/>
            <a:ext cx="1800000" cy="976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1" descr="anim092"/>
          <p:cNvPicPr/>
          <p:nvPr/>
        </p:nvPicPr>
        <p:blipFill>
          <a:blip r:embed="rId9"/>
          <a:stretch/>
        </p:blipFill>
        <p:spPr>
          <a:xfrm flipH="1" rot="2953200">
            <a:off x="5844240" y="451224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8" descr="anim092"/>
          <p:cNvPicPr/>
          <p:nvPr/>
        </p:nvPicPr>
        <p:blipFill>
          <a:blip r:embed="rId10"/>
          <a:stretch/>
        </p:blipFill>
        <p:spPr>
          <a:xfrm rot="18763800">
            <a:off x="1569240" y="257508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8" descr="anim092"/>
          <p:cNvPicPr/>
          <p:nvPr/>
        </p:nvPicPr>
        <p:blipFill>
          <a:blip r:embed="rId11"/>
          <a:stretch/>
        </p:blipFill>
        <p:spPr>
          <a:xfrm rot="18763800">
            <a:off x="6641280" y="428976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2" descr="anim092"/>
          <p:cNvPicPr/>
          <p:nvPr/>
        </p:nvPicPr>
        <p:blipFill>
          <a:blip r:embed="rId12"/>
          <a:stretch/>
        </p:blipFill>
        <p:spPr>
          <a:xfrm rot="4974000">
            <a:off x="1338840" y="332316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2" descr="anim092"/>
          <p:cNvPicPr/>
          <p:nvPr/>
        </p:nvPicPr>
        <p:blipFill>
          <a:blip r:embed="rId13"/>
          <a:stretch/>
        </p:blipFill>
        <p:spPr>
          <a:xfrm rot="4974000">
            <a:off x="6196680" y="5109120"/>
            <a:ext cx="18003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28406E-006 C 0.22118 0.11312 0.44253 0.22624 0.53107 0.27157 E">
                                      <p:cBhvr>
                                        <p:cTn id="32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357120" y="221472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alibri"/>
              </a:rPr>
              <a:t>Если </a:t>
            </a:r>
            <a:r>
              <a:rPr b="0" lang="ru-RU" sz="1800" spc="-1" strike="noStrike">
                <a:solidFill>
                  <a:srgbClr val="ff00ff"/>
                </a:solidFill>
                <a:latin typeface="Calibri"/>
              </a:rPr>
              <a:t>две стороны и угол между ними</a:t>
            </a:r>
            <a:r>
              <a:rPr b="0" lang="ru-RU" sz="1800" spc="-1" strike="noStrike">
                <a:solidFill>
                  <a:srgbClr val="3333ff"/>
                </a:solidFill>
                <a:latin typeface="Calibri"/>
              </a:rPr>
              <a:t> одного треугольника соответственно равны двум сторонам и углу между ними другого треугольника, то такие треугольники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468360" y="1197000"/>
            <a:ext cx="2519280" cy="503280"/>
          </a:xfrm>
          <a:prstGeom prst="triangle">
            <a:avLst>
              <a:gd name="adj" fmla="val 50000"/>
            </a:avLst>
          </a:prstGeom>
          <a:solidFill>
            <a:srgbClr val="ff00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3708360" y="1197000"/>
            <a:ext cx="2519280" cy="503280"/>
          </a:xfrm>
          <a:prstGeom prst="triangle">
            <a:avLst>
              <a:gd name="adj" fmla="val 50000"/>
            </a:avLst>
          </a:prstGeom>
          <a:solidFill>
            <a:srgbClr val="ff00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 flipV="1">
            <a:off x="468360" y="1197000"/>
            <a:ext cx="1295280" cy="5032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 flipV="1">
            <a:off x="3708360" y="1197000"/>
            <a:ext cx="1224000" cy="5032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468360" y="1700280"/>
            <a:ext cx="251928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3708360" y="1700280"/>
            <a:ext cx="251928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12"/>
          <p:cNvSpPr/>
          <p:nvPr/>
        </p:nvSpPr>
        <p:spPr>
          <a:xfrm>
            <a:off x="1042920" y="1484280"/>
            <a:ext cx="144360" cy="216000"/>
          </a:xfrm>
          <a:custGeom>
            <a:avLst/>
            <a:gdLst>
              <a:gd name="textAreaLeft" fmla="*/ 0 w 144360"/>
              <a:gd name="textAreaRight" fmla="*/ 14436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13"/>
          <p:cNvSpPr/>
          <p:nvPr/>
        </p:nvSpPr>
        <p:spPr>
          <a:xfrm>
            <a:off x="4211640" y="1484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8"/>
          <p:cNvSpPr/>
          <p:nvPr/>
        </p:nvSpPr>
        <p:spPr>
          <a:xfrm>
            <a:off x="285840" y="42876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Первый признак равенства 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4"/>
          <p:cNvGrpSpPr/>
          <p:nvPr/>
        </p:nvGrpSpPr>
        <p:grpSpPr>
          <a:xfrm>
            <a:off x="4214880" y="1214280"/>
            <a:ext cx="1700280" cy="1285920"/>
            <a:chOff x="4214880" y="1214280"/>
            <a:chExt cx="1700280" cy="1285920"/>
          </a:xfrm>
        </p:grpSpPr>
        <p:sp>
          <p:nvSpPr>
            <p:cNvPr id="272" name="Freeform 5"/>
            <p:cNvSpPr/>
            <p:nvPr/>
          </p:nvSpPr>
          <p:spPr>
            <a:xfrm>
              <a:off x="4214880" y="1737720"/>
              <a:ext cx="906120" cy="762120"/>
            </a:xfrm>
            <a:custGeom>
              <a:avLst/>
              <a:gdLst>
                <a:gd name="textAreaLeft" fmla="*/ 0 w 906120"/>
                <a:gd name="textAreaRight" fmla="*/ 906480 w 906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4214880" y="1214280"/>
              <a:ext cx="1700280" cy="1285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3"/>
          <p:cNvGrpSpPr/>
          <p:nvPr/>
        </p:nvGrpSpPr>
        <p:grpSpPr>
          <a:xfrm>
            <a:off x="428760" y="428760"/>
            <a:ext cx="2156400" cy="831600"/>
            <a:chOff x="428760" y="428760"/>
            <a:chExt cx="2156400" cy="831600"/>
          </a:xfrm>
        </p:grpSpPr>
        <p:sp>
          <p:nvSpPr>
            <p:cNvPr id="275" name="Text Box 25"/>
            <p:cNvSpPr/>
            <p:nvPr/>
          </p:nvSpPr>
          <p:spPr>
            <a:xfrm>
              <a:off x="428760" y="428760"/>
              <a:ext cx="18360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6"/>
            <p:cNvGrpSpPr/>
            <p:nvPr/>
          </p:nvGrpSpPr>
          <p:grpSpPr>
            <a:xfrm>
              <a:off x="428760" y="750240"/>
              <a:ext cx="1058040" cy="459720"/>
              <a:chOff x="428760" y="750240"/>
              <a:chExt cx="1058040" cy="459720"/>
            </a:xfrm>
          </p:grpSpPr>
          <mc:AlternateContent>
            <mc:Choice xmlns:a14="http://schemas.microsoft.com/office/drawing/2010/main" Requires="a14">
              <p:sp>
                <p:nvSpPr>
                  <p:cNvPr id="277" name="Object 3"/>
                  <p:cNvSpPr txBox="1"/>
                  <p:nvPr/>
                </p:nvSpPr>
                <p:spPr>
                  <a:xfrm>
                    <a:off x="428760" y="803520"/>
                    <a:ext cx="369000" cy="267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8" name="Text Box 28"/>
              <p:cNvSpPr/>
              <p:nvPr/>
            </p:nvSpPr>
            <p:spPr>
              <a:xfrm>
                <a:off x="723960" y="750240"/>
                <a:ext cx="76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29"/>
            <p:cNvGrpSpPr/>
            <p:nvPr/>
          </p:nvGrpSpPr>
          <p:grpSpPr>
            <a:xfrm>
              <a:off x="1369080" y="750240"/>
              <a:ext cx="1216080" cy="510120"/>
              <a:chOff x="1369080" y="750240"/>
              <a:chExt cx="1216080" cy="510120"/>
            </a:xfrm>
          </p:grpSpPr>
          <mc:AlternateContent>
            <mc:Choice xmlns:a14="http://schemas.microsoft.com/office/drawing/2010/main" Requires="a14">
              <p:sp>
                <p:nvSpPr>
                  <p:cNvPr id="280" name="Object 4"/>
                  <p:cNvSpPr txBox="1"/>
                  <p:nvPr/>
                </p:nvSpPr>
                <p:spPr>
                  <a:xfrm>
                    <a:off x="1369080" y="803520"/>
                    <a:ext cx="303480" cy="2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1" name="Text Box 31"/>
              <p:cNvSpPr/>
              <p:nvPr/>
            </p:nvSpPr>
            <p:spPr>
              <a:xfrm>
                <a:off x="1552320" y="750240"/>
                <a:ext cx="1032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Calibri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Calibri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Calibri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Box 17"/>
          <p:cNvSpPr/>
          <p:nvPr/>
        </p:nvSpPr>
        <p:spPr>
          <a:xfrm>
            <a:off x="714240" y="300024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а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428760" y="3500280"/>
                <a:ext cx="3650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 Box 28"/>
          <p:cNvSpPr/>
          <p:nvPr/>
        </p:nvSpPr>
        <p:spPr>
          <a:xfrm>
            <a:off x="646560" y="3429000"/>
            <a:ext cx="8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1357200" y="3500280"/>
                <a:ext cx="3142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Text Box 31"/>
          <p:cNvSpPr/>
          <p:nvPr/>
        </p:nvSpPr>
        <p:spPr>
          <a:xfrm>
            <a:off x="1532160" y="3429000"/>
            <a:ext cx="103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2"/>
          <p:cNvSpPr/>
          <p:nvPr/>
        </p:nvSpPr>
        <p:spPr>
          <a:xfrm>
            <a:off x="5429160" y="2858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аз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3857760" y="2214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0"/>
          <p:cNvSpPr/>
          <p:nvPr/>
        </p:nvSpPr>
        <p:spPr>
          <a:xfrm>
            <a:off x="5000760" y="9288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1"/>
          <p:cNvSpPr/>
          <p:nvPr/>
        </p:nvSpPr>
        <p:spPr>
          <a:xfrm>
            <a:off x="5857920" y="2214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2"/>
          <p:cNvSpPr/>
          <p:nvPr/>
        </p:nvSpPr>
        <p:spPr>
          <a:xfrm>
            <a:off x="6286680" y="2214720"/>
            <a:ext cx="5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3"/>
          <p:cNvSpPr/>
          <p:nvPr/>
        </p:nvSpPr>
        <p:spPr>
          <a:xfrm>
            <a:off x="7715160" y="928800"/>
            <a:ext cx="57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4"/>
          <p:cNvSpPr/>
          <p:nvPr/>
        </p:nvSpPr>
        <p:spPr>
          <a:xfrm>
            <a:off x="8429760" y="2286000"/>
            <a:ext cx="5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6643800" y="1214280"/>
            <a:ext cx="1700280" cy="1285920"/>
            <a:chOff x="6643800" y="1214280"/>
            <a:chExt cx="1700280" cy="1285920"/>
          </a:xfrm>
        </p:grpSpPr>
        <p:sp>
          <p:nvSpPr>
            <p:cNvPr id="295" name="Freeform 5"/>
            <p:cNvSpPr/>
            <p:nvPr/>
          </p:nvSpPr>
          <p:spPr>
            <a:xfrm>
              <a:off x="6643800" y="1737720"/>
              <a:ext cx="906120" cy="762120"/>
            </a:xfrm>
            <a:custGeom>
              <a:avLst/>
              <a:gdLst>
                <a:gd name="textAreaLeft" fmla="*/ 0 w 906120"/>
                <a:gd name="textAreaRight" fmla="*/ 906480 w 906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6"/>
            <p:cNvSpPr/>
            <p:nvPr/>
          </p:nvSpPr>
          <p:spPr>
            <a:xfrm>
              <a:off x="6643800" y="1214280"/>
              <a:ext cx="1700280" cy="1285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38"/>
          <p:cNvSpPr/>
          <p:nvPr/>
        </p:nvSpPr>
        <p:spPr>
          <a:xfrm>
            <a:off x="3929040" y="2857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.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9"/>
              <p:cNvSpPr txBox="1"/>
              <p:nvPr/>
            </p:nvSpPr>
            <p:spPr>
              <a:xfrm>
                <a:off x="4357800" y="2857680"/>
                <a:ext cx="12859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TextBox 47"/>
          <p:cNvSpPr/>
          <p:nvPr/>
        </p:nvSpPr>
        <p:spPr>
          <a:xfrm>
            <a:off x="5643720" y="285768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то накладываем ∆АВС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₁В₁С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500040" y="1214280"/>
                <a:ext cx="18097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В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А</m:t>
                        </m:r>
                        <m:r>
                          <m:t xml:space="preserve">1</m:t>
                        </m:r>
                        <m:r>
                          <m:t xml:space="preserve">С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2" name="Прямоугольник 49"/>
          <p:cNvSpPr/>
          <p:nvPr/>
        </p:nvSpPr>
        <p:spPr>
          <a:xfrm>
            <a:off x="647280" y="28584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51"/>
          <p:cNvSpPr/>
          <p:nvPr/>
        </p:nvSpPr>
        <p:spPr>
          <a:xfrm flipV="1">
            <a:off x="4214880" y="1214280"/>
            <a:ext cx="1071360" cy="1285920"/>
          </a:xfrm>
          <a:prstGeom prst="line">
            <a:avLst/>
          </a:prstGeom>
          <a:ln w="44280">
            <a:solidFill>
              <a:srgbClr val="e527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56"/>
          <p:cNvSpPr/>
          <p:nvPr/>
        </p:nvSpPr>
        <p:spPr>
          <a:xfrm flipV="1">
            <a:off x="6643800" y="1214280"/>
            <a:ext cx="1071360" cy="1285920"/>
          </a:xfrm>
          <a:prstGeom prst="line">
            <a:avLst/>
          </a:prstGeom>
          <a:ln w="44280">
            <a:solidFill>
              <a:srgbClr val="e527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60"/>
          <p:cNvSpPr/>
          <p:nvPr/>
        </p:nvSpPr>
        <p:spPr>
          <a:xfrm flipV="1">
            <a:off x="4214880" y="2459160"/>
            <a:ext cx="1714320" cy="41040"/>
          </a:xfrm>
          <a:prstGeom prst="line">
            <a:avLst/>
          </a:prstGeom>
          <a:ln w="44280">
            <a:solidFill>
              <a:srgbClr val="92dc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63"/>
          <p:cNvSpPr/>
          <p:nvPr/>
        </p:nvSpPr>
        <p:spPr>
          <a:xfrm>
            <a:off x="6643080" y="2500200"/>
            <a:ext cx="1700280" cy="0"/>
          </a:xfrm>
          <a:prstGeom prst="line">
            <a:avLst/>
          </a:prstGeom>
          <a:ln w="44280">
            <a:solidFill>
              <a:srgbClr val="92dc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7"/>
          <p:cNvSpPr/>
          <p:nvPr/>
        </p:nvSpPr>
        <p:spPr>
          <a:xfrm>
            <a:off x="3500280" y="3429000"/>
            <a:ext cx="550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шина А совместится с вершиной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69"/>
          <p:cNvSpPr/>
          <p:nvPr/>
        </p:nvSpPr>
        <p:spPr>
          <a:xfrm>
            <a:off x="4071960" y="4357800"/>
            <a:ext cx="4572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 как АС=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то сторона АВ совместится со стороной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а сторона АС –со стороной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Значит, совместятся точки В и 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С и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70"/>
          <p:cNvSpPr/>
          <p:nvPr/>
        </p:nvSpPr>
        <p:spPr>
          <a:xfrm>
            <a:off x="3500280" y="5214960"/>
            <a:ext cx="4572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овательно, совместятся стороны ВС и 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Итак, треугольники АВС и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лностью совместятся, значит, они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74"/>
          <p:cNvSpPr/>
          <p:nvPr/>
        </p:nvSpPr>
        <p:spPr>
          <a:xfrm>
            <a:off x="7714440" y="1214280"/>
            <a:ext cx="628920" cy="1285920"/>
          </a:xfrm>
          <a:prstGeom prst="line">
            <a:avLst/>
          </a:prstGeom>
          <a:ln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88"/>
          <p:cNvSpPr/>
          <p:nvPr/>
        </p:nvSpPr>
        <p:spPr>
          <a:xfrm>
            <a:off x="3571920" y="3714840"/>
            <a:ext cx="457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стороны АВ и АС наложатся соответственно на лучи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9"/>
          <p:cNvSpPr/>
          <p:nvPr/>
        </p:nvSpPr>
        <p:spPr>
          <a:xfrm>
            <a:off x="2857680" y="3071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0.2691 -0.00185 E">
                                      <p:cBhvr>
                                        <p:cTn id="647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29097 0.03472 E">
                                      <p:cBhvr>
                                        <p:cTn id="65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38 -0.12754 L 0.26407 -0.00162 E">
                                      <p:cBhvr>
                                        <p:cTn id="662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1898 L 0.26041 0.00209 E">
                                      <p:cBhvr>
                                        <p:cTn id="664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185 L 0.2448 0.01227 E">
                                      <p:cBhvr>
                                        <p:cTn id="671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0.25191 0.03148 E">
                                      <p:cBhvr>
                                        <p:cTn id="674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1:27Z</dcterms:created>
  <dc:creator>Admin</dc:creator>
  <dc:description/>
  <dc:language>en-US</dc:language>
  <cp:lastModifiedBy>Оля</cp:lastModifiedBy>
  <dcterms:modified xsi:type="dcterms:W3CDTF">2015-01-16T17:55:12Z</dcterms:modified>
  <cp:revision>53</cp:revision>
  <dc:subject/>
  <dc:title>Слайд 1</dc:title>
</cp:coreProperties>
</file>