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DB5-AE13-4147-AABC-40C8B901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062-1ECC-48A5-A6B1-8909929F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F2C-C423-4E53-A8B3-487984C7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4C5-96DF-4714-8CB2-35F2D6EE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566C-2AD8-40CB-8977-278D20DF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B74F-9053-4829-9307-95F83356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61F9-7B38-453F-8FF1-3D9882BD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A33F-6962-4692-9E0D-5CFE2E44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B68E-23B3-4AA5-ADA5-B9AECFBF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9EE2-7084-4AFB-8907-153155BD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9D28-E22D-44F8-9DBC-C0EFA106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92F-1163-4EFC-A778-6A23C7F7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8AC6-3014-4542-B3A3-29CCEE1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E998-5CFF-44C4-81C6-95F9C862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7310-CB9B-4E92-A2DC-AACBD468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4476-90B6-4C77-B41E-662AE7F8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F282-0BC3-4BEE-9540-5A2A9FB4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D41-93D7-44AE-99D6-10AB936D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7E6-44BB-4159-BF11-5932C402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3EB-7CBC-4430-956D-83AEFAA7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6DB-6FA9-475E-8AD5-EB1594A7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B79-6BBB-49C5-ADB6-62182B20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3CFD-366B-4D25-A1F4-A09753B5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F86-E9CB-413E-BDAD-8653FD9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DF1D-D070-4919-BBC9-DB224B5093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BD03-74EA-43AE-B882-99690A42A7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А всегда ли планета Земля была круглой?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0" y="350496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ца 4 «Б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мх Дар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Ещё одно представление о Земл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03-003-Predstavlenija-drevnikh-indijtsev"/>
          <p:cNvPicPr/>
          <p:nvPr/>
        </p:nvPicPr>
        <p:blipFill>
          <a:blip r:embed="rId1"/>
          <a:stretch/>
        </p:blipFill>
        <p:spPr>
          <a:xfrm>
            <a:off x="2514600" y="1600200"/>
            <a:ext cx="6629400" cy="46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то 1 предположил что Земля круглая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фагор еще в античности предположил, а Галилей до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44197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Гипотеза 1: Возможно нет, не кругла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гипотеза неверная, так как всем давно известно, что Земля кругл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ипотеза 2: Предположим да, она кругла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гипотеза действительно правильная. Нынешний глобус круглый. Значит она ве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ипотеза 3: Что если она и сейчас не кругла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йчас Земля круглая и все это знают. Гипотеза оказалась неве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оя творческая работ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449604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62320" y="114300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мы знаем, что Земля была, есть и будет круглой. И поэтому уже не возникает ни каких сомнений о том что Земля когда-то была плос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6095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ть как древние представляли себе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снить как и какие народы представляли себе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ть кто 1 предположил, что Земля кругл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ипотез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можно нет, не кругл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ожим да, она кругл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если Земля и сейчас не кругл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лан исследо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умать самостоя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мотреть в кни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сти 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титься к телевидению и сети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делать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ставить материал к защ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то я знаю об этом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600" y="13712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естно всем что Земля круглая. Я тоже склоняюсь к тому что Земля шарообраз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ие учёные из разных уголков мира такие как: Пифагор, Галилей, Аристотель и Коперник доказывали факт шарообразност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Из книг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2193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 Земля не шар, а плоский, продолговатый от востока к западу четырехугольник, покрытый небом, как сводчатой крышей; по краям возвышаются отвесные стены, и край Земли сходится с краем небес. Небо-крыша мира. В мире, как и в каждом доме, под крышей устроен потолок. Это-твердь. Она  разделяет пространство на две части: на нижнюю, где находится Земля, Солнце, Луна и где обитают животные, люди, ангелы, и верхнюю, именуемую царствием небесным. Здесь хранятся запасы воды, которая налита в этом чердаке прямо поверх тверди. Плоская Земля разделяется на две части морем, которое называют Океаном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ожу опрос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5640" y="1752120"/>
            <a:ext cx="6629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спросила: «Всегда ли планета Земля была круглой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па: Да, она кругл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ма: Да, она шарообраз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бушка: 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душка: Да, это известно вс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бушка: Да, учёные это доказ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уга Ксюша: Да, мы это изуч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уга Даша: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едставление о Земле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luton</cp:lastModifiedBy>
  <dcterms:modified xsi:type="dcterms:W3CDTF">2014-02-20T17:00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