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53B6-9424-4295-B659-D3C90D87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665-E405-46BF-BC43-ACFA057A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39B2-1F4E-401F-823F-5AF6231C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029-A5C2-445B-81A8-C9CFF9BE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8B89-3E7C-49B0-828B-328D9BE3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8423-9D2F-41DC-BEA7-0E6A91F3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378A-DEB8-4997-9E0C-AE2F7873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E762-9C55-43B1-ACA6-C573422F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D3A9-0B02-475D-A371-46D66BD5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0DE3-CEFC-48FE-9D40-386CD534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1B9B-1ABC-4B5F-B47A-947C964B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1BB3-5BA2-460D-BFB8-DB76C3D5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AB0E-EE50-4E8C-9B6B-29C70792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9B40-B6C2-444F-BF4E-8EA21E69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A34F-4AF6-4C92-9337-38D822D2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EEF1-1D61-4310-B49E-754B5733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E978-04E9-4223-A171-04880979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2CC2-DF36-4DF5-9BE5-AB055314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BA82-6014-4BA1-979E-858C7FCB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4C06-A922-4BEB-A5C1-F92D4854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5C2B-3AD4-4B39-B0DF-50AC20D1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7FC-FA1A-413F-A5C9-0873A33A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6DAC-A861-4BC0-99D1-799FFD12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2CFC-9219-4F1C-B50F-B437E101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404F-F12C-4374-AFB2-6CD9C506EA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7395-2E6A-4288-BB9A-6386EB7068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6985080" cy="1584360"/>
          </a:xfrm>
          <a:prstGeom prst="rect">
            <a:avLst/>
          </a:prstGeom>
          <a:solidFill>
            <a:srgbClr val="008080"/>
          </a:solidFill>
          <a:ln w="57240">
            <a:solidFill>
              <a:srgbClr val="000000"/>
            </a:solidFill>
            <a:miter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ПРОДУКТЫ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68360" y="2781360"/>
            <a:ext cx="8207280" cy="1224000"/>
          </a:xfrm>
          <a:prstGeom prst="rect">
            <a:avLst/>
          </a:prstGeom>
          <a:solidFill>
            <a:srgbClr val="008080"/>
          </a:solidFill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omic Sans MS"/>
              </a:rPr>
              <a:t>Местоимения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800" spc="-1" strike="noStrike">
                <a:solidFill>
                  <a:srgbClr val="800080"/>
                </a:solidFill>
                <a:latin typeface="Comic Sans MS"/>
              </a:rPr>
              <a:t>some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Comic Sans MS"/>
              </a:rPr>
              <a:t>и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800" spc="-1" strike="noStrike">
                <a:solidFill>
                  <a:srgbClr val="800080"/>
                </a:solidFill>
                <a:latin typeface="Comic Sans MS"/>
              </a:rPr>
              <a:t>any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459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519120" y="981000"/>
            <a:ext cx="8229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0" lang="en-US" sz="5400" spc="-1" strike="noStrike" u="sng">
                <a:solidFill>
                  <a:srgbClr val="800080"/>
                </a:solidFill>
                <a:uFillTx/>
                <a:latin typeface="Arial"/>
              </a:rPr>
              <a:t>som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coffe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o you have </a:t>
            </a:r>
            <a:r>
              <a:rPr b="0" lang="en-US" sz="5400" spc="-1" strike="noStrike" u="sng">
                <a:solidFill>
                  <a:srgbClr val="800080"/>
                </a:solidFill>
                <a:uFillTx/>
                <a:latin typeface="Arial"/>
              </a:rPr>
              <a:t>any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coffee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don’t have </a:t>
            </a:r>
            <a:r>
              <a:rPr b="0" lang="en-US" sz="5400" spc="-1" strike="noStrike" u="sng">
                <a:solidFill>
                  <a:srgbClr val="800080"/>
                </a:solidFill>
                <a:uFillTx/>
                <a:latin typeface="Arial"/>
              </a:rPr>
              <a:t>any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coffe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8080"/>
                </a:solidFill>
                <a:uFillTx/>
                <a:latin typeface="Comic Sans MS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сколько, какое-то количеств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потребляется в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Comic Sans MS"/>
              </a:rPr>
              <a:t>утвердительных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дложения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hav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riends.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 меня есть несколько друз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hav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offee. –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 меня есть (какое-то количество) коф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21000"/>
            <a:ext cx="80755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–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колько-нибудь, какой-нибудь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86868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стоимени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600" spc="-1" strike="noStrike" u="sng">
                <a:solidFill>
                  <a:srgbClr val="00b200"/>
                </a:solidFill>
                <a:uFillTx/>
                <a:latin typeface="Comic Sans MS"/>
              </a:rPr>
              <a:t>any</a:t>
            </a:r>
            <a:r>
              <a:rPr b="1" lang="ru-RU" sz="3600" spc="-1" strike="noStrike">
                <a:solidFill>
                  <a:srgbClr val="00b2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отребляется в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Comic Sans MS"/>
              </a:rPr>
              <a:t>вопросительных и отрицательны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едложения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Comic Sans MS"/>
              </a:rPr>
              <a:t>вопросительны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едложениях </a:t>
            </a:r>
            <a:r>
              <a:rPr b="1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Any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водит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50920" y="2924280"/>
            <a:ext cx="86421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you hav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n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ooks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тебя есть (какие-нибудь) книг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you hav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n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ffee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вас есть (сколько-нибудь) коф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Comic Sans MS"/>
              </a:rPr>
              <a:t>отрицательны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едложениях местоимение 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водится как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икако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don’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have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any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iends. 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меня нет (никаких) друз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don’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have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an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coffee. –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мня нет (никакого) коф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есколько, какое-то количество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 употребляется в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утвердительных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ложения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4920" y="1828800"/>
            <a:ext cx="79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отребляется в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вопросительны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отрицательны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едложения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0" lang="ru-RU" sz="2400" spc="-1" strike="noStrike">
                <a:solidFill>
                  <a:srgbClr val="cc3399"/>
                </a:solidFill>
                <a:latin typeface="Comic Sans MS"/>
              </a:rPr>
              <a:t>вопросительны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едложениях </a:t>
            </a: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водится как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колько-нибудь, какой-нибуд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0" lang="ru-RU" sz="2400" spc="-1" strike="noStrike">
                <a:solidFill>
                  <a:srgbClr val="cc3399"/>
                </a:solidFill>
                <a:latin typeface="Comic Sans MS"/>
              </a:rPr>
              <a:t>отрицательны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едложениях </a:t>
            </a: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водится как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икако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да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62064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ve we go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pples in the fridg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) some  b) any  c) 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want to make 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cak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) some  b) any  c)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need . 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 . sal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) some  b) any  c) 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haven’t got . 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 .eg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) some  b) any  c)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isn’t . 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y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.cheese in the fridg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) some  b) any  c) 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ease give me . 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m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.app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) some     b) a      c) an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500" autoRev="1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63" dur="500" autoRev="1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64" dur="500" autoRev="1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500" autoRev="1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77" dur="500" autoRev="1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78" dur="500" autoRev="1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3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500" autoRev="1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91" dur="500" autoRev="1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92" dur="500" autoRev="1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7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0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500" autoRev="1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05" dur="500" autoRev="1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06" dur="500" autoRev="1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4" dur="10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5" dur="10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8" dur="10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500" autoRev="1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33" dur="500" autoRev="1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34" dur="500" autoRev="1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696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he end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Good – bye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тор: учитель английского языка МОАУ СОШ №2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Comic Sans MS"/>
              </a:rPr>
              <a:t>Шубникова Алёна Владимиров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2:53:48Z</dcterms:created>
  <dc:creator>Оксана</dc:creator>
  <dc:description/>
  <dc:language>en-US</dc:language>
  <cp:lastModifiedBy>Valued Acer Customer</cp:lastModifiedBy>
  <dcterms:modified xsi:type="dcterms:W3CDTF">2015-01-16T06:10:39Z</dcterms:modified>
  <cp:revision>16</cp:revision>
  <dc:subject/>
  <dc:title>ПРОДУКТЫ</dc:title>
</cp:coreProperties>
</file>