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media/image11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0EE5A-8BE6-45BC-B964-0CE66645D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191C2-7D0E-4AA7-A6A3-CAB2255C4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BB3CB-C758-4750-80D9-5219C870E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9D755-1BBC-43BD-A3B7-18BB1C933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E3726-6755-4DC9-A926-87EFC143E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86021-79D1-4B90-88C7-B84ABF49E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59099-D033-432C-AF37-065EC493B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CCC2C-5D00-4846-836E-029A5661B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49EBE-5EB7-4299-908C-F68D8F306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7CD0B-68CC-45FA-BAE3-A1BC34C9E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22B60-D212-442D-AE4A-1CE5E33A8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7A53C-3AD3-4B14-96EF-46478FE99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1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A8F68-C3C7-490A-8822-BFB8F4B6642B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E7175-FF12-466C-865A-22863515BB4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images.yandex.ru/search%3Fp=0&amp;text=&#1089;&#1077;&#1088;&#1076;&#1094;&#1077;%20&#1082;&#1072;&#1088;&#1090;&#1080;&#1085;&#1082;&#1080;&amp;spsite=fake-020-807634.ru&amp;img_url=i35.mindmix.ru%2F98%2F23%2F132398%2F20%2F2498820%2Fkardiogramma.jpeg&amp;rpt=simage" TargetMode="Externa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1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1084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0000"/>
                </a:solidFill>
                <a:latin typeface="Monotype Corsiva"/>
              </a:rPr>
              <a:t> </a:t>
            </a:r>
            <a:r>
              <a:rPr b="0" lang="ru-RU" sz="9600" spc="-1" strike="noStrike">
                <a:solidFill>
                  <a:srgbClr val="cc0000"/>
                </a:solidFill>
                <a:latin typeface="Monotype Corsiva"/>
              </a:rPr>
              <a:t>   </a:t>
            </a:r>
            <a:r>
              <a:rPr b="1" lang="ru-RU" sz="9600" spc="-1" strike="noStrike">
                <a:solidFill>
                  <a:srgbClr val="cc0000"/>
                </a:solidFill>
                <a:latin typeface="Monotype Corsiva"/>
              </a:rPr>
              <a:t>Работа </a:t>
            </a:r>
            <a:br>
              <a:rPr sz="7200"/>
            </a:br>
            <a:r>
              <a:rPr b="1" lang="en-US" sz="9600" spc="-1" strike="noStrike">
                <a:solidFill>
                  <a:srgbClr val="cc0000"/>
                </a:solidFill>
                <a:latin typeface="Monotype Corsiva"/>
              </a:rPr>
              <a:t>             </a:t>
            </a:r>
            <a:r>
              <a:rPr b="1" lang="ru-RU" sz="9600" spc="-1" strike="noStrike">
                <a:solidFill>
                  <a:srgbClr val="cc0000"/>
                </a:solidFill>
                <a:latin typeface="Monotype Corsiva"/>
              </a:rPr>
              <a:t>    сердца.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419360" y="4114440"/>
            <a:ext cx="4724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Рабочий материал по биологии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для учащихся 8 класс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Учитель Кесаева Л.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 rot="20657400">
            <a:off x="609480" y="1828440"/>
            <a:ext cx="3657600" cy="3962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CC844-CE3C-40D4-B7ED-5516393F816C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02C361-4773-49C9-BD3D-24A1DABF9BA9}" type="datetime1">
              <a:rPr lang="en-US"/>
              <a:t>07/31/26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1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 человека обмен веществ стоит не на высоком уровн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 мелких  теплокровных он значительно выше, т.е. интенсивн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 значит сердце должно работать более энергично, чем у челове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 а к т 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…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685800" y="2514600"/>
            <a:ext cx="2203560" cy="25146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3276720" y="2514600"/>
            <a:ext cx="2144520" cy="25146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6324480" y="2514600"/>
            <a:ext cx="2057400" cy="2178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228600" y="5181480"/>
            <a:ext cx="28195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и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ес тела-150 тонн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ердце сокращается 7 раз в минуту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276720" y="5181480"/>
            <a:ext cx="22096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лон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ес тела-3 тонн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ердце сокращается 46 раз в минуту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019920" y="5029200"/>
            <a:ext cx="27432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иничка-московк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ес тела-8 грамм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ердце сокращается 1200 раз в минуту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05509-4677-40BB-9A97-33C0C198B3FE}" type="slidenum">
              <a:t>1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053C77-FF7E-4653-8AB1-A7B346E0E9F8}" type="datetime1">
              <a:rPr lang="en-US"/>
              <a:t>07/31/26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1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338040"/>
            <a:ext cx="7162920" cy="88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Регуляция работы сердца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914400" y="1828800"/>
            <a:ext cx="7238880" cy="4327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53A12-F877-4C41-961E-9E16F73D2055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7DE422-92B7-4E3C-BC1A-6570E5274D3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1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04920" y="380880"/>
            <a:ext cx="8610480" cy="5715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9F907-B8D2-4E7B-9BE2-B4F4583D306A}" type="slidenum">
              <a:t>1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9A0A19-2BFE-4A15-AD41-53E0F3FD141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1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534160" cy="475128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6765840" y="646200"/>
            <a:ext cx="2225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80880" y="264240"/>
            <a:ext cx="853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c1c1c"/>
                </a:solidFill>
                <a:latin typeface="Arial"/>
              </a:rPr>
              <a:t>Электрокардиограмма здорового человек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3F2ED-7AE5-4C3E-80CC-B126EBAF7FE5}" type="slidenum">
              <a:t>1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0B0C82-E792-470C-92CD-73B50AAEC1B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ВЫВОД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24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ru-RU" sz="1800" spc="-1" strike="noStrike">
                <a:solidFill>
                  <a:srgbClr val="292929"/>
                </a:solidFill>
                <a:latin typeface="Arial"/>
              </a:rPr>
              <a:t>Сердце работает ритмично. Цикл состоит из трех фаз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водящая система сердца обеспечивает ритм рабо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ердца – сердечный цик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рвная и гуморальная регуляция обеспечиваю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способление работы сердца к условиям окружающ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ред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лияние факторов окружающей среды на сердц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трицательно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влияют на сердце никотин,алкоголь,психотропные вещества, но больно ранят сердце грубые слова, зло, несправедливость. И как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ложительно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сказывается на сердце доброе слово, улыбка, хорошее настроение, чуткое внимательное отношение, т.е. положительные эмоции.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3AB71-0203-423D-99CC-41A0EC730E20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7FA9F3-627E-412B-8CAA-463BF72176E6}" type="datetime1">
              <a:rPr lang="en-US"/>
              <a:t>07/31/2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1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304920" y="152280"/>
            <a:ext cx="861048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Arial"/>
              </a:rPr>
              <a:t>                 </a:t>
            </a:r>
            <a:r>
              <a:rPr b="0" lang="ru-RU" sz="2000" spc="-1" strike="noStrike">
                <a:solidFill>
                  <a:srgbClr val="1c1c1c"/>
                </a:solidFill>
                <a:latin typeface="Arial"/>
              </a:rPr>
              <a:t>Нет такого органа, который был бы изучен так же хорошо, как </a:t>
            </a:r>
            <a:r>
              <a:rPr b="1" lang="ru-RU" sz="2000" spc="-1" strike="noStrike">
                <a:solidFill>
                  <a:srgbClr val="1c1c1c"/>
                </a:solidFill>
                <a:latin typeface="Arial"/>
              </a:rPr>
              <a:t>сердце,</a:t>
            </a:r>
            <a:r>
              <a:rPr b="0" lang="ru-RU" sz="2000" spc="-1" strike="noStrike">
                <a:solidFill>
                  <a:srgbClr val="1c1c1c"/>
                </a:solidFill>
                <a:latin typeface="Arial"/>
              </a:rPr>
              <a:t> но оно всё ещё таит в себе удивительные загадки, не решенные и по сей день. Во все века сердце было в почете у поэтов, мыслителей, врачей. Сколько стихов, поэм, песен написано о нем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Что такое сердце? Камень твердый?</a:t>
            </a:r>
            <a:br>
              <a:rPr sz="2200"/>
            </a:b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                     Яблоко с багрово-красной кожей?</a:t>
            </a:r>
            <a:br>
              <a:rPr sz="2200"/>
            </a:b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                     Может быть, меж ребер и аортой</a:t>
            </a:r>
            <a:br>
              <a:rPr sz="2200"/>
            </a:b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                     Бьется шар, на шар земной похожий?</a:t>
            </a:r>
            <a:br>
              <a:rPr sz="2200"/>
            </a:b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                     Так или иначе, все земное</a:t>
            </a:r>
            <a:br>
              <a:rPr sz="2200"/>
            </a:b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                     Умещается в его пределы,</a:t>
            </a:r>
            <a:br>
              <a:rPr sz="2200"/>
            </a:b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                     Потому что нет ему покоя,</a:t>
            </a:r>
            <a:br>
              <a:rPr sz="2200"/>
            </a:b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                     До всего есть дел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(Э. Межелайтис “Сердце”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D7BDA-F4F1-4DAB-9B09-AD1EEBE6D05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B4A4D2-AAA6-4697-8448-A2440C6D9233}" type="datetime1">
              <a:rPr lang="en-US"/>
              <a:t>07/31/26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1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240" y="609480"/>
            <a:ext cx="655308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Андрей Везалий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- врач, основатель научной анатомии, яркая звезда эпохи Возрождения.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6840" y="2514240"/>
            <a:ext cx="84582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днажды Везалий вскрывал труп, чтобы установить причину смерти. Каков же был ужас его и всех присутствующих, когда после вскрытия грудной клетки трупа увидели слабо сокращающееся сердце! Инквизиция обвинила Везалия во вскрытии живого человека и приговорила к паломничеству в Палестину, из которого он не вернулся.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о почему же все-таки сокращалось сердце трупа?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Неужели такой выдающийся врач, каким был Везалий, принял за мертвеца живого человек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ветить на этот вопрос не мог никто, даже сам Везалий, ведь уровень знаний той эпохи был еще очень низок. Ответ на него человечество получило только через три столет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7086600" y="609480"/>
            <a:ext cx="1517760" cy="198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E9697-3227-443F-9F65-E03A66FC3EF1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3697E2-2C24-4CA4-80B3-0F3FFDB09A04}" type="datetime1">
              <a:rPr lang="en-US"/>
              <a:t>07/31/26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1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7391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800000"/>
                </a:solidFill>
                <a:latin typeface="Arial"/>
              </a:rPr>
              <a:t>Почему сердце работает в течение всей жизни без утомления?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8915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енки сердца состоят из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ердечных мышечных волокон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, соединительной ткани и мельчайших кровеносных сосудов . Каждое мышечное волокно содержит одно или два ядра,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иофиламент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ножество крупных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итохондри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. Мышечные волокна разветвляются и соединяются между собой концами, образуя сложную сеть. Это обеспечивает быстрое распространение волн сокращения по волокнам, так что каждая камера сокращается как одно целое. В стенках сердца не содержится никаких нейрон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1523880" cy="16765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4724280" y="4114800"/>
            <a:ext cx="4419720" cy="27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F6216-DB86-4703-B0B2-0AD1D7BB9BF9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D12B23-4FCB-42E6-A0DE-16D1A060032C}" type="datetime1">
              <a:rPr lang="en-US"/>
              <a:t>07/31/26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1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57744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Сердечный цикл.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кращения сердца ритмичны. В состоянии относительного покоя сердце сокращается примерно 70-76 раз в 1 мин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кращение обоих предсердий длятся 0,1 сек, вся кровь переходит в желудочки (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истол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едсердия расслабляются, а оба желудочка, сокращаясь, выбрасывают кровь в аорту и легочную артерию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кращение желудочков продолжается приблизительно 0,3 сек (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истол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течение последующих 0,4 сек. вся сердечная мышца находится в состоянии покоя, или общего расслабления   (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иастол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4A373-2882-40A0-9AEC-1D731F7C441F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E89386-4617-4C9D-8659-BBE53A361E3D}" type="datetime1">
              <a:rPr lang="en-US"/>
              <a:t>07/31/26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1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7816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Цифры и факты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381880" cy="4953240"/>
          </a:xfrm>
          <a:prstGeom prst="rect">
            <a:avLst/>
          </a:prstGeom>
          <a:solidFill>
            <a:srgbClr val="fff1d5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сса сердца 1/200 массы тел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50-300гр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кращается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 минуту – 70-75 раз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 сутки – 100000 раз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 80 лет – 25 млрд. раз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качивает крови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 1 мин. – 4-5 литров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 1 час - 300 литров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 сутки – 10 000 литров. 30-37 полных ванн емкостью 200 литров.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BD3EF-C275-44AA-B508-A87EC9BF048D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4DD9D3-45E4-44A0-A78E-C736468675D0}" type="datetime1">
              <a:rPr lang="en-US"/>
              <a:t>07/31/2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1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513000" y="33012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92929"/>
                </a:solidFill>
                <a:latin typeface="Arial"/>
              </a:rPr>
              <a:t>Работа сердца</a:t>
            </a:r>
            <a:r>
              <a:rPr b="1" lang="en-US" sz="3200" spc="-1" strike="noStrike">
                <a:solidFill>
                  <a:srgbClr val="292929"/>
                </a:solidFill>
                <a:latin typeface="Arial"/>
              </a:rPr>
              <a:t>.</a:t>
            </a:r>
            <a:br>
              <a:rPr sz="3200"/>
            </a:br>
            <a:r>
              <a:rPr b="1" lang="ru-RU" sz="3200" spc="-1" strike="noStrike">
                <a:solidFill>
                  <a:srgbClr val="292929"/>
                </a:solidFill>
                <a:latin typeface="Arial"/>
              </a:rPr>
              <a:t>Автоматия сердечной мышцы.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ердце в покое за сутки сокращается примерно 100000 раз. При этом оно перекачивает около 10 т кров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сердечной мышце есть особые клетки, в которых периодически возникает возбуждение, передающееся на мышечные стенки обоих предсердий и желудочков. Поэтому отделы сердца сокращаются последовательно - сначала предсердия, а затем желудочк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Способность сердца ритмически сокращаться под влиянием импульсов, возникающих в самой сердечной мышце, получила название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втоматии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сердца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втоматия обеспечивает относительно независимую от нервной системы работу сердц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4C4F6-97B7-4D98-978D-FEBCC937CF93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9EBB3C-628D-4C08-884A-F556E35D0D4D}" type="datetime1">
              <a:rPr lang="en-US"/>
              <a:t>07/31/26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1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1297080" y="611280"/>
            <a:ext cx="6396840" cy="14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c1c1c"/>
                </a:solidFill>
                <a:latin typeface="Arial"/>
              </a:rPr>
              <a:t>Схема расположения водителя ритма </a:t>
            </a:r>
            <a:br>
              <a:rPr sz="3600"/>
            </a:br>
            <a:r>
              <a:rPr b="1" lang="ru-RU" sz="3600" spc="-1" strike="noStrike">
                <a:solidFill>
                  <a:srgbClr val="1c1c1c"/>
                </a:solidFill>
                <a:latin typeface="Arial"/>
              </a:rPr>
              <a:t>(пейсмекера)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438280" y="1905120"/>
            <a:ext cx="4819680" cy="4525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C67C9-A351-44E8-AA1A-C94137A809FE}" type="slidenum">
              <a:t>8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31F4DD-6AFB-4260-A319-B5041EED9C44}" type="datetime1">
              <a:rPr lang="en-US"/>
              <a:t>07/31/26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1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404640"/>
            <a:ext cx="7724880" cy="10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Это важно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074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66"/>
                </a:solidFill>
                <a:latin typeface="Arial"/>
              </a:rPr>
              <a:t>На 18 день после зачатия, в крохотном комочке клеток, человеческого зародыша начинает биться сердце и уже не останавливается до самой смер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66"/>
                </a:solidFill>
                <a:latin typeface="Arial"/>
              </a:rPr>
              <a:t>У трёхнедельного зародыша сокращается сердце каждую секунд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66"/>
                </a:solidFill>
                <a:latin typeface="Arial"/>
              </a:rPr>
              <a:t>У новорожденного ребёнка сокращение учащается до 140 ударов в минут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66"/>
                </a:solidFill>
                <a:latin typeface="Arial"/>
              </a:rPr>
              <a:t>Постепенно сокращение становятся реже и в норме у взрослого они достигают 70-76 ударов в минуту. При усиленной работе возрастает в 2,5 раз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66"/>
                </a:solidFill>
                <a:latin typeface="Arial"/>
              </a:rPr>
              <a:t>В итоге за сто лет человеческой жизни сердце успевает сделать 5 миллиардов сокращений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FE895-368C-4DA8-8D38-F2644D3F3412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7C55A1-45FD-4C37-89C8-795519EAB9FB}" type="datetime1">
              <a:rPr lang="en-US"/>
              <a:t>07/31/26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Люда</cp:lastModifiedBy>
  <dcterms:modified xsi:type="dcterms:W3CDTF">2010-01-18T19:30:18Z</dcterms:modified>
  <cp:revision>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49</vt:r8>
  </property>
  <property fmtid="{D5CDD505-2E9C-101B-9397-08002B2CF9AE}" pid="3" name="Version">
    <vt:r8>3</vt:r8>
  </property>
</Properties>
</file>