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9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EBBB-96B2-4138-AC5E-13C70C2B3D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AEC1-0D84-41C4-B703-24AD6BB274A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25A-3B97-4126-A6B8-178C3662BE5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B0E-EB1A-40C3-8210-8B58B113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138-3ADC-47B9-932F-E91B9947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8DA-2A42-48DD-82D1-A1F9B76A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C2A-66B9-40F1-BF85-1E766BB9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DB3F-676A-4F34-AABB-C0D6CE3C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E2C3-50E8-450B-85B9-2BC1A3EF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263E-4B17-49A0-84B7-D06519AC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74FE-ED45-4351-B072-E3E97568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4F9C-EE18-418D-B673-1516ACA5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CB20-93AE-4792-88A5-564DDF99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6439-BF37-4809-8638-91BC76DE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3F3-7030-4051-9F42-4775BA03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B42B-A0CD-4058-B316-C8A5B06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97AA-15C2-464A-AE82-7F9405CB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5C4F-1617-44B5-9461-A30FEF6C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53B1-F875-445A-B381-E9F130B9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A37B-42E8-4CEE-B4F9-99699FF3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4E0-478A-4ED3-8559-A645BC0A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959-CD03-418C-8DC9-32F56FBF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1F2-5635-477B-8E03-6A785529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0CC-00C6-499E-8804-12168BE6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01E-0CE5-429D-BD16-F0C6126C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41B-99DA-4A24-95E8-E5E14E9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F27-C2B0-4DF3-9173-B6929C7F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1E17-8F75-416B-8DEE-9853268BBBB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8334-B194-4FA1-8C33-CC5645A2A4C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77400" y="1205640"/>
            <a:ext cx="7341840" cy="103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Прочность раствора в зависимости от его состав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2320" y="213372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Шкуро Андр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инченко Ники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уководитель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кин М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48120" y="5715000"/>
            <a:ext cx="32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ижневартовс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абораторные работы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опотребность определяют по расплыву раствора на встряхивающем столи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" descr="F:\Фотки\P3060356.JPG"/>
          <p:cNvPicPr/>
          <p:nvPr/>
        </p:nvPicPr>
        <p:blipFill>
          <a:blip r:embed="rId1"/>
          <a:stretch/>
        </p:blipFill>
        <p:spPr>
          <a:xfrm>
            <a:off x="4572000" y="350532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F:\39636536.jpg"/>
          <p:cNvPicPr/>
          <p:nvPr/>
        </p:nvPicPr>
        <p:blipFill>
          <a:blip r:embed="rId2"/>
          <a:stretch/>
        </p:blipFill>
        <p:spPr>
          <a:xfrm>
            <a:off x="914400" y="3581280"/>
            <a:ext cx="3505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абораторные работы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2" descr="F:\Фотки\P3060354.JPG"/>
          <p:cNvPicPr/>
          <p:nvPr/>
        </p:nvPicPr>
        <p:blipFill>
          <a:blip r:embed="rId1"/>
          <a:stretch/>
        </p:blipFill>
        <p:spPr>
          <a:xfrm>
            <a:off x="1143000" y="2590920"/>
            <a:ext cx="2971800" cy="350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F:\Фотки\P3060359.JPG"/>
          <p:cNvPicPr/>
          <p:nvPr/>
        </p:nvPicPr>
        <p:blipFill>
          <a:blip r:embed="rId2"/>
          <a:stretch/>
        </p:blipFill>
        <p:spPr>
          <a:xfrm>
            <a:off x="4724280" y="3276720"/>
            <a:ext cx="3571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абораторные работы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палубка кубов, проверка про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4" descr="C:\Users\1\Desktop\5_big_1267614988.jpg"/>
          <p:cNvPicPr/>
          <p:nvPr/>
        </p:nvPicPr>
        <p:blipFill>
          <a:blip r:embed="rId1"/>
          <a:stretch/>
        </p:blipFill>
        <p:spPr>
          <a:xfrm>
            <a:off x="4114800" y="3276720"/>
            <a:ext cx="3164040" cy="3219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F:\Фотки\P3130364.JPG"/>
          <p:cNvPicPr/>
          <p:nvPr/>
        </p:nvPicPr>
        <p:blipFill>
          <a:blip r:embed="rId2"/>
          <a:stretch/>
        </p:blipFill>
        <p:spPr>
          <a:xfrm>
            <a:off x="5943600" y="3048120"/>
            <a:ext cx="291132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F:\Фотки\P3120361.JPG"/>
          <p:cNvPicPr/>
          <p:nvPr/>
        </p:nvPicPr>
        <p:blipFill>
          <a:blip r:embed="rId3"/>
          <a:stretch/>
        </p:blipFill>
        <p:spPr>
          <a:xfrm>
            <a:off x="990720" y="3124080"/>
            <a:ext cx="3124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05B2-5945-46FD-A35D-B21F86FD8956}" type="slidenum">
              <a:rPr b="1" lang="ru-RU" sz="3600" spc="-1" strike="noStrike">
                <a:solidFill>
                  <a:srgbClr val="006666"/>
                </a:solidFill>
                <a:latin typeface="Arial"/>
              </a:rPr>
              <a:t>&lt;number&gt;</a:t>
            </a:fld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ение итогов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Object 174"/>
          <p:cNvGraphicFramePr/>
          <p:nvPr/>
        </p:nvGraphicFramePr>
        <p:xfrm>
          <a:off x="1066680" y="2819520"/>
          <a:ext cx="7162920" cy="38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1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71629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истограма прочност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Диаграмма 1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010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Выводы работ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Теоретические данные подтвержден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Отношения В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Ц влияет на проч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Отношение П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Ц Влияет на прочно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Гипотезы подтвержде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Заключ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Прямоугольник 5" descr=""/>
          <p:cNvPicPr/>
          <p:nvPr/>
        </p:nvPicPr>
        <p:blipFill>
          <a:blip r:embed="rId1"/>
          <a:stretch/>
        </p:blipFill>
        <p:spPr>
          <a:xfrm>
            <a:off x="628560" y="3071880"/>
            <a:ext cx="84916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Актуальность выбранной те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Нас заинтересовала данная тема по проверке прочностных характеристик бетона, что может наглядного результата для обучающихся студентов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  <a:ea typeface="Calibri"/>
              </a:rPr>
              <a:t>Вопрос исследовательской деятельности студентов как один из аспектов профессиональной подготовки актуален в данное время. В современной литературе исследовательская деятельность 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  <a:ea typeface="Calibri"/>
              </a:rPr>
              <a:t>—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  <a:ea typeface="Calibri"/>
              </a:rPr>
              <a:t> это, в первую очередь, умение работать с информацией, умение добывать ее из различных источников, анализировать, сравнивать, делать выводы.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Задачи исследовательской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общить знания о методах приготовления раство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ипотез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сти исследовательскую работ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глядный вывод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Краткое описание работы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Основные эта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Подбор теоретического материал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Изготовление образц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Проверка прочности(ИПС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.Определить зависимость прочности от состава цементно-песчаного раство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.Выв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Теория</a:t>
            </a: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ртландцемент - гидравлическое вяжущее, получаемое тонким измельчением портландцементного клинкера и небольшого количества гипс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 algn="ct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6" descr="C:\Users\1\Desktop\1280144452_00.jpg"/>
          <p:cNvPicPr/>
          <p:nvPr/>
        </p:nvPicPr>
        <p:blipFill>
          <a:blip r:embed="rId1"/>
          <a:stretch/>
        </p:blipFill>
        <p:spPr>
          <a:xfrm>
            <a:off x="990720" y="2819520"/>
            <a:ext cx="3236760" cy="2209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1\Desktop\Shlak_Granshlak_Mariupol.jpg"/>
          <p:cNvPicPr/>
          <p:nvPr/>
        </p:nvPicPr>
        <p:blipFill>
          <a:blip r:embed="rId2"/>
          <a:stretch/>
        </p:blipFill>
        <p:spPr>
          <a:xfrm>
            <a:off x="4876920" y="5715000"/>
            <a:ext cx="38862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:\Users\1\Desktop\eda72c11fac82f784b0cc1a52fce34ec.jpg"/>
          <p:cNvPicPr/>
          <p:nvPr/>
        </p:nvPicPr>
        <p:blipFill>
          <a:blip r:embed="rId3"/>
          <a:stretch/>
        </p:blipFill>
        <p:spPr>
          <a:xfrm>
            <a:off x="1981080" y="4952880"/>
            <a:ext cx="2667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растворов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лотно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чно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розостойко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тоянство объе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имическая стойко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чность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йство материала сопротивлятьс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рушению под действием внутренних напряжений, возникающих под воздействием внешних си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2" descr="C:\Users\1\Desktop\aHR0cDovL2JldG9ubWFnbmF0LnJ1L2ltYWdlcy8yMDEzLTA1LTI2L2tvbnRyb2xueWUtb2JyYXpjeS1iZXRvbmFfMS5naWY=.gif"/>
          <p:cNvPicPr/>
          <p:nvPr/>
        </p:nvPicPr>
        <p:blipFill>
          <a:blip r:embed="rId1"/>
          <a:stretch/>
        </p:blipFill>
        <p:spPr>
          <a:xfrm>
            <a:off x="6019920" y="3962520"/>
            <a:ext cx="2743200" cy="2462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1\Desktop\495px-Concrete_Compression_Testing.jpg"/>
          <p:cNvPicPr/>
          <p:nvPr/>
        </p:nvPicPr>
        <p:blipFill>
          <a:blip r:embed="rId2"/>
          <a:stretch/>
        </p:blipFill>
        <p:spPr>
          <a:xfrm>
            <a:off x="1752480" y="441972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Исследования (опыты, анкетирования, …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90360" y="24382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Приготовление образцов цементно-песчаного раство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F:\Фотки\P3060346.JPG"/>
          <p:cNvPicPr/>
          <p:nvPr/>
        </p:nvPicPr>
        <p:blipFill>
          <a:blip r:embed="rId1"/>
          <a:stretch/>
        </p:blipFill>
        <p:spPr>
          <a:xfrm>
            <a:off x="1066680" y="3657600"/>
            <a:ext cx="3048120" cy="259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F:\Фотки\P3060350.JPG"/>
          <p:cNvPicPr/>
          <p:nvPr/>
        </p:nvPicPr>
        <p:blipFill>
          <a:blip r:embed="rId2"/>
          <a:stretch/>
        </p:blipFill>
        <p:spPr>
          <a:xfrm>
            <a:off x="5410080" y="3200400"/>
            <a:ext cx="243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абораторные работы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готовка экспериментальных куб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2" descr="F:\Фотки\P3060355.JPG"/>
          <p:cNvPicPr/>
          <p:nvPr/>
        </p:nvPicPr>
        <p:blipFill>
          <a:blip r:embed="rId1"/>
          <a:stretch/>
        </p:blipFill>
        <p:spPr>
          <a:xfrm>
            <a:off x="990720" y="3429000"/>
            <a:ext cx="3200400" cy="2343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1\Desktop\реферат\2fk100.jpg"/>
          <p:cNvPicPr/>
          <p:nvPr/>
        </p:nvPicPr>
        <p:blipFill>
          <a:blip r:embed="rId2"/>
          <a:stretch/>
        </p:blipFill>
        <p:spPr>
          <a:xfrm>
            <a:off x="4724280" y="3581280"/>
            <a:ext cx="3181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колледж</cp:lastModifiedBy>
  <dcterms:modified xsi:type="dcterms:W3CDTF">2015-01-16T10:45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