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30F-7042-429A-94FF-98295469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15C-4171-4800-BDC9-9DC54499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824D-7433-48C9-80A7-269C65C1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983-BFE1-4060-852C-13D67638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A3A78-5DD6-4245-9846-3E5044A0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E769A-9514-4F0D-BACE-59DDCA0C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4F338-C948-4BF6-960A-31689E8B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EE7F0-9EB0-4852-9085-D847331C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39B68-06D7-4C09-B3B7-EB8D519E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752D9-685B-4876-BEE6-6841027B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8B606-E013-4AB5-89C3-12C7B0C4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9ED-AC96-4716-A429-2BEDBADB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120BD-D66D-428E-9F47-97EEB470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702E5-9A05-469E-B7BF-2CACB142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C1C0A-06E5-4D4A-84E3-2E187D58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6CD65-E053-4A73-9ABF-E290E667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91B19-E0CA-44D2-B53D-1918B0D0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68F7-4F97-42E1-BBD9-073B5EC5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E2A-A9E2-42EA-86DC-06198C72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288-278F-4C66-8C1A-6BA1DA30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07E-500D-4766-8CCB-3D2580AE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AE4-3A73-4C67-9412-A0EEDCD1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9CA-26C2-41B0-A9BA-EEC41960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5ED-8F69-4D3B-9BFC-B5613C98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B6E6-D094-4C7D-BED9-637A1C341D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2267-0EC6-4925-BD2C-3FB1849989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мволы Росс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ша страна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9600" spc="-1" strike="noStrike">
                <a:solidFill>
                  <a:srgbClr val="ffffff"/>
                </a:solidFill>
                <a:latin typeface="Tahoma"/>
              </a:rPr>
              <a:t>Россия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юди живущие в России -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9600" spc="-1" strike="noStrike">
                <a:solidFill>
                  <a:srgbClr val="ffffff"/>
                </a:solidFill>
                <a:latin typeface="Tahoma"/>
              </a:rPr>
              <a:t>россияне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толица нашего государства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9600" spc="-1" strike="noStrike">
                <a:solidFill>
                  <a:srgbClr val="ffffff"/>
                </a:solidFill>
                <a:latin typeface="Tahoma"/>
              </a:rPr>
              <a:t>Москва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езидент  нашей стра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Владимир Владимирович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Путин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сновные правила и законы, по которым живут люди нашей страны записаны  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600" spc="-1" strike="noStrike">
                <a:solidFill>
                  <a:srgbClr val="ffffff"/>
                </a:solidFill>
                <a:latin typeface="Tahoma"/>
              </a:rPr>
              <a:t>Конституции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ger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р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ла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03T13:04:3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