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CAB-4D85-455F-B388-FEEC3881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C54-3BB1-40F7-84C7-F1BCA22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D07-C727-43E1-A33F-7CB2A94B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67E-C459-45D2-993C-86EC55CD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850B0-5E5C-4225-BBD8-E9968B40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E071A-4CDF-4F3E-938E-33F98CCE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0602-6962-4F32-B68D-0174AB77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3F899-04D9-4293-BEA0-E7E26E4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2887-1D7F-46CC-AA45-4418933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3F88F-1DBC-4E57-887B-DF70BC2C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28559-EE23-4C99-9E09-9BFE52AD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D89-85E4-40A2-B284-B68F2AC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7849-D9CA-4FEA-BC05-79FBFF9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7193B-7731-482E-87A7-C059BC6C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120CA-6E44-403C-9545-43FE70FF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4DEE0-07A6-4FEE-A952-C9EF220D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9B2A4-1333-4E97-8305-0CADEB32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4FB-BA46-4797-99AF-54834B19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6AD-29DA-4752-B00E-28E9A1E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AA2-424B-40EE-9FDD-6D5B6131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893-8B7B-422B-AFB8-DEE557F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D40-0E7C-4849-AB1F-CF80A5EE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60E-362F-4CB9-B7D7-4170ED3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8C7-BCF2-40DE-A08F-036878E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C44-7CAF-46FE-A69B-2116B47B3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9482-C6B9-451C-8932-BA639DE63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Аргентин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(Аргентинская республика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полнила: студент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руппы 11 «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ряева Мела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ргентина расположена на юго-востоке Южной Америки и уступает по величине только Бразилии. Испанцы назвали страну Аргентиной ( от слова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gentum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– серебро), однако серебра здесь не было, а самым большим богатством стали великолепные пастбища и плодородные поч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рритория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2,8 млн. км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селение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36, 256 млн. жи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олиц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Буэнос-Айрес ( 12,96 млн. жит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Др. крупные город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Кордова ( более 1,15 млн. жит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ивысшая точ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Аконгуа (6 959 м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фициальный язык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испан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91600"/>
            <a:ext cx="929628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Госп. религия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христианство (католики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0773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нежная единица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новое аргентинское песо=100 сента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486400" y="1752480"/>
            <a:ext cx="285768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289548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486400" y="3962520"/>
            <a:ext cx="2895480" cy="121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486400" y="5105520"/>
            <a:ext cx="2971800" cy="119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438280" y="5334120"/>
            <a:ext cx="29340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с. строй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едеративная республ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лава гос-ва и правительства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езидент, избираемый сроком на 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конодательный орган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циональный конгресс, состоящий из сената и палаты депут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дминистративно-территориальное деле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2 провинции и столичный федеральный орг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кспорт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шеница, кукуруза, мясо, шкуры, шерсть, танин, льняное масло, минералы, арах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мпорт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машины и оборудование, топливо, химические товары, оборудование для электростан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орговые партнеры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траны Западной Европы, США, Япония, Бразил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НП на душу насел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8030 дол. С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циональные праздники: 25 мая – годовщина майской революции(1810 г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июля – День независимости(1816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раницы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 севере с Боливией и Парагваем, на востоке с Бразилией и Уругваем, на юге и востоке омывается Атлантическим океа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4:56:46Z</dcterms:created>
  <dc:creator>Vladelec</dc:creator>
  <dc:description/>
  <dc:language>en-US</dc:language>
  <cp:lastModifiedBy>Vladelec</cp:lastModifiedBy>
  <dcterms:modified xsi:type="dcterms:W3CDTF">2014-12-15T18:47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