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0F4-F9C9-44F8-A260-F27A8A92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26D-13A3-4AC8-8DC2-2D597C75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516-179A-421C-BB05-0C2CA5A8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CBF-4896-412B-AEF3-A87B78C6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365-779F-4F49-9B87-C4388043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C4B-B8F1-4227-987E-6ABBBD3F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5BB-9A3C-4B84-9260-1C569BC7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5E6-F2E1-42D5-ADC3-CF4F5591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A22-4178-4449-8F1C-3277526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FCD-58BE-478C-A303-98594A1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4A9-CB7C-4D2E-8774-AEE5F8FB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694-5E2F-4DB9-8894-744AF42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A726-23A4-4DF4-A775-239BDCC2D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826920" y="1916280"/>
            <a:ext cx="79232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овые зако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к изобарного проц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1332000" y="178884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1187280" y="573408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1403280" y="5157720"/>
            <a:ext cx="432000" cy="5032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V="1">
            <a:off x="1908000" y="2491920"/>
            <a:ext cx="2089440" cy="25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203640" y="3645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- 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651640" y="1413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5580000" y="184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651640" y="19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622764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8028000" y="5877000"/>
            <a:ext cx="1116000" cy="981000"/>
          </a:xfrm>
          <a:custGeom>
            <a:avLst/>
            <a:gdLst>
              <a:gd name="textAreaLeft" fmla="*/ 63360 w 1116000"/>
              <a:gd name="textAreaRight" fmla="*/ 1052640 w 111600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4571" h="21600">
                <a:moveTo>
                  <a:pt x="0" y="0"/>
                </a:moveTo>
                <a:lnTo>
                  <a:pt x="24571" y="0"/>
                </a:lnTo>
                <a:lnTo>
                  <a:pt x="24571" y="21600"/>
                </a:lnTo>
                <a:lnTo>
                  <a:pt x="0" y="21600"/>
                </a:lnTo>
                <a:close/>
              </a:path>
              <a:path fill="lightenLess" w="24571" h="21600">
                <a:moveTo>
                  <a:pt x="0" y="0"/>
                </a:moveTo>
                <a:lnTo>
                  <a:pt x="24571" y="0"/>
                </a:lnTo>
                <a:lnTo>
                  <a:pt x="23171" y="1400"/>
                </a:lnTo>
                <a:lnTo>
                  <a:pt x="1400" y="1400"/>
                </a:lnTo>
                <a:close/>
              </a:path>
              <a:path fill="darken" w="24571" h="21600">
                <a:moveTo>
                  <a:pt x="24571" y="0"/>
                </a:moveTo>
                <a:lnTo>
                  <a:pt x="24571" y="21600"/>
                </a:lnTo>
                <a:lnTo>
                  <a:pt x="23171" y="20200"/>
                </a:lnTo>
                <a:lnTo>
                  <a:pt x="23171" y="1400"/>
                </a:lnTo>
                <a:close/>
              </a:path>
              <a:path fill="darkenLess" w="24571" h="21600">
                <a:moveTo>
                  <a:pt x="24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1" y="20200"/>
                </a:lnTo>
                <a:close/>
              </a:path>
              <a:path fill="lighten" w="24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71" h="21600">
                <a:moveTo>
                  <a:pt x="5279" y="7493"/>
                </a:moveTo>
                <a:lnTo>
                  <a:pt x="8787" y="7493"/>
                </a:lnTo>
                <a:lnTo>
                  <a:pt x="8787" y="12828"/>
                </a:lnTo>
                <a:cubicBezTo>
                  <a:pt x="8787" y="13751"/>
                  <a:pt x="9588" y="14482"/>
                  <a:pt x="10623" y="14482"/>
                </a:cubicBezTo>
                <a:lnTo>
                  <a:pt x="12286" y="14482"/>
                </a:lnTo>
                <a:cubicBezTo>
                  <a:pt x="13321" y="14482"/>
                  <a:pt x="14122" y="13751"/>
                  <a:pt x="14122" y="12828"/>
                </a:cubicBezTo>
                <a:lnTo>
                  <a:pt x="14122" y="7493"/>
                </a:lnTo>
                <a:lnTo>
                  <a:pt x="12286" y="7493"/>
                </a:lnTo>
                <a:lnTo>
                  <a:pt x="15793" y="3985"/>
                </a:lnTo>
                <a:lnTo>
                  <a:pt x="19466" y="7493"/>
                </a:lnTo>
                <a:lnTo>
                  <a:pt x="17630" y="7493"/>
                </a:lnTo>
                <a:lnTo>
                  <a:pt x="17630" y="12828"/>
                </a:lnTo>
                <a:cubicBezTo>
                  <a:pt x="17630" y="15596"/>
                  <a:pt x="15053" y="18155"/>
                  <a:pt x="12286" y="18155"/>
                </a:cubicBezTo>
                <a:lnTo>
                  <a:pt x="10623" y="18155"/>
                </a:lnTo>
                <a:cubicBezTo>
                  <a:pt x="7856" y="18155"/>
                  <a:pt x="5279" y="15596"/>
                  <a:pt x="527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2.89017E-007 L -0.51961 0.06289 E">
                                      <p:cBhvr>
                                        <p:cTn id="20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185 L 0.00399 0.56439 E">
                                      <p:cBhvr>
                                        <p:cTn id="21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2050920" y="260280"/>
                <a:ext cx="5400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 Box 5"/>
          <p:cNvSpPr/>
          <p:nvPr/>
        </p:nvSpPr>
        <p:spPr>
          <a:xfrm>
            <a:off x="1187280" y="1628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4360" y="1628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Изохорный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1835280" y="2205000"/>
                <a:ext cx="5545080" cy="18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1692360" y="4437000"/>
                <a:ext cx="51847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6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2195640" y="189000"/>
                <a:ext cx="468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Text Box 6"/>
          <p:cNvSpPr/>
          <p:nvPr/>
        </p:nvSpPr>
        <p:spPr>
          <a:xfrm>
            <a:off x="395280" y="1844640"/>
            <a:ext cx="856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ля данной массы данного ве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тношение давления газа к темп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остоянно, если объем  не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916360" y="42926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Закон  Шар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изохорный процесс.mp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к изохорного проц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 flipV="1">
            <a:off x="1332000" y="155700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1187280" y="5661000"/>
            <a:ext cx="561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1332000" y="5229000"/>
            <a:ext cx="576000" cy="4316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1908000" y="2636640"/>
            <a:ext cx="3311640" cy="25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780000" y="4076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-изох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15636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156360" y="19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6012000" y="19890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732720" y="1773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>
            <a:off x="8244000" y="5877000"/>
            <a:ext cx="900000" cy="981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81000"/>
              <a:gd name="textAreaBottom" fmla="*/ 922680 h 981000"/>
            </a:gdLst>
            <a:ahLst/>
            <a:rect l="textAreaLeft" t="textAreaTop" r="textAreaRight" b="textAreaBottom"/>
            <a:pathLst>
              <a:path w="21600" h="23543">
                <a:moveTo>
                  <a:pt x="0" y="0"/>
                </a:moveTo>
                <a:lnTo>
                  <a:pt x="21600" y="0"/>
                </a:lnTo>
                <a:lnTo>
                  <a:pt x="21600" y="23543"/>
                </a:lnTo>
                <a:lnTo>
                  <a:pt x="0" y="23543"/>
                </a:lnTo>
                <a:close/>
              </a:path>
              <a:path fill="lightenLess" w="21600" h="23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3">
                <a:moveTo>
                  <a:pt x="21600" y="0"/>
                </a:moveTo>
                <a:lnTo>
                  <a:pt x="21600" y="23543"/>
                </a:lnTo>
                <a:lnTo>
                  <a:pt x="20200" y="22143"/>
                </a:lnTo>
                <a:lnTo>
                  <a:pt x="20200" y="1400"/>
                </a:lnTo>
                <a:close/>
              </a:path>
              <a:path fill="darkenLess" w="21600" h="23543">
                <a:moveTo>
                  <a:pt x="21600" y="23543"/>
                </a:moveTo>
                <a:lnTo>
                  <a:pt x="0" y="23543"/>
                </a:lnTo>
                <a:lnTo>
                  <a:pt x="1400" y="22143"/>
                </a:lnTo>
                <a:lnTo>
                  <a:pt x="20200" y="22143"/>
                </a:lnTo>
                <a:close/>
              </a:path>
              <a:path fill="lighten" w="21600" h="23543">
                <a:moveTo>
                  <a:pt x="0" y="23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3"/>
                </a:lnTo>
                <a:close/>
              </a:path>
              <a:path fill="darken" w="21600" h="23543">
                <a:moveTo>
                  <a:pt x="3794" y="8464"/>
                </a:moveTo>
                <a:lnTo>
                  <a:pt x="7301" y="8464"/>
                </a:lnTo>
                <a:lnTo>
                  <a:pt x="7301" y="13800"/>
                </a:lnTo>
                <a:cubicBezTo>
                  <a:pt x="7301" y="14722"/>
                  <a:pt x="8102" y="15453"/>
                  <a:pt x="9138" y="15453"/>
                </a:cubicBezTo>
                <a:lnTo>
                  <a:pt x="10800" y="15453"/>
                </a:lnTo>
                <a:cubicBezTo>
                  <a:pt x="11836" y="15453"/>
                  <a:pt x="12636" y="14722"/>
                  <a:pt x="12636" y="13800"/>
                </a:cubicBezTo>
                <a:lnTo>
                  <a:pt x="12636" y="8464"/>
                </a:lnTo>
                <a:lnTo>
                  <a:pt x="10800" y="8464"/>
                </a:lnTo>
                <a:lnTo>
                  <a:pt x="14308" y="4957"/>
                </a:lnTo>
                <a:lnTo>
                  <a:pt x="17981" y="8464"/>
                </a:lnTo>
                <a:lnTo>
                  <a:pt x="16144" y="8464"/>
                </a:lnTo>
                <a:lnTo>
                  <a:pt x="16144" y="13800"/>
                </a:lnTo>
                <a:cubicBezTo>
                  <a:pt x="16144" y="16567"/>
                  <a:pt x="13568" y="19126"/>
                  <a:pt x="10800" y="19126"/>
                </a:cubicBezTo>
                <a:lnTo>
                  <a:pt x="9138" y="19126"/>
                </a:lnTo>
                <a:cubicBezTo>
                  <a:pt x="6370" y="19126"/>
                  <a:pt x="3794" y="16567"/>
                  <a:pt x="3794" y="13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00855 L -0.61423 0.00855 E">
                                      <p:cBhvr>
                                        <p:cTn id="28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7.51445E-007 L 5.55556E-006 0.56624 E">
                                      <p:cBhvr>
                                        <p:cTn id="29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(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AutoShape 250"/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7493"/>
                </a:moveTo>
                <a:lnTo>
                  <a:pt x="11657" y="7493"/>
                </a:lnTo>
                <a:lnTo>
                  <a:pt x="11657" y="12828"/>
                </a:lnTo>
                <a:cubicBezTo>
                  <a:pt x="11657" y="13751"/>
                  <a:pt x="12458" y="14482"/>
                  <a:pt x="13494" y="14482"/>
                </a:cubicBezTo>
                <a:lnTo>
                  <a:pt x="15156" y="14482"/>
                </a:lnTo>
                <a:cubicBezTo>
                  <a:pt x="16192" y="14482"/>
                  <a:pt x="16992" y="13751"/>
                  <a:pt x="16992" y="12828"/>
                </a:cubicBezTo>
                <a:lnTo>
                  <a:pt x="16992" y="7493"/>
                </a:lnTo>
                <a:lnTo>
                  <a:pt x="15156" y="7493"/>
                </a:lnTo>
                <a:lnTo>
                  <a:pt x="18664" y="3985"/>
                </a:lnTo>
                <a:lnTo>
                  <a:pt x="22336" y="7493"/>
                </a:lnTo>
                <a:lnTo>
                  <a:pt x="20500" y="7493"/>
                </a:lnTo>
                <a:lnTo>
                  <a:pt x="20500" y="12828"/>
                </a:lnTo>
                <a:cubicBezTo>
                  <a:pt x="20500" y="15596"/>
                  <a:pt x="17924" y="18155"/>
                  <a:pt x="15156" y="18155"/>
                </a:cubicBezTo>
                <a:lnTo>
                  <a:pt x="13494" y="18155"/>
                </a:lnTo>
                <a:cubicBezTo>
                  <a:pt x="10726" y="18155"/>
                  <a:pt x="8149" y="15596"/>
                  <a:pt x="814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324000" y="47628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мни и используй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22050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юбой газовый закон получают 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авнения состояния идеаль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24000" y="537372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ыучи уравнение - получи закон!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3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134136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На рисунке дан график изменения со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идеального газа в координатах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V,T.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Представ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этот процесс на графиках в координа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p, V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p,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V="1">
            <a:off x="971640" y="346212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755640" y="636264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V="1">
            <a:off x="1042920" y="5733720"/>
            <a:ext cx="576360" cy="576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1619280" y="4097160"/>
            <a:ext cx="1657440" cy="165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3276720" y="4097160"/>
            <a:ext cx="0" cy="172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H="1">
            <a:off x="1619280" y="5753160"/>
            <a:ext cx="16574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468360" y="348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327672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125892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277164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3276720" y="522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1"/>
          <p:cNvSpPr/>
          <p:nvPr/>
        </p:nvSpPr>
        <p:spPr>
          <a:xfrm>
            <a:off x="0" y="323388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4"/>
          <p:cNvSpPr/>
          <p:nvPr/>
        </p:nvSpPr>
        <p:spPr>
          <a:xfrm flipV="1">
            <a:off x="971640" y="2012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5"/>
          <p:cNvSpPr/>
          <p:nvPr/>
        </p:nvSpPr>
        <p:spPr>
          <a:xfrm>
            <a:off x="755640" y="310212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6"/>
          <p:cNvSpPr/>
          <p:nvPr/>
        </p:nvSpPr>
        <p:spPr>
          <a:xfrm flipV="1">
            <a:off x="1042920" y="2472840"/>
            <a:ext cx="576360" cy="576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1619280" y="836280"/>
            <a:ext cx="1657440" cy="165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3276720" y="836640"/>
            <a:ext cx="0" cy="172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9"/>
          <p:cNvSpPr/>
          <p:nvPr/>
        </p:nvSpPr>
        <p:spPr>
          <a:xfrm flipH="1">
            <a:off x="1619280" y="2492280"/>
            <a:ext cx="16574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468360" y="2221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3276720" y="3139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1258920" y="1897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2771640" y="384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3276720" y="19684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5"/>
          <p:cNvSpPr/>
          <p:nvPr/>
        </p:nvSpPr>
        <p:spPr>
          <a:xfrm flipV="1">
            <a:off x="826920" y="350028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6"/>
          <p:cNvSpPr/>
          <p:nvPr/>
        </p:nvSpPr>
        <p:spPr>
          <a:xfrm>
            <a:off x="611280" y="6362640"/>
            <a:ext cx="29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7"/>
          <p:cNvSpPr/>
          <p:nvPr/>
        </p:nvSpPr>
        <p:spPr>
          <a:xfrm flipV="1">
            <a:off x="900000" y="5733720"/>
            <a:ext cx="576360" cy="576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2916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111456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95280" y="342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3278520" y="522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700360" y="35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6"/>
          <p:cNvSpPr/>
          <p:nvPr/>
        </p:nvSpPr>
        <p:spPr>
          <a:xfrm flipV="1">
            <a:off x="5292720" y="342900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5148360" y="6308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60"/>
          <p:cNvSpPr/>
          <p:nvPr/>
        </p:nvSpPr>
        <p:spPr>
          <a:xfrm rot="20955600">
            <a:off x="6011640" y="3645000"/>
            <a:ext cx="1798560" cy="223200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1133" h="1406">
                <a:moveTo>
                  <a:pt x="45" y="0"/>
                </a:moveTo>
                <a:cubicBezTo>
                  <a:pt x="22" y="359"/>
                  <a:pt x="0" y="718"/>
                  <a:pt x="181" y="952"/>
                </a:cubicBezTo>
                <a:cubicBezTo>
                  <a:pt x="362" y="1186"/>
                  <a:pt x="747" y="1296"/>
                  <a:pt x="1133" y="140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5867280" y="3860640"/>
            <a:ext cx="0" cy="1944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4"/>
          <p:cNvSpPr/>
          <p:nvPr/>
        </p:nvSpPr>
        <p:spPr>
          <a:xfrm>
            <a:off x="5867280" y="5734080"/>
            <a:ext cx="215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5"/>
          <p:cNvSpPr/>
          <p:nvPr/>
        </p:nvSpPr>
        <p:spPr>
          <a:xfrm>
            <a:off x="5867280" y="3789360"/>
            <a:ext cx="144720" cy="358920"/>
          </a:xfrm>
          <a:prstGeom prst="triangle">
            <a:avLst>
              <a:gd name="adj" fmla="val 0"/>
            </a:avLst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4788000" y="357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7"/>
          <p:cNvSpPr/>
          <p:nvPr/>
        </p:nvSpPr>
        <p:spPr>
          <a:xfrm>
            <a:off x="7812000" y="6400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8"/>
          <p:cNvSpPr/>
          <p:nvPr/>
        </p:nvSpPr>
        <p:spPr>
          <a:xfrm>
            <a:off x="5364000" y="558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9"/>
          <p:cNvSpPr/>
          <p:nvPr/>
        </p:nvSpPr>
        <p:spPr>
          <a:xfrm>
            <a:off x="8028000" y="551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0"/>
          <p:cNvSpPr/>
          <p:nvPr/>
        </p:nvSpPr>
        <p:spPr>
          <a:xfrm>
            <a:off x="586728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1"/>
          <p:cNvSpPr/>
          <p:nvPr/>
        </p:nvSpPr>
        <p:spPr>
          <a:xfrm>
            <a:off x="4067280" y="765000"/>
            <a:ext cx="482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1-2 изоба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2-3 изотерми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3-1 изохо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3"/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7626"/>
                </a:moveTo>
                <a:lnTo>
                  <a:pt x="7301" y="7626"/>
                </a:lnTo>
                <a:lnTo>
                  <a:pt x="7301" y="12962"/>
                </a:lnTo>
                <a:cubicBezTo>
                  <a:pt x="7301" y="13884"/>
                  <a:pt x="8102" y="14615"/>
                  <a:pt x="9138" y="14615"/>
                </a:cubicBezTo>
                <a:lnTo>
                  <a:pt x="10800" y="14615"/>
                </a:lnTo>
                <a:cubicBezTo>
                  <a:pt x="11836" y="14615"/>
                  <a:pt x="12636" y="13884"/>
                  <a:pt x="12636" y="12962"/>
                </a:cubicBezTo>
                <a:lnTo>
                  <a:pt x="12636" y="7626"/>
                </a:lnTo>
                <a:lnTo>
                  <a:pt x="10800" y="7626"/>
                </a:lnTo>
                <a:lnTo>
                  <a:pt x="14308" y="4119"/>
                </a:lnTo>
                <a:lnTo>
                  <a:pt x="17981" y="7626"/>
                </a:lnTo>
                <a:lnTo>
                  <a:pt x="16144" y="7626"/>
                </a:lnTo>
                <a:lnTo>
                  <a:pt x="16144" y="12962"/>
                </a:lnTo>
                <a:cubicBezTo>
                  <a:pt x="16144" y="15729"/>
                  <a:pt x="13568" y="18288"/>
                  <a:pt x="10800" y="18288"/>
                </a:cubicBezTo>
                <a:lnTo>
                  <a:pt x="9138" y="18288"/>
                </a:lnTo>
                <a:cubicBezTo>
                  <a:pt x="6370" y="18288"/>
                  <a:pt x="3794" y="15729"/>
                  <a:pt x="3794" y="1296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5"/>
          <p:cNvSpPr/>
          <p:nvPr/>
        </p:nvSpPr>
        <p:spPr>
          <a:xfrm>
            <a:off x="1476360" y="5734080"/>
            <a:ext cx="165564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6"/>
          <p:cNvSpPr/>
          <p:nvPr/>
        </p:nvSpPr>
        <p:spPr>
          <a:xfrm flipV="1">
            <a:off x="3059280" y="4076640"/>
            <a:ext cx="0" cy="1657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8"/>
          <p:cNvSpPr/>
          <p:nvPr/>
        </p:nvSpPr>
        <p:spPr>
          <a:xfrm flipH="1">
            <a:off x="1403280" y="4076640"/>
            <a:ext cx="1656000" cy="1728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09680" y="1699920"/>
            <a:ext cx="833904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bfc5"/>
                </a:solidFill>
                <a:latin typeface="Arial"/>
              </a:rPr>
              <a:t>Определ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bfc5"/>
                </a:solidFill>
                <a:latin typeface="Arial"/>
              </a:rPr>
              <a:t>Изотермически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bfc5"/>
                </a:solidFill>
                <a:latin typeface="Arial"/>
              </a:rPr>
              <a:t>Изобар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bfc5"/>
                </a:solidFill>
                <a:latin typeface="Arial"/>
              </a:rPr>
              <a:t>Изохор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bfc5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bfc5"/>
                </a:solidFill>
                <a:latin typeface="Arial"/>
              </a:rPr>
              <a:t>Пример решения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5"/>
          <p:cNvSpPr txBox="1"/>
          <p:nvPr/>
        </p:nvSpPr>
        <p:spPr>
          <a:xfrm>
            <a:off x="611280" y="333360"/>
            <a:ext cx="799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2"/>
          <p:cNvSpPr txBox="1"/>
          <p:nvPr/>
        </p:nvSpPr>
        <p:spPr>
          <a:xfrm>
            <a:off x="900000" y="333360"/>
            <a:ext cx="770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е состоя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деального га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879480" y="2050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4"/>
          <p:cNvSpPr/>
          <p:nvPr/>
        </p:nvSpPr>
        <p:spPr>
          <a:xfrm>
            <a:off x="611280" y="2133720"/>
            <a:ext cx="763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енная зависимость между дву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метрами газа при фиксирован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и третьего параметра н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овыми зако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9"/>
          <p:cNvSpPr/>
          <p:nvPr/>
        </p:nvSpPr>
        <p:spPr>
          <a:xfrm>
            <a:off x="0" y="4797360"/>
            <a:ext cx="91440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ы, протекающие при неизменном значении одного из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,V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изопроцессами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1e464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изос"-от греческого слова "равный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1e464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344600" y="2279520"/>
                <a:ext cx="6454800" cy="31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Text Box 9"/>
          <p:cNvSpPr/>
          <p:nvPr/>
        </p:nvSpPr>
        <p:spPr>
          <a:xfrm>
            <a:off x="1008000" y="5445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Уравнение состояния идеального газа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09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2" y="18155"/>
                  <a:pt x="11674" y="18155"/>
                </a:cubicBezTo>
                <a:lnTo>
                  <a:pt x="10011" y="18155"/>
                </a:lnTo>
                <a:cubicBezTo>
                  <a:pt x="7244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332000" y="260280"/>
            <a:ext cx="71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2124000" y="0"/>
                <a:ext cx="48243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6"/>
          <p:cNvSpPr/>
          <p:nvPr/>
        </p:nvSpPr>
        <p:spPr>
          <a:xfrm>
            <a:off x="1763640" y="1700280"/>
            <a:ext cx="712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Изотермический проц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1835280" y="2205000"/>
                <a:ext cx="5545080" cy="18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9"/>
              <p:cNvSpPr txBox="1"/>
              <p:nvPr/>
            </p:nvSpPr>
            <p:spPr>
              <a:xfrm>
                <a:off x="1547640" y="4869000"/>
                <a:ext cx="5616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44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Для данной массы  данного вещества, произведение давления газа на его объем постоянно, если температура газа не меня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1979640" y="260280"/>
                <a:ext cx="5256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Text Box 6"/>
          <p:cNvSpPr/>
          <p:nvPr/>
        </p:nvSpPr>
        <p:spPr>
          <a:xfrm>
            <a:off x="1979640" y="473544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Закон Бойля - Мариот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изотермический процесс.mp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афик изотермическ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V="1">
            <a:off x="111600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900000" y="5734080"/>
            <a:ext cx="547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 rot="20287800">
            <a:off x="971640" y="1699920"/>
            <a:ext cx="3238560" cy="424800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333" h="2042">
                <a:moveTo>
                  <a:pt x="152" y="0"/>
                </a:moveTo>
                <a:cubicBezTo>
                  <a:pt x="76" y="832"/>
                  <a:pt x="0" y="1664"/>
                  <a:pt x="333" y="204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2340000" y="378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-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508720" y="1916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5651640" y="1916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6012000" y="19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/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6455" y="7493"/>
                </a:moveTo>
                <a:lnTo>
                  <a:pt x="9963" y="7493"/>
                </a:lnTo>
                <a:lnTo>
                  <a:pt x="9963" y="12828"/>
                </a:lnTo>
                <a:cubicBezTo>
                  <a:pt x="9963" y="13751"/>
                  <a:pt x="10764" y="14482"/>
                  <a:pt x="11799" y="14482"/>
                </a:cubicBezTo>
                <a:lnTo>
                  <a:pt x="13462" y="14482"/>
                </a:lnTo>
                <a:cubicBezTo>
                  <a:pt x="14497" y="14482"/>
                  <a:pt x="15298" y="13751"/>
                  <a:pt x="15298" y="12828"/>
                </a:cubicBezTo>
                <a:lnTo>
                  <a:pt x="15298" y="7493"/>
                </a:lnTo>
                <a:lnTo>
                  <a:pt x="13462" y="7493"/>
                </a:lnTo>
                <a:lnTo>
                  <a:pt x="16969" y="3985"/>
                </a:lnTo>
                <a:lnTo>
                  <a:pt x="20642" y="7493"/>
                </a:lnTo>
                <a:lnTo>
                  <a:pt x="18806" y="7493"/>
                </a:lnTo>
                <a:lnTo>
                  <a:pt x="18806" y="12828"/>
                </a:lnTo>
                <a:cubicBezTo>
                  <a:pt x="18806" y="15596"/>
                  <a:pt x="16229" y="18155"/>
                  <a:pt x="13462" y="18155"/>
                </a:cubicBezTo>
                <a:lnTo>
                  <a:pt x="11799" y="18155"/>
                </a:lnTo>
                <a:cubicBezTo>
                  <a:pt x="9031" y="18155"/>
                  <a:pt x="6455" y="15596"/>
                  <a:pt x="645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87283E-006 L -0.55122 -0.04208 E">
                                      <p:cBhvr>
                                        <p:cTn id="13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51445E-007 L 2.5E-006 0.56647 E">
                                      <p:cBhvr>
                                        <p:cTn id="13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1403280" y="333360"/>
                <a:ext cx="7740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Text Box 8"/>
          <p:cNvSpPr/>
          <p:nvPr/>
        </p:nvSpPr>
        <p:spPr>
          <a:xfrm>
            <a:off x="2411280" y="1700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Изобарный проц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9"/>
              <p:cNvSpPr txBox="1"/>
              <p:nvPr/>
            </p:nvSpPr>
            <p:spPr>
              <a:xfrm>
                <a:off x="1835280" y="2205000"/>
                <a:ext cx="5545080" cy="18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1547640" y="4581360"/>
                <a:ext cx="619308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8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1619280" y="404640"/>
                <a:ext cx="62658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6"/>
          <p:cNvSpPr/>
          <p:nvPr/>
        </p:nvSpPr>
        <p:spPr>
          <a:xfrm>
            <a:off x="0" y="213372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2205000"/>
            <a:ext cx="88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ля данной массы данного ве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тношение объема газа к его темп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остоянно, если давление не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195640" y="45086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Закон  Гей - Люсс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изобарный процесс.mp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3:26:24Z</dcterms:created>
  <dc:creator>JURA</dc:creator>
  <dc:description/>
  <dc:language>en-US</dc:language>
  <cp:lastModifiedBy>Каневская Ольга Юрьевна</cp:lastModifiedBy>
  <dcterms:modified xsi:type="dcterms:W3CDTF">2014-01-23T06:41:56Z</dcterms:modified>
  <cp:revision>26</cp:revision>
  <dc:subject/>
  <dc:title>Слайд 1</dc:title>
</cp:coreProperties>
</file>