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6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921-B450-4D10-A42F-659C339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BFC-F6BD-4070-8487-01C268D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5A0-45A6-4C3F-A80C-A2779DD8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FFB-CAA1-4EA6-BA00-8E49B1E7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462-EC27-4DF3-B98B-B6ACEC19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490-4447-4C0C-B73F-D35D2EF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7D2F-20EC-470D-8AAC-4881FA6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48CB-ACE2-48C2-B5B6-0182B5D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B3A-AFA2-437E-BA79-6647DCC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1CF-2878-45D3-AA4C-8ECD839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7505-9561-4FC5-83FA-EBD5682F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3B9-EAA9-444C-9898-F6353569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9A2-2CEB-401E-8647-B070048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9604-8D18-4915-B2A1-B01036A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9ED-AD5F-47F0-8C1C-630B4533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4DB-9DD5-439B-BA5A-8A010802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A516-A03D-4F3A-9CE8-69EC932C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09F-D126-41E5-A478-A1926E3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978-459E-49EC-9338-D4510E1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B6E-E1A3-4D1D-8F31-8D147673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130-A404-4658-83F7-BF25A1E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0D0-77F4-4D07-A9E7-CD48E85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667-0FE8-471B-A62D-1C1905F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EA6-1EAE-4B87-980A-4B872AE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95EC-D58A-4E09-8E88-92BD7F8B6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C:\Documents and Settings\Admin\Рабочий стол\Мои шаблоны презентаций\фоны\роз3.gif"/>
          <p:cNvPicPr/>
          <p:nvPr/>
        </p:nvPicPr>
        <p:blipFill>
          <a:blip r:embed="rId2"/>
          <a:stretch/>
        </p:blipFill>
        <p:spPr>
          <a:xfrm>
            <a:off x="6551640" y="5214960"/>
            <a:ext cx="2592360" cy="1643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Мои документы\Мои рисунки\Анимашки\Бабочки жучки и т п\borb27.gif"/>
          <p:cNvPicPr/>
          <p:nvPr/>
        </p:nvPicPr>
        <p:blipFill>
          <a:blip r:embed="rId3"/>
          <a:stretch/>
        </p:blipFill>
        <p:spPr>
          <a:xfrm>
            <a:off x="214200" y="142920"/>
            <a:ext cx="91440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\Рабочий стол\Мои шаблоны презентаций\фоны\роз3.gif"/>
          <p:cNvPicPr/>
          <p:nvPr/>
        </p:nvPicPr>
        <p:blipFill>
          <a:blip r:embed="rId2"/>
          <a:stretch/>
        </p:blipFill>
        <p:spPr>
          <a:xfrm>
            <a:off x="6551640" y="5214960"/>
            <a:ext cx="2592360" cy="164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Мои документы\Мои рисунки\Анимашки\Бабочки жучки и т п\borb27.gif"/>
          <p:cNvPicPr/>
          <p:nvPr/>
        </p:nvPicPr>
        <p:blipFill>
          <a:blip r:embed="rId3"/>
          <a:stretch/>
        </p:blipFill>
        <p:spPr>
          <a:xfrm>
            <a:off x="214200" y="14292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роз.gif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dmin\Мои документы\Мои рисунки\Анимашки\Бабочки жучки и т п\165.gif"/>
          <p:cNvPicPr/>
          <p:nvPr/>
        </p:nvPicPr>
        <p:blipFill>
          <a:blip r:embed="rId5"/>
          <a:stretch/>
        </p:blipFill>
        <p:spPr>
          <a:xfrm>
            <a:off x="142920" y="3857760"/>
            <a:ext cx="243828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Admin\Мои документы\Мои рисунки\Анимашки\Бабочки жучки и т п\borb26.gif"/>
          <p:cNvPicPr/>
          <p:nvPr/>
        </p:nvPicPr>
        <p:blipFill>
          <a:blip r:embed="rId6"/>
          <a:stretch/>
        </p:blipFill>
        <p:spPr>
          <a:xfrm>
            <a:off x="8001000" y="5357880"/>
            <a:ext cx="847800" cy="111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Admin\Мои документы\Мои рисунки\Анимашки\Бабочки жучки и т п\44584253.gif"/>
          <p:cNvPicPr/>
          <p:nvPr/>
        </p:nvPicPr>
        <p:blipFill>
          <a:blip r:embed="rId7"/>
          <a:stretch/>
        </p:blipFill>
        <p:spPr>
          <a:xfrm>
            <a:off x="7572240" y="428760"/>
            <a:ext cx="138132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Admin\Рабочий стол\угадай\Зелёный.gif"/>
          <p:cNvPicPr/>
          <p:nvPr/>
        </p:nvPicPr>
        <p:blipFill>
          <a:blip r:embed="rId8"/>
          <a:stretch/>
        </p:blipFill>
        <p:spPr>
          <a:xfrm>
            <a:off x="7643880" y="6429240"/>
            <a:ext cx="1352520" cy="28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A59-BACE-4FBB-BBFF-02335CB35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240" y="3357720"/>
            <a:ext cx="629604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онова Светлана Григорьевна-учитель музыки, пения и ритмики МКС(к)ОУ С(к)ОШ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г.Малмыжа, Кир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76360" y="907920"/>
            <a:ext cx="5832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льный рин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 нота есть в гуляке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каляке, и в маляк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емлянике на полянк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еще в стеклянной склянке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12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Знает нота, что о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селяет мир од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ет нота, что о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селяет мир од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43480" y="271476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просы 2 команд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яти провод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ет стая п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пяти провод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дыхает стая птах.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43160" y="2828880"/>
            <a:ext cx="2857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Эта нота в каждом дом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аждой будочке живе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 лежит она в ладон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 на лодочке плыв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Эта нота в каждом дом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каждой будочке живет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 лежит она в ладон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 на лодочке плывет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мчит на бал в каре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ещет в море и в реке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ть она и в винегре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в ремне, и в терем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мчит на бал в карет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лещет в море и в реке,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ь она и в винегрет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в ремне, и в теремк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00280" y="2714760"/>
            <a:ext cx="214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водится в камин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т миндаль и ходит в мин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жет мину залож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в милиции слу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звания  коман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16000" y="1268280"/>
            <a:ext cx="7128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исоль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селые но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водится в камин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 миндаль и ходит в мин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ожет мину заложить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в милиции служ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43480" y="271476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та на консоль вст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ольфеджио по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ота на консоль вста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сольфеджио поет. 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005280"/>
            <a:ext cx="457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зыкальный 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называется коллектив музыкантов, играющих на различных инструмента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овите многократно повторяющуюся часть песни? (припе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п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называется коллектив певцов, совместно исполняющий вокальное произвед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96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просы 1 команд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ять веревочек вися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их сто птичек голос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называется исполнитель музыкального произведения или отдельной партии, как называют такого челове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лис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616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называется упругая, туго натянутая нить, применяемая во многих музыкальных инструментах,  и служащая источником зву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у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16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азовите инструмент, название которого складывается из двух итальянских слов - громко и тих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фортепиа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977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узыкальный но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 листе бумаги составить как можно больше слов, в состав которых  входят названия н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сливый зая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Жил-был в лесу заяц-трусиш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шел однажды заяц из дома, а ёжик в кустах вдруг как зашуршит!(целлофановый пакет)                              Испугался заяц и бежать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жал, бежал и присел на пенёк отдохнуть.                                                                                               А дятел на сосне как застучит! (ложки изображают стук дятла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осился заяц бежать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жал, бежал, забежал в самую чащу, а там сова крыльями как захлопает! (шлёпаем руками себя по бока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бежал заяц из леса к речке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на берегу речки лягушки сидели. (рубель- медленно, подражая кваканью лягушек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идели они зайца и прыг в воду. (металлофон – несколько раз провести быстро палочкой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радовался заяц, что лягушки его испугались   и смело поскакал обратно в лес.  (кастаньеты – медленно! - "смелый заяц"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какой песне есть строк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«Славься, Отечество, наше свободное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я Россия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имн России.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ствуй, Родина, мо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405936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C:\Documents and Settings\Администратор\Рабочий стол\7.jpg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ять веревочек висят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них сто птичек голосят(нотный стан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15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озитор – это тот,к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няет     Сочиняет                Слуш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у              музыку                  му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4498920" y="34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Documents and Settings\Администратор\Рабочий стол\Безымянный.jpg"/>
          <p:cNvPicPr/>
          <p:nvPr/>
        </p:nvPicPr>
        <p:blipFill>
          <a:blip r:embed="rId1"/>
          <a:stretch/>
        </p:blipFill>
        <p:spPr>
          <a:xfrm>
            <a:off x="6877080" y="350028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2908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C:\Documents and Settings\Администратор\Рабочий стол\3.jpg"/>
          <p:cNvPicPr/>
          <p:nvPr/>
        </p:nvPicPr>
        <p:blipFill>
          <a:blip r:embed="rId2"/>
          <a:stretch/>
        </p:blipFill>
        <p:spPr>
          <a:xfrm>
            <a:off x="468360" y="3284640"/>
            <a:ext cx="1857240" cy="2765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407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C:\Documents and Settings\Администратор\Рабочий стол\2.jpg"/>
          <p:cNvPicPr/>
          <p:nvPr/>
        </p:nvPicPr>
        <p:blipFill>
          <a:blip r:embed="rId3"/>
          <a:stretch/>
        </p:blipFill>
        <p:spPr>
          <a:xfrm>
            <a:off x="3132000" y="4508640"/>
            <a:ext cx="2292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из какой пес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7986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gpreview (1)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5252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_015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463760" cy="2047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4520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gpreview" descr=""/>
          <p:cNvPicPr/>
          <p:nvPr/>
        </p:nvPicPr>
        <p:blipFill>
          <a:blip r:embed="rId3"/>
          <a:stretch/>
        </p:blipFill>
        <p:spPr>
          <a:xfrm>
            <a:off x="6156360" y="4076640"/>
            <a:ext cx="1923840" cy="1886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gpreview (2)" descr=""/>
          <p:cNvPicPr/>
          <p:nvPr/>
        </p:nvPicPr>
        <p:blipFill>
          <a:blip r:embed="rId4"/>
          <a:stretch/>
        </p:blipFill>
        <p:spPr>
          <a:xfrm>
            <a:off x="4572000" y="1628640"/>
            <a:ext cx="1647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ьте от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еменские музыка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а и льв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 леополь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Волнует музыка, тревожит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новь пробуждая красоту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никогда никто не сможет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равниться с ней по волшебст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пев: 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Чтоб луч надежды не пог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Дарите музыку друг другу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усть каждый день и каждый час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добно радостному чуду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есь мир прекрасный и зовущий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мещает музыка в себя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ней рокот волн, о берег бьющих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трепет листьев сентябр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пев: 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Чтоб луч надежды не погас.</a:t>
            </a:r>
            <a:br>
              <a:rPr sz="16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27280" y="476280"/>
            <a:ext cx="309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рите музы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говорит: "Мерси!"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здит только на такс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ожает мокасины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лачей и апель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говорит: "Мерси!"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здит только на такс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ожает мокасины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илачей и апельсины.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1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Эта нота там, где дожд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дости и подорожн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ей и радость, и зад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ей добрее команд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Эта нота там, где дожди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адости и подорожни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 ней и радость, и задор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 ней добрее командор.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а нота есть в гуляк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 каляке, и в маля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емлянике на полян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еще в стеклянной скля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7:56:29Z</dcterms:created>
  <dc:creator>UserXP</dc:creator>
  <dc:description/>
  <dc:language>en-US</dc:language>
  <cp:lastModifiedBy>UserXP</cp:lastModifiedBy>
  <dcterms:modified xsi:type="dcterms:W3CDTF">2014-03-24T10:08:40Z</dcterms:modified>
  <cp:revision>7</cp:revision>
  <dc:subject/>
  <dc:title>Слайд 1</dc:title>
</cp:coreProperties>
</file>