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6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945-227E-4B20-9B3E-F8762DE8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5A8-D0D6-4302-96DB-7C90EC81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623-141A-4FA4-B064-E4879481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20B-D0E6-4234-B52A-6087F4CD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A154-2098-4704-B670-CB9B7A27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F613-1927-42A2-9C3E-F3AAF5E8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3FB1-E060-4CB0-8A2A-D425C9BF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35B5-5E53-497E-A507-9F862A48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AA41-3494-4C0E-81D7-32344133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FE07-5D63-4002-B950-56534209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1456-EC15-4729-BA7E-548612B4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D85-560D-4946-A050-F95D572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9F74-BA32-4C78-97D3-4BBED0DD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FB6D-81AC-4BD8-8F44-E176AB92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25B6-47A2-49DC-A187-E28C45D7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3DDC-4167-416B-BAA8-ECD0A7AA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C902-A24C-40D7-8D29-54702517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A4B-C7A0-48B6-B2A0-931FADC8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B1C-A937-4D6C-9FF2-1626F8D1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532-ECC8-42DD-A8F2-76D2AA8C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584-EFFA-40FA-824C-B8C322CC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901-0FA3-4B29-8C48-CF66D5B8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8EC-2911-4A66-B49A-0A55495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8C5-CB42-4478-95B6-F2B09D32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BA3F-C31E-47EC-BBE5-02A5BF7F0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C:\Documents and Settings\Admin\Рабочий стол\Мои шаблоны презентаций\фоны\роз3.gif"/>
          <p:cNvPicPr/>
          <p:nvPr/>
        </p:nvPicPr>
        <p:blipFill>
          <a:blip r:embed="rId2"/>
          <a:stretch/>
        </p:blipFill>
        <p:spPr>
          <a:xfrm>
            <a:off x="6551640" y="5214960"/>
            <a:ext cx="2592360" cy="1643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Мои документы\Мои рисунки\Анимашки\Бабочки жучки и т п\borb27.gif"/>
          <p:cNvPicPr/>
          <p:nvPr/>
        </p:nvPicPr>
        <p:blipFill>
          <a:blip r:embed="rId3"/>
          <a:stretch/>
        </p:blipFill>
        <p:spPr>
          <a:xfrm>
            <a:off x="214200" y="142920"/>
            <a:ext cx="91440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Admin\Рабочий стол\Мои шаблоны презентаций\фоны\роз3.gif"/>
          <p:cNvPicPr/>
          <p:nvPr/>
        </p:nvPicPr>
        <p:blipFill>
          <a:blip r:embed="rId2"/>
          <a:stretch/>
        </p:blipFill>
        <p:spPr>
          <a:xfrm>
            <a:off x="6551640" y="5214960"/>
            <a:ext cx="2592360" cy="164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\Мои документы\Мои рисунки\Анимашки\Бабочки жучки и т п\borb27.gif"/>
          <p:cNvPicPr/>
          <p:nvPr/>
        </p:nvPicPr>
        <p:blipFill>
          <a:blip r:embed="rId3"/>
          <a:stretch/>
        </p:blipFill>
        <p:spPr>
          <a:xfrm>
            <a:off x="214200" y="14292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роз.gif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Admin\Мои документы\Мои рисунки\Анимашки\Бабочки жучки и т п\165.gif"/>
          <p:cNvPicPr/>
          <p:nvPr/>
        </p:nvPicPr>
        <p:blipFill>
          <a:blip r:embed="rId5"/>
          <a:stretch/>
        </p:blipFill>
        <p:spPr>
          <a:xfrm>
            <a:off x="142920" y="3857760"/>
            <a:ext cx="2438280" cy="1895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Admin\Мои документы\Мои рисунки\Анимашки\Бабочки жучки и т п\borb26.gif"/>
          <p:cNvPicPr/>
          <p:nvPr/>
        </p:nvPicPr>
        <p:blipFill>
          <a:blip r:embed="rId6"/>
          <a:stretch/>
        </p:blipFill>
        <p:spPr>
          <a:xfrm>
            <a:off x="8001000" y="5357880"/>
            <a:ext cx="847800" cy="111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Documents and Settings\Admin\Мои документы\Мои рисунки\Анимашки\Бабочки жучки и т п\44584253.gif"/>
          <p:cNvPicPr/>
          <p:nvPr/>
        </p:nvPicPr>
        <p:blipFill>
          <a:blip r:embed="rId7"/>
          <a:stretch/>
        </p:blipFill>
        <p:spPr>
          <a:xfrm>
            <a:off x="7572240" y="428760"/>
            <a:ext cx="1381320" cy="138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Admin\Рабочий стол\угадай\Зелёный.gif"/>
          <p:cNvPicPr/>
          <p:nvPr/>
        </p:nvPicPr>
        <p:blipFill>
          <a:blip r:embed="rId8"/>
          <a:stretch/>
        </p:blipFill>
        <p:spPr>
          <a:xfrm>
            <a:off x="7643880" y="6429240"/>
            <a:ext cx="1352520" cy="289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8C5C-93F8-4A76-8048-6F4373A5C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240" y="3357720"/>
            <a:ext cx="629604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онова Светлана Григорьевна-учитель музыки, пения и ритмики МКС(к)ОУ С(к)ОШ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г.Малмыжа, Киров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76360" y="907920"/>
            <a:ext cx="5832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зыкальный рин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а нота есть в гуляке,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в каляке, и в маляк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землянике на полянк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 еще в стеклянной склянке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712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Знает нота, что о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селяет мир од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нает нота, что он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селяет мир од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43480" y="2714760"/>
            <a:ext cx="2057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опросы 2 команд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яти провод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ыхает стая пт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пяти провода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дыхает стая птах.</a:t>
            </a:r>
            <a:br>
              <a:rPr sz="16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143160" y="2828880"/>
            <a:ext cx="2857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Эта нота в каждом дом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каждой будочке живет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о лежит она в ладони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о на лодочке плыв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Эта нота в каждом доме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каждой будочке живет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о лежит она в ладони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о на лодочке плывет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Нота мчит на бал в карет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ещет в море и в реке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ть она и в винегрет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 в ремне, и в терем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Нота мчит на бал в карете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лещет в море и в реке,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сть она и в винегрете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в ремне, и в теремк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00280" y="2714760"/>
            <a:ext cx="21434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Нота водится в камин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т миндаль и ходит в мини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ожет мину заложи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 в милиции служ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звания  коман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16000" y="1268280"/>
            <a:ext cx="712800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мисоль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селые но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Нота водится в камине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ст миндаль и ходит в мини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Может мину заложить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в милиции служи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43480" y="2714760"/>
            <a:ext cx="2057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ота на консоль вст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сольфеджио по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Нота на консоль вста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сольфеджио поет. </a:t>
            </a:r>
            <a:br>
              <a:rPr sz="16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3005280"/>
            <a:ext cx="457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зыкальный но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называется коллектив музыкантов, играющих на различных инструментах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ркест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зовите многократно повторяющуюся часть песни? (припев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ип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называется коллектив певцов, совместно исполняющий вокальное произвед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896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опросы 1 команд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ять веревочек вися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них сто птичек голос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 называется исполнитель музыкального произведения или отдельной партии, как называют такого человек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олис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5616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 называется упругая, туго натянутая нить, применяемая во многих музыкальных инструментах,  и служащая источником звук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ру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176720" cy="360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816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Назовите инструмент, название которого складывается из двух итальянских слов - громко и тих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фортепиа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977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узыкальный но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 листе бумаги составить как можно больше слов, в состав которых  входят названия н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усливый зая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Жил-был в лесу заяц-трусиш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ышел однажды заяц из дома, а ёжик в кустах вдруг как зашуршит!(целлофановый пакет)                              Испугался заяц и бежать. (кастаньеты – стучим быстро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ежал, бежал и присел на пенёк отдохнуть.                                                                                               А дятел на сосне как застучит! (ложки изображают стук дятла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росился заяц бежать. (кастаньеты – стучим быстро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ежал, бежал, забежал в самую чащу, а там сова крыльями как захлопает! (шлёпаем руками себя по бокам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бежал заяц из леса к речке. (кастаньеты – стучим быстро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на берегу речки лягушки сидели. (рубель- медленно, подражая кваканью лягушек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видели они зайца и прыг в воду. (металлофон – несколько раз провести быстро палочкой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радовался заяц, что лягушки его испугались   и смело поскакал обратно в лес.  (кастаньеты – медленно! - "смелый заяц"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 какой песне есть строк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«Славься, Отечество, наше свободное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я Россия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имн России.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дравствуй, Родина, мо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4059360" y="25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C:\Documents and Settings\Администратор\Рабочий стол\7.jpg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ять веревочек висят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 них сто птичек голосят(нотный стан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3152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озитор – это тот,к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няет     Сочиняет                Слуш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зыку              музыку                  му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4498920" y="345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Documents and Settings\Администратор\Рабочий стол\Безымянный.jpg"/>
          <p:cNvPicPr/>
          <p:nvPr/>
        </p:nvPicPr>
        <p:blipFill>
          <a:blip r:embed="rId1"/>
          <a:stretch/>
        </p:blipFill>
        <p:spPr>
          <a:xfrm>
            <a:off x="6877080" y="3500280"/>
            <a:ext cx="1714320" cy="2571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52908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2" descr="C:\Documents and Settings\Администратор\Рабочий стол\3.jpg"/>
          <p:cNvPicPr/>
          <p:nvPr/>
        </p:nvPicPr>
        <p:blipFill>
          <a:blip r:embed="rId2"/>
          <a:stretch/>
        </p:blipFill>
        <p:spPr>
          <a:xfrm>
            <a:off x="468360" y="3284640"/>
            <a:ext cx="1857240" cy="2765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407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1" descr="C:\Documents and Settings\Администратор\Рабочий стол\2.jpg"/>
          <p:cNvPicPr/>
          <p:nvPr/>
        </p:nvPicPr>
        <p:blipFill>
          <a:blip r:embed="rId3"/>
          <a:stretch/>
        </p:blipFill>
        <p:spPr>
          <a:xfrm>
            <a:off x="3132000" y="4508640"/>
            <a:ext cx="22924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то из какой пес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27986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mgpreview (1)" descr=""/>
          <p:cNvPicPr/>
          <p:nvPr/>
        </p:nvPicPr>
        <p:blipFill>
          <a:blip r:embed="rId1"/>
          <a:stretch/>
        </p:blipFill>
        <p:spPr>
          <a:xfrm>
            <a:off x="2340000" y="4221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35252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_015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1463760" cy="2047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45200" y="30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gpreview" descr=""/>
          <p:cNvPicPr/>
          <p:nvPr/>
        </p:nvPicPr>
        <p:blipFill>
          <a:blip r:embed="rId3"/>
          <a:stretch/>
        </p:blipFill>
        <p:spPr>
          <a:xfrm>
            <a:off x="6156360" y="4076640"/>
            <a:ext cx="1923840" cy="1886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11480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gpreview (2)" descr=""/>
          <p:cNvPicPr/>
          <p:nvPr/>
        </p:nvPicPr>
        <p:blipFill>
          <a:blip r:embed="rId4"/>
          <a:stretch/>
        </p:blipFill>
        <p:spPr>
          <a:xfrm>
            <a:off x="4572000" y="1628640"/>
            <a:ext cx="16477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верьте от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еменские музыкан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бура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паха и льве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 леополь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Волнует музыка, тревожит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новь пробуждая красоту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никогда никто не сможет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равниться с ней по волшебств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ипев: Дарите музыку всегда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каждый день и каждый час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на звучит в сердцах у нас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арите музыку всегда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каждый день и каждый час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Чтоб луч надежды не погас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Дарите музыку друг другу!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усть каждый день и каждый час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одобно радостному чуду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на звучит в сердцах у нас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есь мир прекрасный и зовущий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мещает музыка в себя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ней рокот волн, о берег бьющих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трепет листьев сентября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ипев: Дарите музыку всегда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каждый день и каждый час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на звучит в сердцах у нас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арите музыку всегда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каждый день и каждый час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Чтоб луч надежды не погас.</a:t>
            </a:r>
            <a:br>
              <a:rPr sz="16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27280" y="476280"/>
            <a:ext cx="309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рите музык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Нота говорит: "Мерси!"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здит только на такси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ожает мокасины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илачей и апельс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Нота говорит: "Мерси!"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здит только на такси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божает мокасины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илачей и апельсины.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11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Эта нота там, где дождик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ладости и подорожник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ней и радость, и задор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ней добрее команд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Эта нота там, где дождик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ладости и подорожник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 ней и радость, и задор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 ней добрее командор.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c5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а нота есть в гуляке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 каляке, и в маляк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емлянике на полянк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еще в стеклянной скля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7:56:29Z</dcterms:created>
  <dc:creator>UserXP</dc:creator>
  <dc:description/>
  <dc:language>en-US</dc:language>
  <cp:lastModifiedBy>UserXP</cp:lastModifiedBy>
  <dcterms:modified xsi:type="dcterms:W3CDTF">2014-03-24T10:08:40Z</dcterms:modified>
  <cp:revision>7</cp:revision>
  <dc:subject/>
  <dc:title>Слайд 1</dc:title>
</cp:coreProperties>
</file>