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AE6-799A-4A12-915B-78116C24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C64-A696-4062-9D3F-713BB8C6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868-E029-4E0F-AD04-F6A1AF01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D8F-09C5-43D0-BD11-3F6A7D86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23E5-89C6-49B3-9A2B-0BD1422B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2129-EAC1-47EE-B118-391A5201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98EA-9E68-42FD-A4DC-F9890CD0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7349-A97F-4600-AE1A-7DE5240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8518-D0A3-412D-9F7D-7A535019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D564-071A-4D41-BB6A-61799219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78C5-9939-4798-AB26-FD7C0F3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E10-1CA4-4B8B-ACF0-97F9F86E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EFDE-BE53-43B5-8117-25DA328C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D504-FC41-4839-97A4-DEBA943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2313-00A4-4438-B277-7B58A899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651A-A23D-45BE-AB6E-6008CB7D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0F88-D458-457B-8FFD-E3347E0A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27C-9AAD-4CCE-95D4-E03E6DF8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01D-CE7F-4C25-AD0F-5E75439A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47C-44B2-4D2D-B61A-46FE15C1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BD5-D95E-469B-8075-A5ABC25D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713-32FA-4A91-BAE7-AABA293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53F-2966-4B73-B56A-F8DA8B72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861-BB2B-4A65-A115-524901A0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6849-3FC3-4B66-B189-0EE30CF665F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E03A-1F34-43B5-93A6-9087CCF2A4F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ia-phone.ru/content/18-resistive-display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это работает </a:t>
            </a:r>
            <a:br>
              <a:rPr sz="36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ыпуск 2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620064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5791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ланше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28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сточники: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ww/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Asia-Phone.ru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80840" y="781200"/>
            <a:ext cx="788652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Планшеты будущего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Microsoft и университет Carnegie Mellon совместно разработали невероятно любопытный концепт пользовательского интерфейса. Skinput – таково его название – по сути представляет собой сенсорный экран, который будет располагаться прямо на вашем теле. С его помощью можно, например, контролировать звонки и писать сообщения, играть и т.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Skinput - тело человека в роли тачскрина (видео)"/>
          <p:cNvPicPr/>
          <p:nvPr/>
        </p:nvPicPr>
        <p:blipFill>
          <a:blip r:embed="rId1"/>
          <a:stretch/>
        </p:blipFill>
        <p:spPr>
          <a:xfrm>
            <a:off x="762120" y="350532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появилс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 1971 году ученый по имени Сэмюэль Херст разработал элограф – графический планшет, работающий по 4-х проводному резистивному принцип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а уже в 1977 году он разработал пятипроводной резистивный сенсорный дисплей. В 1982 году на всемирной ярмарке был представлен первый телевизор с сенсорным экраном. С того момента технологии совершенствовались. Удешевлялись материалы и сенсорные дисплеи становились все доступнее. В наши дни для нас это уже кажется обыденностью, в отличие от того времени, когда это казалось революционным прорыв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4004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иды сенсорных экран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2320"/>
            <a:ext cx="426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астоящее время сенсорные экраны принято подразделять на несколько видов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бывают четырех-, пяти-, восьмипроводными)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екционно-емкостные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трично-емкостные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тические и тензометрически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зистивны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РОЕКЦИОННО-ЁМКОСТНОЙ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ЕНСОРНЫЙ ДИСПЛЕЙ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00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 касании проекционно-ёмкостного сенсорного дисплея пальцем емкость электродов под пальцем изменяется и контроллер, таким образом, определяет место кас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1257480" cy="1257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69160" y="2286000"/>
            <a:ext cx="317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остоинства и недостатк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953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иболее важным достоинством проекционно-емкостных дисплеев является поддержка мультитач, более точное определение координат по сравнению с резистивными дисплеями, высокое светопропускание, определение силы нажатия, очень долговечны. Из недостатков только то, что работать с устройствами с таким типом дисплея можно только пальцем или специальным стилус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28764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езистивные сенсорные диспле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странство между стеклом и мембраной разделено диэлектриком, который равномерно распределен по всей плоскости резистивного дисплея. При нажатии на резистивный дисплей происходит замыкание мембраны и панели, и далее управляющая электроника регистрирует изменения и вычисляет координаты точки кас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Резистивный дисплей"/>
          <p:cNvPicPr/>
          <p:nvPr/>
        </p:nvPicPr>
        <p:blipFill>
          <a:blip r:embed="rId1"/>
          <a:stretch/>
        </p:blipFill>
        <p:spPr>
          <a:xfrm>
            <a:off x="4952880" y="220968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нцип работы пятипроводного резистивного диспле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8381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тричные экран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845820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 мембрану специально нанесли вертикальные проводники, а на стекло – горизонтальные. Если нажать на дисплей, то проводники обязательно соприкоснутся, замкнутся крест-накрест. Процессор может отследить, какие проводники замкнулись, и это помогает обнаружить координаты нажатия. Матричные экраны нельзя назвать высокоточными, поэтому их уже продолжительное время не использую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6353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04960" y="80496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Экран с сеткой инфракрасных лучей</a:t>
            </a:r>
            <a:br>
              <a:rPr sz="32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39625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этом случае проводники заменяют специальными инфракрасными лучами. Вокруг данного экрана проходит рамка, в которой есть встроенные излучатели, а также приемники. Если нажать на экран, то некоторые лучи будут перекрываться, и они не могут достигнуть собственного пункта назначения, а именно приемника. В итоге контроллер вычисляет место контакт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4981680" cy="373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579132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1 -сенсоры, 2 - отражатели 3 - источники 4 - процессор, определяющий координаты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05:57:48Z</dcterms:created>
  <dc:creator>домашний</dc:creator>
  <dc:description/>
  <dc:language>en-US</dc:language>
  <cp:lastModifiedBy>домашний</cp:lastModifiedBy>
  <dcterms:modified xsi:type="dcterms:W3CDTF">2014-02-11T11:16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