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A59-27B0-4C6B-A03D-C0EBD2DB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11F-3DAF-46EA-B6DD-8ACB3B8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91C-02D8-47FB-86F3-E22F0270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7FD-759E-47C0-971B-B4A76A49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5B5-C6E2-4974-A242-94188AE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C15-7226-42F7-B0BD-F793ADB7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C9A-0B8D-4781-8510-BD53A1D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1DA-8F3A-4036-9D06-A0D8C3EB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F0D-E601-4C0E-A3DA-455BAE07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4FF-045F-4B5B-BF07-1B7E983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00F-DEE7-454F-B887-9A4B879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C21-AD7E-45ED-82B5-6D963B8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5B8-C95A-44E2-B86B-8AF83E4D0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396072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йцева Людмила Станислав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эк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11280" y="33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 Константин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476360" y="1773360"/>
            <a:ext cx="64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ЫЙ   ОБРАЗ   ЖИЗН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21258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rial"/>
              </a:rPr>
              <a:t>САМЫЕ ВРЕДНЫЕ ПРИВЫ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900000" y="24922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7451640" y="24922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4356000" y="256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203480" y="43545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КУ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929040" y="4149720"/>
            <a:ext cx="125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ЛКОГ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732720" y="4437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НАРКО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47640" y="5125680"/>
            <a:ext cx="62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се они отрицательно влияют на здоровье человека, разрушающе действуя на его организм и вызывая различные заболе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2268360" y="549360"/>
            <a:ext cx="468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заводи вредных привычек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948360" y="1341360"/>
            <a:ext cx="194472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023840" y="1816200"/>
            <a:ext cx="5060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4000" y="999360"/>
            <a:ext cx="619272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урение   таба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является   одной   из    наиболее распространенных  вредных привычек. С течением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  вызывает    физическую и   психическую  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рильщи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 Прежде  всего от   табачного   дыма    страдает легочная система,    разрушаются     механизмы   защиты   легких,    и развивается   хроническое    заболевание  —  бронхит курильщи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Часть   табачных  ингредиентов   растворяется  в слюне 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адая   в   желудок,   вызывает   воспаление   слизист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последствии    развивающееся   в   язвенную   боле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удка   или   двенадцатиперстной   киш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Табачный дым вредно влияет не только на курящего, но и на тех, кто находится рядом с ним. В этом случае у некурящих людей возникает головная боль, недомогание, обостряются заболевания верхних дыхательных путей, происходят негативные изменения в деятельности нервной системы и составе крови. Особенно вредное влияние оказывает пассивное курение на детей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484360" y="476280"/>
            <a:ext cx="43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заводи вредных привычек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413000"/>
            <a:ext cx="4824360" cy="40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рт (алкоголь)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торый содержи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  спиртных   напи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 алкоголя  очевиден.  Алкоголь разносится  по  крови  ко  всем  органам  и неблагоприятно на них действует, вплоть до разрушения. При   неумеренном употреблении вызывает заболевания желу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  систематическом         употреблении   алкоголя   развивается алкогол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ая   проблема   состоит    в том,  что большая    часть    алкогольной    продукции содержит   большое   количество   ядовитых   веществ.    Употребление   такой  продукции   приводит   к   отравлениям  и  даже   смер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2556000" y="476280"/>
            <a:ext cx="4103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заводи вредных привычек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5724360" y="2205000"/>
            <a:ext cx="30736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рко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собые вещества, разрушающие организм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88152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95280" y="1918440"/>
            <a:ext cx="43927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рко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  пристрастие   к употреблению наркотиков, болезненное влечение, которое приводит к тяжелым нарушениям, в первую очередь, психических и физических функций орган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5280" y="3793320"/>
            <a:ext cx="4319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  наркоманы  долго  не живут, вне зависимости   от   вида   употребляемого наркотика. Они    утрачивают     инстинкт самосохранения, что приводит к тому, что около 60% наркоманов, в течение первых двух лет после приобщения к наркотикам, предпринимают  попытку к  самоубийству. Многим из них это уд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2556000" y="549360"/>
            <a:ext cx="41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заводи вредных привычек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блюдаешь ли ты режим дн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ешь ли ты утреннюю зарядк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лько времени ежедневно проводишь на свежем воздух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лько времени проводишь у телевизор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лько раз в день ты питаешь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ва продолжительность твоего с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лько времени тратишь на выполнение домашнего зад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тишь ли зуб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ешь ли после школ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95640" y="476280"/>
            <a:ext cx="48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кета «Здоровый образ жизни»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того чтобы Ваш ребенок был успешным и здоровым, постарайтесь соз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му благоприятные условия для учебного труда и полноценного отдых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добная мебель, соответствующая росту и возрасту ребенка, относительно жесткая, но удобная кровать с подушкой по высоте плеча ребенка, теплое, но не тяжелое одеял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рошее освещение (чрезмерно яркое освещение вредно не менее, чем тусклый свет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жный воздушно-тепловой режим - проветривание помещения 10 минут каждый час, температура воздуха не выше 2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ите ребенка поддерживать порядок на рабочем месте, он не только экономит время и силы ребенка, но и воспитывает в нем прилежание и аккуратность, то, что в будущем составит культуру его труд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должительность занятий дома не более 20-25 минут и 10-15 минут, но не более, "перемена"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 время отдыха не следует включать телевизор, читать художественную литературу и т.п., лучше выполнить несколько гимнастических упражнений, выпить стакан сока или ча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гательная активность в режиме дня ребенка должна занимать не менее 1/5 суточного бюджета времени (за вычетом времени сна и дневного отдых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2843280" y="47628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заметку родителям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ти здоровый образ жизни - это значит постоянно выполнять правила сохранения и укрепления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людать чист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 пит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етать труд и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водить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492360" y="549360"/>
            <a:ext cx="194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вод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2060280"/>
            <a:ext cx="50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sunhome.ru/psychology/12328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2491920"/>
            <a:ext cx="43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bydzdorov.ru/17priv.html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2997000"/>
            <a:ext cx="59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kurenie-yad.org/stati/kak-umenshit-vred-ot-kureniya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50920" y="3499920"/>
            <a:ext cx="596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kleo.ru/items/zdorovie/alcogol_ad.s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4005360"/>
          <a:ext cx="2305080" cy="3348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region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31"/>
          <p:cNvSpPr txBox="1"/>
          <p:nvPr/>
        </p:nvSpPr>
        <p:spPr>
          <a:xfrm>
            <a:off x="3059280" y="54936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нет - ресурсы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еть влияние вредных привычек на организм  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ять и сохранять здоровье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здоровый образ жизни как социальное 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еть компоненты и признак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вредные привычки, пагубно влияющие на здоровь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987640" y="476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и  и задач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00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доровый образ жиз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ОЖ) —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браз жиз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дельного человека с  целью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рофилактики болезн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укрепления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«здоровый образ жизни» однозначно пока ещё не определено. Представители философско-социологического направления (П. А. Виноградов, Б. С. Ерасов, О. А. Мильштейн, В. А. Пономарчук, В. И. Столяров и др.) рассматривают здоровый образ жизни как глобальную социальную проблему, составную часть жизни общества в це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Ж является предпосылкой для развития других сторон жизнедеятельности человека, достижения им активного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долголетия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лноценного выполнения социальн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ворится: «Здоровье — это ещё не всё, но всё без здоровья — это ничт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2556000" y="47628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такое здоровый образ жизни?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0"/>
          <p:cNvSpPr/>
          <p:nvPr/>
        </p:nvSpPr>
        <p:spPr>
          <a:xfrm>
            <a:off x="1042920" y="1557360"/>
            <a:ext cx="649440" cy="1295280"/>
          </a:xfrm>
          <a:prstGeom prst="downArrow">
            <a:avLst>
              <a:gd name="adj1" fmla="val 50000"/>
              <a:gd name="adj2" fmla="val 49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284720" y="1557360"/>
            <a:ext cx="628560" cy="1224000"/>
          </a:xfrm>
          <a:prstGeom prst="down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093080" y="1557360"/>
            <a:ext cx="628560" cy="1224000"/>
          </a:xfrm>
          <a:prstGeom prst="down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2627280" y="2781360"/>
            <a:ext cx="649440" cy="1295280"/>
          </a:xfrm>
          <a:prstGeom prst="downArrow">
            <a:avLst>
              <a:gd name="adj1" fmla="val 50000"/>
              <a:gd name="adj2" fmla="val 49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5940360" y="2781360"/>
            <a:ext cx="647640" cy="1295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5"/>
          <p:cNvSpPr txBox="1"/>
          <p:nvPr/>
        </p:nvSpPr>
        <p:spPr>
          <a:xfrm>
            <a:off x="2195640" y="549360"/>
            <a:ext cx="47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а здорового образа жизн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24000" y="321300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гигиена шк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1763640" y="4437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четай труд и отд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635280" y="3068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е двигай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4932360" y="422100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о питай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443640" y="3141720"/>
            <a:ext cx="2519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води вредных привычек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и в чистоте своё тело, одежду и ж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ней Иванович Чуковский не зря говор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чно, надо не только умываться. Надо мыть руки, чистить зубы, принимать душ, мыться с мылом и мочалкой, чистить обувь и одежду, проветривать помещение, регулярно делать уборку в квартире, содержать в чистоте свой двор, никогда не бросать на улицах мусор мимо урн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 начинается с чистот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619280" y="2133720"/>
            <a:ext cx="5759280" cy="93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до, надо умываться по утрам и вечер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2071800" y="428760"/>
            <a:ext cx="47862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чная гигиена школьника!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доровое пит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дна из основ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итание должно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обра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атое овощами и фрук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р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 спе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3456000" cy="28796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2843280" y="549360"/>
            <a:ext cx="35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ьно питайс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ёба в школе, выполнение домашних заданий – серьёзный тр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при этом сохранить здоровье, надо обязательно чередовать труд с отды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овременного школьника обычно много возможностей для отдых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лечений, среди н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некоторые ребята утром, ещё до школ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ают телевизор, посл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ами просиживают у компью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3141720"/>
            <a:ext cx="2881080" cy="3097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2771640" y="54936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четай труд и отдых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796000" y="350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203480" y="2193840"/>
            <a:ext cx="5240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63480" y="1413000"/>
            <a:ext cx="780120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редно, особенно для нервной системы и зрения. Телевизор, виде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хороши в ме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Не увлекайся ими чересчур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ай в свой распорядок дня прогул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ы на свежем воздухе, чтение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1547640" y="3573360"/>
            <a:ext cx="2303640" cy="2664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9"/>
          <p:cNvSpPr txBox="1"/>
          <p:nvPr/>
        </p:nvSpPr>
        <p:spPr>
          <a:xfrm>
            <a:off x="2556000" y="54936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четай труд и отдых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179280" y="1268280"/>
            <a:ext cx="89265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подвижный образ жизни вредит здоровью, поэтому старайся больше двиг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й заря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ижные игры на свежем возду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йся физическим трудом, физкульту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ыжи, плавание, спортивные игры надёжно служ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оровью детей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2987640" y="54936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ольше двигайся!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3"/>
          <a:stretch/>
        </p:blipFill>
        <p:spPr>
          <a:xfrm>
            <a:off x="3419640" y="3500280"/>
            <a:ext cx="2211120" cy="276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 rot="21133200">
            <a:off x="179280" y="3860280"/>
            <a:ext cx="2880000" cy="225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5"/>
          <a:stretch/>
        </p:blipFill>
        <p:spPr>
          <a:xfrm rot="440400">
            <a:off x="5940000" y="3860640"/>
            <a:ext cx="29242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1:37:12Z</dcterms:created>
  <dc:creator>ioo</dc:creator>
  <dc:description/>
  <dc:language>en-US</dc:language>
  <cp:lastModifiedBy>admin</cp:lastModifiedBy>
  <dcterms:modified xsi:type="dcterms:W3CDTF">2015-01-17T19:00:04Z</dcterms:modified>
  <cp:revision>62</cp:revision>
  <dc:subject/>
  <dc:title>ЗДОРОВЫЙ ОБРАЗ ЖИЗНИ</dc:title>
</cp:coreProperties>
</file>