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6.jpeg" ContentType="image/jpeg"/>
  <Override PartName="/ppt/media/image4.jpeg" ContentType="image/jpeg"/>
  <Override PartName="/ppt/media/ricochet.wav" ContentType="audio/x-wav"/>
  <Override PartName="/ppt/media/cashreg.wav" ContentType="audio/x-wav"/>
  <Override PartName="/ppt/media/explod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7B95-5FBD-4DB7-96BA-51977423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3AF8-16DF-436E-B703-025A5660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F1BA-0A46-48C0-8CBF-7091D8539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763A-F427-4495-A4C2-4226D62D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E17C-667E-4FFC-8584-3CBD3C5F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E32B-0A13-40F9-ACAE-D97E76AF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D923-50BD-4078-97AD-BD550BE3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A49F-3CD1-4C97-AC04-74B8192C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8F63-8450-4B93-9FF6-51E47C5A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7A5F-1819-46BB-ACCF-4185E95B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9C0F-E560-4EA9-A266-5F5DC460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9B8F-C520-43BE-A247-C3DF7941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5F45-D263-44BB-8408-A6FAFF5C9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0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0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0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0.xml"/><Relationship Id="rId3" Type="http://schemas.openxmlformats.org/officeDocument/2006/relationships/slide" Target="slide3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0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0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0.xml"/><Relationship Id="rId3" Type="http://schemas.openxmlformats.org/officeDocument/2006/relationships/slide" Target="slide3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0.xml"/><Relationship Id="rId3" Type="http://schemas.openxmlformats.org/officeDocument/2006/relationships/slide" Target="slide3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0.xml"/><Relationship Id="rId3" Type="http://schemas.openxmlformats.org/officeDocument/2006/relationships/slide" Target="slide50.xml"/><Relationship Id="rId4" Type="http://schemas.openxmlformats.org/officeDocument/2006/relationships/slide" Target="slide3.xm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0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44.xml"/><Relationship Id="rId6" Type="http://schemas.openxmlformats.org/officeDocument/2006/relationships/slide" Target="slide14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" Target="slide24.xml"/><Relationship Id="rId12" Type="http://schemas.openxmlformats.org/officeDocument/2006/relationships/slide" Target="slide45.xml"/><Relationship Id="rId13" Type="http://schemas.openxmlformats.org/officeDocument/2006/relationships/slide" Target="slide49.xml"/><Relationship Id="rId14" Type="http://schemas.openxmlformats.org/officeDocument/2006/relationships/slide" Target="slide30.xml"/><Relationship Id="rId15" Type="http://schemas.openxmlformats.org/officeDocument/2006/relationships/slide" Target="slide47.xml"/><Relationship Id="rId16" Type="http://schemas.openxmlformats.org/officeDocument/2006/relationships/slide" Target="slide34.xml"/><Relationship Id="rId17" Type="http://schemas.openxmlformats.org/officeDocument/2006/relationships/slide" Target="slide46.xml"/><Relationship Id="rId18" Type="http://schemas.openxmlformats.org/officeDocument/2006/relationships/slide" Target="slide38.xml"/><Relationship Id="rId19" Type="http://schemas.openxmlformats.org/officeDocument/2006/relationships/slide" Target="slide40.xml"/><Relationship Id="rId20" Type="http://schemas.openxmlformats.org/officeDocument/2006/relationships/slide" Target="slide42.xml"/><Relationship Id="rId21" Type="http://schemas.openxmlformats.org/officeDocument/2006/relationships/slide" Target="slide50.xml"/><Relationship Id="rId22" Type="http://schemas.openxmlformats.org/officeDocument/2006/relationships/slide" Target="slide50.xml"/><Relationship Id="rId2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0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0.xml"/><Relationship Id="rId3" Type="http://schemas.openxmlformats.org/officeDocument/2006/relationships/slide" Target="slide3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0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0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0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0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explod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explod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explod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0.xml"/><Relationship Id="rId3" Type="http://schemas.openxmlformats.org/officeDocument/2006/relationships/slide" Target="slide3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0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0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266760"/>
            <a:ext cx="8572320" cy="64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Единицы веса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00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895320" y="241920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Банан с яблоком весит 240 г. А банан с тремя такими яблоками – 400 г. Узнайте массу банана, яблока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062600" y="623088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308160" y="5519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7659720" y="593892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6" name="Rectangle 9">
            <a:hlinkClick r:id="rId3" action="ppaction://hlinksldjump"/>
          </p:cNvPr>
          <p:cNvSpPr/>
          <p:nvPr/>
        </p:nvSpPr>
        <p:spPr>
          <a:xfrm>
            <a:off x="1257480" y="6515280"/>
            <a:ext cx="647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2286000" y="155412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971640" y="819000"/>
            <a:ext cx="786744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buClr>
                <a:srgbClr val="66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400 – 240 = 160 (г) масса 2-х яблок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66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160 : 2 = 80 (г) масса одного яблока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66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240 – 80 = 160 (г) масса банана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Ответ: 160 г весит банан и 80 г весит яблоко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Единицы веса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781200" y="2247840"/>
            <a:ext cx="7600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imes New Roman"/>
              </a:rPr>
              <a:t>На складе лежат мешки с мукой и крупой. Мешок с мукой весит 80 кг, а с крупой – 60 кг. Каких мешков на складе больше и на сколько, если муки 6400 кг, а крупы – 4200 кг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3805560" y="597096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4" name="Rectangle 8">
            <a:hlinkClick r:id="rId3" action="ppaction://hlinksldjump"/>
          </p:cNvPr>
          <p:cNvSpPr/>
          <p:nvPr/>
        </p:nvSpPr>
        <p:spPr>
          <a:xfrm>
            <a:off x="380880" y="5638680"/>
            <a:ext cx="6400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990720" y="1486080"/>
            <a:ext cx="689616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500"/>
              </a:spcBef>
              <a:buClr>
                <a:srgbClr val="66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imes New Roman"/>
              </a:rPr>
              <a:t>6400 : 80 = 80 (м.) с мукой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spcBef>
                <a:spcPts val="2500"/>
              </a:spcBef>
              <a:buClr>
                <a:srgbClr val="66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imes New Roman"/>
              </a:rPr>
              <a:t>4200 : 60 = 70 (м.) с крупой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66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imes New Roman"/>
              </a:rPr>
              <a:t>80 - 70 = 10 (м.)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imes New Roman"/>
              </a:rPr>
              <a:t>Ответ: На 10 мешков с крупой больше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Время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781200" y="228600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Назовите единицы времени начиная с самой крупной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3774960" y="573264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27240" y="55767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659720" y="59580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228600"/>
            <a:ext cx="48960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0"/>
            <a:ext cx="9144000" cy="64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3" name="Rectangle 8">
            <a:hlinkClick r:id="rId3" action="ppaction://hlinksldjump"/>
          </p:cNvPr>
          <p:cNvSpPr/>
          <p:nvPr/>
        </p:nvSpPr>
        <p:spPr>
          <a:xfrm>
            <a:off x="1276200" y="6515280"/>
            <a:ext cx="6458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1698480" y="4280040"/>
            <a:ext cx="6070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1085760" y="361800"/>
            <a:ext cx="7715520" cy="60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Times New Roman"/>
              </a:rPr>
              <a:t>Тысячелетие       </a:t>
            </a:r>
            <a:r>
              <a:rPr b="1" lang="en-US" sz="4800" spc="-1" strike="noStrike">
                <a:solidFill>
                  <a:srgbClr val="66ffff"/>
                </a:solidFill>
                <a:latin typeface="Times New Roman"/>
              </a:rPr>
              <a:t>Сутки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Times New Roman"/>
              </a:rPr>
              <a:t>Век                      </a:t>
            </a:r>
            <a:r>
              <a:rPr b="1" lang="en-US" sz="4800" spc="-1" strike="noStrike">
                <a:solidFill>
                  <a:srgbClr val="66ffff"/>
                </a:solidFill>
                <a:latin typeface="Times New Roman"/>
              </a:rPr>
              <a:t>Час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Times New Roman"/>
              </a:rPr>
              <a:t>Год                      </a:t>
            </a:r>
            <a:r>
              <a:rPr b="1" lang="en-US" sz="4800" spc="-1" strike="noStrike">
                <a:solidFill>
                  <a:srgbClr val="66ffff"/>
                </a:solidFill>
                <a:latin typeface="Times New Roman"/>
              </a:rPr>
              <a:t>Минута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Times New Roman"/>
              </a:rPr>
              <a:t>Месяц                 </a:t>
            </a:r>
            <a:r>
              <a:rPr b="1" lang="en-US" sz="4800" spc="-1" strike="noStrike">
                <a:solidFill>
                  <a:srgbClr val="66ffff"/>
                </a:solidFill>
                <a:latin typeface="Times New Roman"/>
              </a:rPr>
              <a:t>Секунда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Times New Roman"/>
              </a:rPr>
              <a:t>Неделя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Время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43080" y="1771560"/>
            <a:ext cx="8362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Выразите в более мелких единицах: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ff"/>
                </a:solidFill>
                <a:latin typeface="Times New Roman"/>
              </a:rPr>
              <a:t>1 мин 20 сек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ff"/>
                </a:solidFill>
                <a:latin typeface="Times New Roman"/>
              </a:rPr>
              <a:t>1 год 8 мес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774960" y="584676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240" y="54626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914400" y="2019240"/>
            <a:ext cx="70102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2" name="Rectangle 6">
            <a:hlinkClick r:id="rId3" action="ppaction://hlinksldjump"/>
          </p:cNvPr>
          <p:cNvSpPr/>
          <p:nvPr/>
        </p:nvSpPr>
        <p:spPr>
          <a:xfrm>
            <a:off x="1295280" y="6496200"/>
            <a:ext cx="6419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85800" y="757080"/>
            <a:ext cx="750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1 мин 20 сек = 80 сек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1 год 8 мес = 20 мес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6672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Время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66720" y="1542960"/>
            <a:ext cx="7620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В сутки через легкие человека проходит 10 000 л воздуха. Сколько литров воздуха поступит в лёгкие за месяц? За год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755880" y="56944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240" y="59389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7659720" y="59580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61800" y="228600"/>
            <a:ext cx="7143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66ffff"/>
                </a:solidFill>
                <a:latin typeface="Times New Roman"/>
              </a:rPr>
              <a:t>В месяце 30 дней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imes New Roman"/>
              </a:rPr>
              <a:t>30  х 10 000 = 300 000 л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imes New Roman"/>
              </a:rPr>
              <a:t>В году 365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66ffff"/>
                </a:solidFill>
                <a:latin typeface="Times New Roman"/>
              </a:rPr>
              <a:t>365  х 10 000 = 3 650 000 л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Fausto Papetti-Spely Shores.MP3" descr=""/>
          <p:cNvPicPr/>
          <p:nvPr/>
        </p:nvPicPr>
        <p:blipFill>
          <a:blip r:embed="rId1"/>
          <a:stretch/>
        </p:blipFill>
        <p:spPr>
          <a:xfrm>
            <a:off x="0" y="33717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WordArt 12"/>
          <p:cNvSpPr txBox="1"/>
          <p:nvPr/>
        </p:nvSpPr>
        <p:spPr>
          <a:xfrm>
            <a:off x="1709640" y="1905120"/>
            <a:ext cx="5838840" cy="390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ЛИЧИНЫ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Время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19040" y="1504800"/>
            <a:ext cx="8134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Вычислите, сколько проводит ученик времени в школе, если по расписанию 5 уроков по 45 минут, а перемены по 15 минут? Время выразите в минутах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696480" y="544356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40" y="55008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123920" y="19242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819000" y="1181160"/>
            <a:ext cx="7867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999"/>
              </a:spcBef>
              <a:buClr>
                <a:srgbClr val="66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45  5 = 225 (мин)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spcBef>
                <a:spcPts val="2999"/>
              </a:spcBef>
              <a:buClr>
                <a:srgbClr val="66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4   15 = 60 (мин)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spcBef>
                <a:spcPts val="2999"/>
              </a:spcBef>
              <a:buClr>
                <a:srgbClr val="66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225 + 60 = 285 (мин)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Ответ: 285 мин = 4 ч 45 мин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390840" y="1085760"/>
            <a:ext cx="3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3319560" y="214164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48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Время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755880" y="55990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200240" y="3086280"/>
            <a:ext cx="712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09480" y="1523880"/>
            <a:ext cx="8039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Поезд был в пути 3 ч и прошел 230 км. За первый час он прошел 78 км 500 м, за второй – 3 км 500 м. Какое расстояние прошел поезд за третий час?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026"/>
          <p:cNvSpPr/>
          <p:nvPr/>
        </p:nvSpPr>
        <p:spPr>
          <a:xfrm>
            <a:off x="3240" y="56340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4" name="Text Box 1027"/>
          <p:cNvSpPr/>
          <p:nvPr/>
        </p:nvSpPr>
        <p:spPr>
          <a:xfrm>
            <a:off x="7659720" y="60339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5" name="Text Box 1028"/>
          <p:cNvSpPr/>
          <p:nvPr/>
        </p:nvSpPr>
        <p:spPr>
          <a:xfrm>
            <a:off x="0" y="38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1)78 км 500 м + 3 км 500 м = 82 (км)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2) 230 км – 82 км = 148 (км)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6" name="Rectangle 1030">
            <a:hlinkClick r:id="rId3" action="ppaction://hlinksldjump"/>
          </p:cNvPr>
          <p:cNvSpPr/>
          <p:nvPr/>
        </p:nvSpPr>
        <p:spPr>
          <a:xfrm>
            <a:off x="1314360" y="6477120"/>
            <a:ext cx="6400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Длина, площадь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04920" y="2076480"/>
            <a:ext cx="8420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Вставьте пропущенные названия единиц длины: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1 …= 10 …= 100 …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1…= 1000 … 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774960" y="6132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346320" y="56340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57480" y="2019240"/>
            <a:ext cx="7010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1 м = 10 дм = 100 см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1 км = 1000 м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1 м = 1000 мм 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3" name="Rectangle 10">
            <a:hlinkClick r:id="rId3" action="ppaction://hlinksldjump"/>
          </p:cNvPr>
          <p:cNvSpPr/>
          <p:nvPr/>
        </p:nvSpPr>
        <p:spPr>
          <a:xfrm>
            <a:off x="1276200" y="6496200"/>
            <a:ext cx="643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Площадь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838080" y="21718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Сколько квадратных сантиметров в 4 дм</a:t>
            </a: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? в 3 м</a:t>
            </a: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774960" y="6132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7891560" y="2913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5948640" y="293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026"/>
          <p:cNvSpPr/>
          <p:nvPr/>
        </p:nvSpPr>
        <p:spPr>
          <a:xfrm>
            <a:off x="250920" y="54054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0" name="Text Box 1027">
            <a:hlinkClick r:id="rId2" action="ppaction://hlinksldjump"/>
          </p:cNvPr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3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1" name="Text Box 1028"/>
          <p:cNvSpPr/>
          <p:nvPr/>
        </p:nvSpPr>
        <p:spPr>
          <a:xfrm>
            <a:off x="0" y="285840"/>
            <a:ext cx="7010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1 дм </a:t>
            </a: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= 100 </a:t>
            </a: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см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4 дм </a:t>
            </a: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= 400 см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2" name="Rectangle 1030">
            <a:hlinkClick r:id="rId4" action="ppaction://hlinksldjump"/>
          </p:cNvPr>
          <p:cNvSpPr/>
          <p:nvPr/>
        </p:nvSpPr>
        <p:spPr>
          <a:xfrm>
            <a:off x="1295280" y="6458040"/>
            <a:ext cx="6419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3" name="Line 1031"/>
          <p:cNvSpPr/>
          <p:nvPr/>
        </p:nvSpPr>
        <p:spPr>
          <a:xfrm>
            <a:off x="4172040" y="2876400"/>
            <a:ext cx="0" cy="51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4" name="Line 1032"/>
          <p:cNvSpPr/>
          <p:nvPr/>
        </p:nvSpPr>
        <p:spPr>
          <a:xfrm>
            <a:off x="3295800" y="990720"/>
            <a:ext cx="0" cy="742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5" name="Rectangle 1034"/>
          <p:cNvSpPr/>
          <p:nvPr/>
        </p:nvSpPr>
        <p:spPr>
          <a:xfrm>
            <a:off x="3808080" y="3056040"/>
            <a:ext cx="43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1 м = 10 000 см 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3 м = 30 000 см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6" name="Line 1035"/>
          <p:cNvSpPr/>
          <p:nvPr/>
        </p:nvSpPr>
        <p:spPr>
          <a:xfrm>
            <a:off x="6006960" y="3816360"/>
            <a:ext cx="0" cy="743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7" name="Rectangle 1036"/>
          <p:cNvSpPr/>
          <p:nvPr/>
        </p:nvSpPr>
        <p:spPr>
          <a:xfrm>
            <a:off x="5319720" y="246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8" name="Rectangle 1037"/>
          <p:cNvSpPr/>
          <p:nvPr/>
        </p:nvSpPr>
        <p:spPr>
          <a:xfrm>
            <a:off x="2824200" y="264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9" name="Rectangle 1038"/>
          <p:cNvSpPr/>
          <p:nvPr/>
        </p:nvSpPr>
        <p:spPr>
          <a:xfrm>
            <a:off x="2900520" y="1522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0" name="Rectangle 1039"/>
          <p:cNvSpPr/>
          <p:nvPr/>
        </p:nvSpPr>
        <p:spPr>
          <a:xfrm>
            <a:off x="5243760" y="156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1" name="Rectangle 1040"/>
          <p:cNvSpPr/>
          <p:nvPr/>
        </p:nvSpPr>
        <p:spPr>
          <a:xfrm>
            <a:off x="4615200" y="3065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2" name="Rectangle 1042"/>
          <p:cNvSpPr/>
          <p:nvPr/>
        </p:nvSpPr>
        <p:spPr>
          <a:xfrm>
            <a:off x="7967880" y="447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3" name="Rectangle 1043"/>
          <p:cNvSpPr/>
          <p:nvPr/>
        </p:nvSpPr>
        <p:spPr>
          <a:xfrm>
            <a:off x="4786560" y="4456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4" name="Rectangle 1044"/>
          <p:cNvSpPr/>
          <p:nvPr/>
        </p:nvSpPr>
        <p:spPr>
          <a:xfrm>
            <a:off x="7891560" y="297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Длина и площадь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552600" y="1847880"/>
            <a:ext cx="7619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Площадь прямоугольника  16 квадратных сантиметров. Чему равна длина прямоугольника, если ширина 2 см?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3755880" y="563724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297720" y="5472000"/>
            <a:ext cx="15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7470360" y="5929200"/>
            <a:ext cx="16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0" name="Rectangle 7">
            <a:hlinkClick r:id="rId3" action="ppaction://hlinksldjump"/>
          </p:cNvPr>
          <p:cNvSpPr/>
          <p:nvPr/>
        </p:nvSpPr>
        <p:spPr>
          <a:xfrm>
            <a:off x="1352520" y="6438960"/>
            <a:ext cx="63057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1733400" y="2800440"/>
            <a:ext cx="53532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16</a:t>
            </a: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66ffff"/>
                </a:solidFill>
                <a:latin typeface="Times New Roman"/>
              </a:rPr>
              <a:t>:</a:t>
            </a: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 2 = 8 (см)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Ответ: 8 см длина прямоугольника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7268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ВЕЛИЧИ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95360" y="1200240"/>
          <a:ext cx="8400960" cy="3459240"/>
        </p:xfrm>
        <a:graphic>
          <a:graphicData uri="http://schemas.openxmlformats.org/drawingml/2006/table">
            <a:tbl>
              <a:tblPr/>
              <a:tblGrid>
                <a:gridCol w="1504800"/>
                <a:gridCol w="1295640"/>
                <a:gridCol w="1400040"/>
                <a:gridCol w="1400040"/>
                <a:gridCol w="1400400"/>
                <a:gridCol w="140004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сса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лина, площадь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Text Box 125">
            <a:hlinkClick r:id="rId21" action="ppaction://hlinksldjump"/>
          </p:cNvPr>
          <p:cNvSpPr/>
          <p:nvPr/>
        </p:nvSpPr>
        <p:spPr>
          <a:xfrm>
            <a:off x="3700080" y="6278400"/>
            <a:ext cx="16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ВЫХО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Длина и площадь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717720" y="58276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685800" y="2857680"/>
            <a:ext cx="7943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438120" y="238140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Периметр квадрата 200 см. Найди площадь этого квадрата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240" y="55389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7412040" y="605304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457200" y="1523880"/>
            <a:ext cx="83818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66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200 </a:t>
            </a:r>
            <a:r>
              <a:rPr b="1" lang="ru-RU" sz="4400" spc="-1" strike="noStrike">
                <a:solidFill>
                  <a:srgbClr val="66ffff"/>
                </a:solidFill>
                <a:latin typeface="Times New Roman"/>
              </a:rPr>
              <a:t>:</a:t>
            </a: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 4 = 50 (см) - </a:t>
            </a: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сторона квадрата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just">
              <a:buClr>
                <a:srgbClr val="66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50   50 = 2 500 (см </a:t>
            </a: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) - </a:t>
            </a: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площадь квадрата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Ответ: </a:t>
            </a: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2500 см   площадь квадрата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5676840" y="21718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1586160" y="198900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683160" y="4064040"/>
            <a:ext cx="4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Длина и площадь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781200" y="1542960"/>
            <a:ext cx="8076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Площадь</a:t>
            </a: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участка прямоугольной формы 6 соток. Какая площадь этого участка свободна, если на нём построен только дом площадью 56 м  ?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794040" y="550404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 flipV="1" rot="10668600">
            <a:off x="7189560" y="41839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240" y="55958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47640" y="1542960"/>
            <a:ext cx="79250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1 ар – 1 сотка, значит  6 соток = 600 м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600 – 56 = 544 (м  )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Ответ: 544 м     свободны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9" name="Rectangle 6">
            <a:hlinkClick r:id="rId3" action="ppaction://hlinksldjump"/>
          </p:cNvPr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4005360" y="4494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129280" y="3713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4253040" y="234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ЗАДАЧИ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933480" y="1790640"/>
            <a:ext cx="762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Мальчик делает в секунду два шага по 40 см. Какое расстояние он пройдет за 10 секунд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658320" y="553896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026"/>
          <p:cNvSpPr/>
          <p:nvPr/>
        </p:nvSpPr>
        <p:spPr>
          <a:xfrm>
            <a:off x="3240" y="58435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7" name="Text Box 1027"/>
          <p:cNvSpPr/>
          <p:nvPr/>
        </p:nvSpPr>
        <p:spPr>
          <a:xfrm>
            <a:off x="7659720" y="58626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8" name="Text Box 1062"/>
          <p:cNvSpPr/>
          <p:nvPr/>
        </p:nvSpPr>
        <p:spPr>
          <a:xfrm>
            <a:off x="781200" y="1352520"/>
            <a:ext cx="78102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Решение: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buClr>
                <a:srgbClr val="66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40 х 2 = 80 (см)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buClr>
                <a:srgbClr val="66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80 х 10 = 800 (см)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              </a:t>
            </a: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Ответ: 800 см = 8 м.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ЗАДАЧИ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743040" y="1847880"/>
            <a:ext cx="7981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Рабочий изготовляет 234 детали за 6 дней. Сколько деталей рабочий изготавливает за 1 день. 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813120" y="56754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270000" y="54435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7659720" y="60912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577960" y="2432160"/>
            <a:ext cx="4051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495360" y="647640"/>
            <a:ext cx="83628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234 : 6 = 39 (д.)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Ответ: 39 деталей изготавливает за день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ЗАДАЧИ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933480" y="1981080"/>
            <a:ext cx="7620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В девяти клетках 20 серых и 25 белых кроликов. Сколько клеток с серыми и сколько клеток с белыми кроликами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3658320" y="572940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026"/>
          <p:cNvSpPr/>
          <p:nvPr/>
        </p:nvSpPr>
        <p:spPr>
          <a:xfrm>
            <a:off x="3240" y="59961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0" name="Text Box 1027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1" name="Text Box 1033"/>
          <p:cNvSpPr/>
          <p:nvPr/>
        </p:nvSpPr>
        <p:spPr>
          <a:xfrm>
            <a:off x="1685880" y="1974960"/>
            <a:ext cx="592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imes New Roman"/>
              </a:rPr>
              <a:t>4 для серых и 5 для белых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2" name="Rectangle 1035">
            <a:hlinkClick r:id="rId3" action="ppaction://hlinksldjump"/>
          </p:cNvPr>
          <p:cNvSpPr/>
          <p:nvPr/>
        </p:nvSpPr>
        <p:spPr>
          <a:xfrm>
            <a:off x="1257480" y="6477120"/>
            <a:ext cx="6476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Единицы веса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371600" y="2666880"/>
            <a:ext cx="6400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Перечисли единицы веса начиная с наименьшей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3692880" y="605988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ЗАДАЧИ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47680" y="1523880"/>
            <a:ext cx="826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Times New Roman"/>
              </a:rPr>
              <a:t>Бегемот может съесть за неделю 200 кг травы, а слон – 600 кг. Сколько тонн травы требуется бегемоту и слону за 10 недель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4079520" y="592776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3240" y="53672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7659720" y="60339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555480" y="946080"/>
            <a:ext cx="292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285840" y="1638360"/>
            <a:ext cx="8858160" cy="32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2500"/>
              </a:spcBef>
              <a:buClr>
                <a:srgbClr val="66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600 + 200 = 800 (кг)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2500"/>
              </a:spcBef>
              <a:buClr>
                <a:srgbClr val="66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800 х 10 = 8000 (кг)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Ответ: 8 тонн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ЗАДАЧИ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266760" y="1771560"/>
            <a:ext cx="864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Из двух городов вышли на встречу друг другу два поезда. Один из них прошел до встречи 260 км, другой – 180 км. Какое расстояние между городами?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927240" y="57942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imes New Roman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270000" y="56149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7614000" y="5850000"/>
            <a:ext cx="15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1276200" y="6496200"/>
            <a:ext cx="6419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0" y="1504800"/>
            <a:ext cx="91440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999"/>
              </a:spcBef>
              <a:buClr>
                <a:srgbClr val="66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260 + 180 = 440 (км)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     </a:t>
            </a: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Ответ: 440 км расстояние между городами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343080" y="0"/>
            <a:ext cx="880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си3"/>
          <p:cNvPicPr/>
          <p:nvPr/>
        </p:nvPicPr>
        <p:blipFill>
          <a:blip r:embed="rId1"/>
          <a:stretch/>
        </p:blipFill>
        <p:spPr>
          <a:xfrm>
            <a:off x="457200" y="343080"/>
            <a:ext cx="8267760" cy="57434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350640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1906560" y="4014720"/>
            <a:ext cx="5180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00"/>
                </a:solidFill>
                <a:latin typeface="Times New Roman"/>
              </a:rPr>
              <a:t>аукцион</a:t>
            </a:r>
            <a:endParaRPr b="0" lang="en-US" sz="10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2" name="WordArt 4"/>
          <p:cNvSpPr txBox="1"/>
          <p:nvPr/>
        </p:nvSpPr>
        <p:spPr>
          <a:xfrm>
            <a:off x="1343160" y="1133640"/>
            <a:ext cx="64008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369828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си3"/>
          <p:cNvPicPr/>
          <p:nvPr/>
        </p:nvPicPr>
        <p:blipFill>
          <a:blip r:embed="rId1"/>
          <a:stretch/>
        </p:blipFill>
        <p:spPr>
          <a:xfrm>
            <a:off x="457200" y="343080"/>
            <a:ext cx="8267760" cy="57434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350640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1906560" y="4014720"/>
            <a:ext cx="5180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00"/>
                </a:solidFill>
                <a:latin typeface="Times New Roman"/>
              </a:rPr>
              <a:t>аукцион</a:t>
            </a:r>
            <a:endParaRPr b="0" lang="en-US" sz="10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7" name="WordArt 3"/>
          <p:cNvSpPr txBox="1"/>
          <p:nvPr/>
        </p:nvSpPr>
        <p:spPr>
          <a:xfrm>
            <a:off x="1343160" y="1133640"/>
            <a:ext cx="64008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62232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1906560" y="4014720"/>
            <a:ext cx="5180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00"/>
                </a:solidFill>
                <a:latin typeface="Times New Roman"/>
              </a:rPr>
              <a:t>аукцион</a:t>
            </a:r>
            <a:endParaRPr b="0" lang="en-US" sz="10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0" name="WordArt 3"/>
          <p:cNvSpPr txBox="1"/>
          <p:nvPr/>
        </p:nvSpPr>
        <p:spPr>
          <a:xfrm>
            <a:off x="1343160" y="1133640"/>
            <a:ext cx="64008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364104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си3"/>
          <p:cNvPicPr/>
          <p:nvPr/>
        </p:nvPicPr>
        <p:blipFill>
          <a:blip r:embed="rId1"/>
          <a:stretch/>
        </p:blipFill>
        <p:spPr>
          <a:xfrm>
            <a:off x="457200" y="343080"/>
            <a:ext cx="8267760" cy="57434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350640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448640" y="2286000"/>
            <a:ext cx="5967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ff"/>
                </a:solidFill>
                <a:latin typeface="Times New Roman"/>
              </a:rPr>
              <a:t>Грамм, килограмм, 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ff"/>
                </a:solidFill>
                <a:latin typeface="Times New Roman"/>
              </a:rPr>
              <a:t>центнер, тонна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440" y="5675400"/>
            <a:ext cx="13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479000" y="6132600"/>
            <a:ext cx="15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3" name="Rectangle 6">
            <a:hlinkClick r:id="rId3" action="ppaction://hlinksldjump"/>
          </p:cNvPr>
          <p:cNvSpPr/>
          <p:nvPr/>
        </p:nvSpPr>
        <p:spPr>
          <a:xfrm>
            <a:off x="1428840" y="6400800"/>
            <a:ext cx="611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990880" y="304920"/>
            <a:ext cx="556272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Спасибо Вам за участие в игре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800280" y="3441600"/>
            <a:ext cx="75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</a:rPr>
              <a:t>Надеюсь,  что Вам понравилось</a:t>
            </a: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236" name="Picture 5" descr="си2"/>
          <p:cNvPicPr/>
          <p:nvPr/>
        </p:nvPicPr>
        <p:blipFill>
          <a:blip r:embed="rId1"/>
          <a:stretch/>
        </p:blipFill>
        <p:spPr>
          <a:xfrm>
            <a:off x="0" y="0"/>
            <a:ext cx="275580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Единицы веса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762120" y="2095560"/>
            <a:ext cx="7619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imes New Roman"/>
              </a:rPr>
              <a:t>Вырази в более крупных единицах измерения: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imes New Roman"/>
              </a:rPr>
              <a:t>1200кг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imes New Roman"/>
              </a:rPr>
              <a:t>30 ц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imes New Roman"/>
              </a:rPr>
              <a:t>600 000 кг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3692880" y="605988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09480" y="127620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1200 кг = 1т 2ц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30ц = 3 т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600 000 кг = 6 000 ц = 600 т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240" y="55576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7659720" y="607212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1" name="Rectangle 9">
            <a:hlinkClick r:id="rId3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Единицы веса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300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04880" y="18288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Сравните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986640" y="623088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981080" y="2705040"/>
            <a:ext cx="54486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Times New Roman"/>
              </a:rPr>
              <a:t>5 т 3 ц …503 кг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Times New Roman"/>
              </a:rPr>
              <a:t>71 т …710 ц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Times New Roman"/>
              </a:rPr>
              <a:t>320 ц …32 кг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Times New Roman"/>
              </a:rPr>
              <a:t>4 т 6 ц … 4 т 550 кг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3240" y="54435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7659720" y="60912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0" y="228600"/>
            <a:ext cx="49528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9" name="Rectangle 9">
            <a:hlinkClick r:id="rId3" action="ppaction://hlinksldjump"/>
          </p:cNvPr>
          <p:cNvSpPr/>
          <p:nvPr/>
        </p:nvSpPr>
        <p:spPr>
          <a:xfrm>
            <a:off x="1276200" y="6515280"/>
            <a:ext cx="6477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2286000" y="1554120"/>
            <a:ext cx="5200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5 т 3 ц </a:t>
            </a: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&gt;</a:t>
            </a: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503 кг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71 т </a:t>
            </a: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=</a:t>
            </a: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710 ц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320 ц </a:t>
            </a: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&gt;</a:t>
            </a: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32 кг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4 т </a:t>
            </a: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550 </a:t>
            </a: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кг </a:t>
            </a: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&lt;</a:t>
            </a: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 4 т 6 ц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7:12:29Z</dcterms:created>
  <dc:creator>Пользователь</dc:creator>
  <dc:description/>
  <dc:language>en-US</dc:language>
  <cp:lastModifiedBy>Александр</cp:lastModifiedBy>
  <dcterms:modified xsi:type="dcterms:W3CDTF">2015-01-14T21:32:09Z</dcterms:modified>
  <cp:revision>114</cp:revision>
  <dc:subject/>
  <dc:title>Презентация PowerPoint</dc:title>
</cp:coreProperties>
</file>