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F32-9E99-4D20-A1AA-E728F9D0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D1C-C4C8-4E64-A075-75D22ED1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BDB-15D0-408D-B89C-EBD6D8C6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152-B5E5-4624-BCEA-0C3D8B30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A98-3981-4090-9AFB-A18142A8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6F8-737B-4C90-A109-53D48C5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690-1377-4CD5-B3A0-4945A7D9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AD1-4C22-453D-8687-E6733FD9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FF5-5105-48A9-9291-41A0E706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D9A-3287-497C-94E2-30420CAF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626-71D2-4F44-97A0-5BD6FEA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B45-FE56-40F2-B4F5-FC1D88FA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14F7-4065-4123-85B5-52913EB96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876560" cy="2633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800600" y="2438280"/>
            <a:ext cx="3962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a tedd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What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blu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What colour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962520" cy="3951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800600" y="2438280"/>
            <a:ext cx="3962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a bag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a ball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gre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What colour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7880" y="685800"/>
            <a:ext cx="424332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800600" y="2438280"/>
            <a:ext cx="3962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a ca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What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oran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pink and blu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876560" cy="426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410080" y="2895480"/>
            <a:ext cx="342900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a comput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yellow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What colour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338112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800600" y="2438280"/>
            <a:ext cx="3962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a kitt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What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What colour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572000" cy="4016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800600" y="2438280"/>
            <a:ext cx="3962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a doll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What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Is it grey and purpl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1-10-24T08:22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