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500E-317F-46FD-B9B3-8E587B324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CD11-893A-4339-9E4D-4164B67B6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96A2-AAA4-4F17-B0DC-78E4929F5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9CBA-4EE1-4C05-A482-F454E7D80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17331-1010-4744-8AA3-89B550695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8898B-FB44-4B19-B804-6A5347794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466FD-0063-4FF5-AE5A-6C700D267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6F1A7-4CA3-4F0D-8BE9-97DABD705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358CB-2C61-4322-ABD7-F48916AE7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2EE6E-6EF6-4E7C-9EE3-3E3565C9C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A95DF-1986-486E-BBDD-A0AB3252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4843-1312-40F9-9F43-55C022D06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707C8-1419-471E-B921-5BD1CDD1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B6A29-27E5-48B5-96B0-106E79D3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55F92-F2D6-4AF0-BEC2-DA1CC1674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59DCC-7D0B-4AA1-9E18-A414E0AE8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BF184-89A6-4CA8-9EA9-E22CAD954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798D-EB83-4B2D-A3B7-13E85FDD0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E072-912D-47D0-8887-C57D7FFB7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D821-C46F-46C4-93FC-2DED0A299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3E5E-DCE4-47F5-B644-16C3DFBC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CF6F-DB42-46ED-8BE8-CA48591F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F7B3-AB6B-45A3-8561-7A18C9AF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9FC1-FF3D-4B5B-A765-EFBC122A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BDC22-59C5-40EA-A5B1-E014EAD1D514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97767-F088-4CC9-A53B-CC027E3165B6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666520" y="990360"/>
            <a:ext cx="62485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Как это работает</a:t>
            </a:r>
            <a:br>
              <a:rPr sz="3600"/>
            </a:b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выпуск 7</a:t>
            </a:r>
            <a:endParaRPr b="1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876560" y="2666880"/>
            <a:ext cx="40129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Принтер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610160" y="3505320"/>
            <a:ext cx="4533840" cy="30636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990720" y="1219320"/>
            <a:ext cx="262872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063080" y="910080"/>
            <a:ext cx="8008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Times New Roman"/>
              </a:rPr>
              <a:t>Печатающие головки могут конструктивно объединяться с чернильным картриджем  и заменяться одновременно с ним,</a:t>
            </a:r>
            <a:br>
              <a:rPr sz="1800"/>
            </a:br>
            <a:r>
              <a:rPr b="1" i="1" lang="en-US" sz="1800" spc="-1" strike="noStrike">
                <a:solidFill>
                  <a:srgbClr val="003366"/>
                </a:solidFill>
                <a:latin typeface="Times New Roman"/>
              </a:rPr>
              <a:t>а могут быть установлены в принтере постоянно  при этом заменяется только картридж.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8" name="" descr="система СНПЧ"/>
          <p:cNvPicPr/>
          <p:nvPr/>
        </p:nvPicPr>
        <p:blipFill>
          <a:blip r:embed="rId1"/>
          <a:stretch/>
        </p:blipFill>
        <p:spPr>
          <a:xfrm>
            <a:off x="1600200" y="2362320"/>
            <a:ext cx="662940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Как выбрать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надежност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расход черни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корость печат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качество печат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дополнительные функци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всё дело в каплях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37720" y="2361960"/>
            <a:ext cx="3770280" cy="17859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914040" y="4266720"/>
            <a:ext cx="3770280" cy="17859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648320" y="2361960"/>
            <a:ext cx="44956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Главным узлом струйного принтера является печатающая головка (около 80% от стоимости принтера), которая собственно и наносит капельки краски на бумагу. Краска наносится через маленькие отверстия называемые дюзами. Полный диаметр одной дюзы составляет порядка от трех (разрешение 4800 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dpi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) до нескольких десятков микрон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" name="" descr="Вид капелек краски на бумаге под микроскопом"/>
          <p:cNvPicPr/>
          <p:nvPr/>
        </p:nvPicPr>
        <p:blipFill>
          <a:blip r:embed="rId3"/>
          <a:stretch/>
        </p:blipFill>
        <p:spPr>
          <a:xfrm>
            <a:off x="0" y="2286000"/>
            <a:ext cx="4648320" cy="4572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52280" y="2362320"/>
            <a:ext cx="4114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Вид капелек краски на бумаге под микроскопом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Краска наносится через маленькие отверстия называемые дюзами. 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Увеличенное изображение дюзы струйного принтера"/>
          <p:cNvPicPr/>
          <p:nvPr/>
        </p:nvPicPr>
        <p:blipFill>
          <a:blip r:embed="rId2"/>
          <a:stretch/>
        </p:blipFill>
        <p:spPr>
          <a:xfrm>
            <a:off x="838080" y="1523880"/>
            <a:ext cx="7772400" cy="49532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019920" y="5257800"/>
            <a:ext cx="31240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Увеличенное изображение дюзы струйного принтер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История созда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8191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етоду струйной печати уже почти сто лет.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Лорд Рейли, лауреат нобелевской премии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по физике, сделал свои фундаментальные открытия в области распада струй жидкости и формирования капель еще в прошлом веке, датой рождения технологии струйной печати можно считать только 1948 год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629400" y="1522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" descr="Джон Уильям Стретт"/>
          <p:cNvPicPr/>
          <p:nvPr/>
        </p:nvPicPr>
        <p:blipFill>
          <a:blip r:embed="rId1"/>
          <a:stretch/>
        </p:blipFill>
        <p:spPr>
          <a:xfrm>
            <a:off x="6934320" y="0"/>
            <a:ext cx="22096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Как это работает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овременный струйный принтер работает следующим образом: шаговый мотор протягивает через принтер бумагу; одновременно с этим поперек листа в горизонтальном направлении движется печатающая головка, приводимая в движение тем же шаговым мотором. Через крошечные отверстия, которые называются соплами, на бумагу выпрыскиваются чернила. Сопла, управляемые электроникой, «выстреливают» с огромной «скорострельностью» на бумагу микроскопические капли чернил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ринцип действ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результате согласованного движения бумаги и печатающей головки, в нужное время и в нужное место «выстреливающей» строго определенное количество капель, на бумаге возникает изображение. Наряду с упомянутыми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термоструйными технологиями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свое место под солнцем завоевала и еще одна механическая технология печати, основанная на применении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ьезоэлементов.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Ее можно встретить лишь в принтерах фирмы Epson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Принцип термической печати"/>
          <p:cNvPicPr/>
          <p:nvPr/>
        </p:nvPicPr>
        <p:blipFill>
          <a:blip r:embed="rId1"/>
          <a:stretch/>
        </p:blipFill>
        <p:spPr>
          <a:xfrm>
            <a:off x="228600" y="0"/>
            <a:ext cx="8686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ринцип термопеча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62120" y="1792440"/>
            <a:ext cx="7315200" cy="50655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Принципы работы струйных принтеров"/>
          <p:cNvPicPr/>
          <p:nvPr/>
        </p:nvPicPr>
        <p:blipFill>
          <a:blip r:embed="rId2"/>
          <a:stretch/>
        </p:blipFill>
        <p:spPr>
          <a:xfrm>
            <a:off x="7372440" y="0"/>
            <a:ext cx="177156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инцип пьезопеча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162560" cy="4114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Принципы работы струйных принтеров"/>
          <p:cNvPicPr/>
          <p:nvPr/>
        </p:nvPicPr>
        <p:blipFill>
          <a:blip r:embed="rId2"/>
          <a:stretch/>
        </p:blipFill>
        <p:spPr>
          <a:xfrm>
            <a:off x="7601040" y="304920"/>
            <a:ext cx="154296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0T18:46:37Z</dcterms:created>
  <dc:creator>домашний</dc:creator>
  <dc:description/>
  <dc:language>en-US</dc:language>
  <cp:lastModifiedBy>домашний</cp:lastModifiedBy>
  <dcterms:modified xsi:type="dcterms:W3CDTF">2014-02-11T11:52:22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