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7.png" ContentType="image/png"/>
  <Override PartName="/ppt/media/image34.jpeg" ContentType="image/jpeg"/>
  <Override PartName="/ppt/media/image14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8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96C-1B64-469B-BC3A-85825259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D5D4-DD6C-4A94-9FD6-B6CA9A41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FF4C-3314-4679-A1B1-E29484FD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6B6-FF67-4CF7-BD8D-062F1A75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37B2-58BE-4FF5-A008-51586833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D4FD-442F-4221-89FF-D803826E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BD90-DC73-41CC-8D81-2A57B547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65C6-5B87-43DB-AC53-4CE80FA8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D24B-D23A-4DA8-BB79-E370A67F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2B0C-26B1-4D1C-9E61-D2149228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A426-C7D1-4D9E-946E-243CCB09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5028-86FE-46A7-BE19-A6E75C81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93DE-AEAC-4E6C-9556-B51EBCDF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9187-C710-4E6F-88B9-F4B37C07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1775-7E36-4D1A-95BC-D1C47124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E97A-B81F-4994-9302-838A0614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CEE6-9824-483E-8DEA-67E66F41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928A-F2B4-4B0E-94E0-07DA6ADD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96E0-9F70-451A-B61F-7C2DECEF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EB7-CC3F-4D66-865C-5EB978A0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C476-56CF-48BB-8C79-CDC7219C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EDA-E659-47EC-9891-40A6C510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D569-BBF8-4DD3-8F11-B33F9242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E1CB-EDBF-4A51-BB4F-1CC25A47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52D0-9FCC-4784-8762-5030736F02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F9C5-7AA0-418F-BCDA-7C9088442E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42920" y="2565360"/>
            <a:ext cx="72738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Times New Roman"/>
              </a:rPr>
              <a:t>Спортивная викторина</a:t>
            </a:r>
            <a:br>
              <a:rPr sz="3200"/>
            </a:br>
            <a:br>
              <a:rPr sz="54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7157880" y="409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1059"/>
          <p:cNvPicPr/>
          <p:nvPr/>
        </p:nvPicPr>
        <p:blipFill>
          <a:blip r:embed="rId1"/>
          <a:stretch/>
        </p:blipFill>
        <p:spPr>
          <a:xfrm>
            <a:off x="4932360" y="4362480"/>
            <a:ext cx="4211640" cy="2495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00045103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1859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Рисунок1"/>
          <p:cNvPicPr/>
          <p:nvPr/>
        </p:nvPicPr>
        <p:blipFill>
          <a:blip r:embed="rId3"/>
          <a:stretch/>
        </p:blipFill>
        <p:spPr>
          <a:xfrm>
            <a:off x="539640" y="0"/>
            <a:ext cx="3203640" cy="2895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Рисунок1"/>
          <p:cNvPicPr/>
          <p:nvPr/>
        </p:nvPicPr>
        <p:blipFill>
          <a:blip r:embed="rId4"/>
          <a:stretch/>
        </p:blipFill>
        <p:spPr>
          <a:xfrm>
            <a:off x="0" y="3595680"/>
            <a:ext cx="40672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Times New Roman"/>
              </a:rPr>
              <a:t>Как называют человека лазающего по скалам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6" descr="00044743"/>
          <p:cNvPicPr/>
          <p:nvPr/>
        </p:nvPicPr>
        <p:blipFill>
          <a:blip r:embed="rId1"/>
          <a:stretch/>
        </p:blipFill>
        <p:spPr>
          <a:xfrm>
            <a:off x="1042920" y="1484280"/>
            <a:ext cx="7345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Times New Roman"/>
              </a:rPr>
              <a:t>Скалола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Picture 7" descr="Рисунок2"/>
          <p:cNvPicPr/>
          <p:nvPr/>
        </p:nvPicPr>
        <p:blipFill>
          <a:blip r:embed="rId1"/>
          <a:stretch/>
        </p:blipFill>
        <p:spPr>
          <a:xfrm>
            <a:off x="1692360" y="1841400"/>
            <a:ext cx="59040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Times New Roman"/>
              </a:rPr>
              <a:t>Без чего судья не может выйти на поле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Picture 7" descr="Рисунок1"/>
          <p:cNvPicPr/>
          <p:nvPr/>
        </p:nvPicPr>
        <p:blipFill>
          <a:blip r:embed="rId1"/>
          <a:stretch/>
        </p:blipFill>
        <p:spPr>
          <a:xfrm>
            <a:off x="1763640" y="1609560"/>
            <a:ext cx="576108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Times New Roman"/>
              </a:rPr>
              <a:t>Без свистк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Picture 7" descr="Рисунок3"/>
          <p:cNvPicPr/>
          <p:nvPr/>
        </p:nvPicPr>
        <p:blipFill>
          <a:blip r:embed="rId1"/>
          <a:stretch/>
        </p:blipFill>
        <p:spPr>
          <a:xfrm>
            <a:off x="1692360" y="1558800"/>
            <a:ext cx="561636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Times New Roman"/>
              </a:rPr>
              <a:t>В каком виде спорта важен попутный ветер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9" name="Picture 7" descr="Рисунок2"/>
          <p:cNvPicPr/>
          <p:nvPr/>
        </p:nvPicPr>
        <p:blipFill>
          <a:blip r:embed="rId1"/>
          <a:stretch/>
        </p:blipFill>
        <p:spPr>
          <a:xfrm>
            <a:off x="1619280" y="1890720"/>
            <a:ext cx="59054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Парусн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10" descr="Рисунок1"/>
          <p:cNvPicPr/>
          <p:nvPr/>
        </p:nvPicPr>
        <p:blipFill>
          <a:blip r:embed="rId1"/>
          <a:stretch/>
        </p:blipFill>
        <p:spPr>
          <a:xfrm>
            <a:off x="1619280" y="1890720"/>
            <a:ext cx="561672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Times New Roman"/>
              </a:rPr>
              <a:t>Какому спортсмену на соревнованиях приходится вязать узлы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Picture 10" descr="Рисунок7"/>
          <p:cNvPicPr/>
          <p:nvPr/>
        </p:nvPicPr>
        <p:blipFill>
          <a:blip r:embed="rId1"/>
          <a:stretch/>
        </p:blipFill>
        <p:spPr>
          <a:xfrm>
            <a:off x="1835280" y="2027160"/>
            <a:ext cx="561636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Times New Roman"/>
              </a:rPr>
              <a:t>Турист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10" descr="Рисунок6"/>
          <p:cNvPicPr/>
          <p:nvPr/>
        </p:nvPicPr>
        <p:blipFill>
          <a:blip r:embed="rId1"/>
          <a:stretch/>
        </p:blipFill>
        <p:spPr>
          <a:xfrm>
            <a:off x="1692360" y="1587600"/>
            <a:ext cx="56163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каком виде спорта самый высокий старт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Picture 4" descr="00046465"/>
          <p:cNvPicPr/>
          <p:nvPr/>
        </p:nvPicPr>
        <p:blipFill>
          <a:blip r:embed="rId1"/>
          <a:stretch/>
        </p:blipFill>
        <p:spPr>
          <a:xfrm>
            <a:off x="966960" y="1600200"/>
            <a:ext cx="3017520" cy="4525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00046486"/>
          <p:cNvPicPr/>
          <p:nvPr/>
        </p:nvPicPr>
        <p:blipFill>
          <a:blip r:embed="rId2"/>
          <a:stretch/>
        </p:blipFill>
        <p:spPr>
          <a:xfrm>
            <a:off x="5157720" y="1600200"/>
            <a:ext cx="301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Times New Roman"/>
              </a:rPr>
              <a:t>Парашютн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Picture 6" descr="парашют"/>
          <p:cNvPicPr/>
          <p:nvPr/>
        </p:nvPicPr>
        <p:blipFill>
          <a:blip r:embed="rId1"/>
          <a:stretch/>
        </p:blipFill>
        <p:spPr>
          <a:xfrm>
            <a:off x="1397160" y="1741320"/>
            <a:ext cx="63496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Расставьте правильно мячи по видам спор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Футбол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олейбол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Баскетб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sport-12"/>
          <p:cNvPicPr/>
          <p:nvPr/>
        </p:nvPicPr>
        <p:blipFill>
          <a:blip r:embed="rId1"/>
          <a:stretch/>
        </p:blipFill>
        <p:spPr>
          <a:xfrm>
            <a:off x="3635280" y="335772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sport-11"/>
          <p:cNvPicPr/>
          <p:nvPr/>
        </p:nvPicPr>
        <p:blipFill>
          <a:blip r:embed="rId2"/>
          <a:stretch/>
        </p:blipFill>
        <p:spPr>
          <a:xfrm>
            <a:off x="395280" y="321300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sport-5"/>
          <p:cNvPicPr/>
          <p:nvPr/>
        </p:nvPicPr>
        <p:blipFill>
          <a:blip r:embed="rId3"/>
          <a:stretch/>
        </p:blipFill>
        <p:spPr>
          <a:xfrm>
            <a:off x="6588000" y="3141720"/>
            <a:ext cx="21258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Times New Roman"/>
              </a:rPr>
              <a:t>Как называется игра в мяч на воде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Picture 7" descr="Рисунок2"/>
          <p:cNvPicPr/>
          <p:nvPr/>
        </p:nvPicPr>
        <p:blipFill>
          <a:blip r:embed="rId1"/>
          <a:stretch/>
        </p:blipFill>
        <p:spPr>
          <a:xfrm>
            <a:off x="1908000" y="1989000"/>
            <a:ext cx="5185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Times New Roman"/>
              </a:rPr>
              <a:t>Водное пол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Picture 4" descr="C:\Documents and Settings\Admin\Рабочий стол\0821.jpg"/>
          <p:cNvPicPr/>
          <p:nvPr/>
        </p:nvPicPr>
        <p:blipFill>
          <a:blip r:embed="rId1"/>
          <a:stretch/>
        </p:blipFill>
        <p:spPr>
          <a:xfrm>
            <a:off x="1835280" y="1700280"/>
            <a:ext cx="54194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зовите предметы художественной гимнаст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C:\Users\Няка\Downloads\kabayeva.jpg"/>
          <p:cNvPicPr/>
          <p:nvPr/>
        </p:nvPicPr>
        <p:blipFill>
          <a:blip r:embed="rId1"/>
          <a:stretch/>
        </p:blipFill>
        <p:spPr>
          <a:xfrm>
            <a:off x="1835280" y="1849320"/>
            <a:ext cx="5689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98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Художественная гимнастика-</a:t>
            </a:r>
            <a:br>
              <a:rPr sz="4000"/>
            </a:b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 женский  вид спорта. В нее входят упражнения танцевального характера с предметами (мячом, обручем, булавами, скакалкой, лентой)</a:t>
            </a: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Picture 2" descr="C:\Users\Няка\Downloads\apparatus.jpg"/>
          <p:cNvPicPr/>
          <p:nvPr/>
        </p:nvPicPr>
        <p:blipFill>
          <a:blip r:embed="rId1"/>
          <a:stretch/>
        </p:blipFill>
        <p:spPr>
          <a:xfrm>
            <a:off x="1106640" y="2076480"/>
            <a:ext cx="68500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зовите снаряды женской спортивной гимнаст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C:\Users\Няка\Downloads\sport_gimnastika_foto_07.jpg"/>
          <p:cNvPicPr/>
          <p:nvPr/>
        </p:nvPicPr>
        <p:blipFill>
          <a:blip r:embed="rId1"/>
          <a:stretch/>
        </p:blipFill>
        <p:spPr>
          <a:xfrm>
            <a:off x="2843280" y="1916280"/>
            <a:ext cx="361944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Женское многоборь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Picture 2" descr="C:\Users\Няка\Downloads\images (3).jpg"/>
          <p:cNvPicPr/>
          <p:nvPr/>
        </p:nvPicPr>
        <p:blipFill>
          <a:blip r:embed="rId1"/>
          <a:stretch/>
        </p:blipFill>
        <p:spPr>
          <a:xfrm rot="569400">
            <a:off x="971640" y="3724200"/>
            <a:ext cx="1800000" cy="2739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C:\Users\Няка\Downloads\images (8).jpg"/>
          <p:cNvPicPr/>
          <p:nvPr/>
        </p:nvPicPr>
        <p:blipFill>
          <a:blip r:embed="rId2"/>
          <a:stretch/>
        </p:blipFill>
        <p:spPr>
          <a:xfrm rot="21436800">
            <a:off x="1331640" y="1197000"/>
            <a:ext cx="2705040" cy="2214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C:\Users\Няка\Downloads\images (13).jpg"/>
          <p:cNvPicPr/>
          <p:nvPr/>
        </p:nvPicPr>
        <p:blipFill>
          <a:blip r:embed="rId3"/>
          <a:stretch/>
        </p:blipFill>
        <p:spPr>
          <a:xfrm rot="294600">
            <a:off x="3584160" y="4146120"/>
            <a:ext cx="3400560" cy="2293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C:\Users\Няка\Downloads\sport_gimnastika_foto_07.jpg"/>
          <p:cNvPicPr/>
          <p:nvPr/>
        </p:nvPicPr>
        <p:blipFill>
          <a:blip r:embed="rId4"/>
          <a:stretch/>
        </p:blipFill>
        <p:spPr>
          <a:xfrm rot="523800">
            <a:off x="5435640" y="1267920"/>
            <a:ext cx="22129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зовите снаряды мужской спортивной гимнаст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3" descr="bd2065-002"/>
          <p:cNvPicPr/>
          <p:nvPr/>
        </p:nvPicPr>
        <p:blipFill>
          <a:blip r:embed="rId1"/>
          <a:stretch/>
        </p:blipFill>
        <p:spPr>
          <a:xfrm>
            <a:off x="1619280" y="1844640"/>
            <a:ext cx="54100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ужское многоборь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Picture 2" descr="C:\Users\Няка\Downloads\images (4).jpg"/>
          <p:cNvPicPr/>
          <p:nvPr/>
        </p:nvPicPr>
        <p:blipFill>
          <a:blip r:embed="rId1"/>
          <a:stretch/>
        </p:blipFill>
        <p:spPr>
          <a:xfrm rot="708600">
            <a:off x="6156000" y="1483920"/>
            <a:ext cx="2587680" cy="2070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C:\Users\Няка\Downloads\images (1).jpg"/>
          <p:cNvPicPr/>
          <p:nvPr/>
        </p:nvPicPr>
        <p:blipFill>
          <a:blip r:embed="rId2"/>
          <a:stretch/>
        </p:blipFill>
        <p:spPr>
          <a:xfrm rot="20880600">
            <a:off x="684000" y="1833480"/>
            <a:ext cx="2663640" cy="2052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:\Users\Няка\Downloads\images (2).jpg"/>
          <p:cNvPicPr/>
          <p:nvPr/>
        </p:nvPicPr>
        <p:blipFill>
          <a:blip r:embed="rId3"/>
          <a:stretch/>
        </p:blipFill>
        <p:spPr>
          <a:xfrm rot="21353400">
            <a:off x="3708000" y="1267920"/>
            <a:ext cx="1511280" cy="24703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C:\Users\Няка\Downloads\images (11).jpg"/>
          <p:cNvPicPr/>
          <p:nvPr/>
        </p:nvPicPr>
        <p:blipFill>
          <a:blip r:embed="rId4"/>
          <a:stretch/>
        </p:blipFill>
        <p:spPr>
          <a:xfrm rot="21200400">
            <a:off x="6084720" y="4365360"/>
            <a:ext cx="2713320" cy="2077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C:\Users\Няка\Downloads\images (10).jpg"/>
          <p:cNvPicPr/>
          <p:nvPr/>
        </p:nvPicPr>
        <p:blipFill>
          <a:blip r:embed="rId5"/>
          <a:stretch/>
        </p:blipFill>
        <p:spPr>
          <a:xfrm rot="817800">
            <a:off x="468000" y="4724280"/>
            <a:ext cx="2879640" cy="1614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C:\Users\Няка\Downloads\images (9).jpg"/>
          <p:cNvPicPr/>
          <p:nvPr/>
        </p:nvPicPr>
        <p:blipFill>
          <a:blip r:embed="rId6"/>
          <a:stretch/>
        </p:blipFill>
        <p:spPr>
          <a:xfrm rot="797400">
            <a:off x="4067280" y="4076640"/>
            <a:ext cx="1584360" cy="2198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C:\Users\Няка\Downloads\images (11).jpg"/>
          <p:cNvPicPr/>
          <p:nvPr/>
        </p:nvPicPr>
        <p:blipFill>
          <a:blip r:embed="rId7"/>
          <a:stretch/>
        </p:blipFill>
        <p:spPr>
          <a:xfrm rot="21200400">
            <a:off x="6054840" y="4341600"/>
            <a:ext cx="271296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Arial"/>
              </a:rPr>
              <a:t>Молодцы!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Баскетбо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4" descr="sport-11"/>
          <p:cNvPicPr/>
          <p:nvPr/>
        </p:nvPicPr>
        <p:blipFill>
          <a:blip r:embed="rId1"/>
          <a:stretch/>
        </p:blipFill>
        <p:spPr>
          <a:xfrm>
            <a:off x="250920" y="386064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sport-12"/>
          <p:cNvPicPr/>
          <p:nvPr/>
        </p:nvPicPr>
        <p:blipFill>
          <a:blip r:embed="rId2"/>
          <a:stretch/>
        </p:blipFill>
        <p:spPr>
          <a:xfrm>
            <a:off x="3276720" y="1197000"/>
            <a:ext cx="2544480" cy="2544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sport-5"/>
          <p:cNvPicPr/>
          <p:nvPr/>
        </p:nvPicPr>
        <p:blipFill>
          <a:blip r:embed="rId3"/>
          <a:stretch/>
        </p:blipFill>
        <p:spPr>
          <a:xfrm>
            <a:off x="6227640" y="415764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3"/>
          <p:cNvSpPr/>
          <p:nvPr/>
        </p:nvSpPr>
        <p:spPr>
          <a:xfrm>
            <a:off x="816480" y="322740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Волейб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6945840" y="337176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Футб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Как называется площадка для игры в большой теннис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Picture 16" descr="sport-8"/>
          <p:cNvPicPr/>
          <p:nvPr/>
        </p:nvPicPr>
        <p:blipFill>
          <a:blip r:embed="rId1"/>
          <a:stretch/>
        </p:blipFill>
        <p:spPr>
          <a:xfrm>
            <a:off x="3635280" y="1341360"/>
            <a:ext cx="530568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Times New Roman"/>
              </a:rPr>
              <a:t>Кор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Picture 4" descr="00046663"/>
          <p:cNvPicPr/>
          <p:nvPr/>
        </p:nvPicPr>
        <p:blipFill>
          <a:blip r:embed="rId1"/>
          <a:stretch/>
        </p:blipFill>
        <p:spPr>
          <a:xfrm>
            <a:off x="1116000" y="1254240"/>
            <a:ext cx="700560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Times New Roman"/>
              </a:rPr>
              <a:t>В каком виде спорта спортсмены наносят друг другу уколы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2" descr="C:\Documents and Settings\Admin\Рабочий стол\fencing31(1).jpg"/>
          <p:cNvPicPr/>
          <p:nvPr/>
        </p:nvPicPr>
        <p:blipFill>
          <a:blip r:embed="rId1"/>
          <a:stretch/>
        </p:blipFill>
        <p:spPr>
          <a:xfrm>
            <a:off x="2333520" y="2433600"/>
            <a:ext cx="44769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Times New Roman"/>
              </a:rPr>
              <a:t>В Фехтова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Picture 5" descr="00046533"/>
          <p:cNvPicPr/>
          <p:nvPr/>
        </p:nvPicPr>
        <p:blipFill>
          <a:blip r:embed="rId1"/>
          <a:stretch/>
        </p:blipFill>
        <p:spPr>
          <a:xfrm>
            <a:off x="1476360" y="1341360"/>
            <a:ext cx="6500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Times New Roman"/>
              </a:rPr>
              <a:t>Что требует зритель в хоккее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16" descr="Рисунок5"/>
          <p:cNvPicPr/>
          <p:nvPr/>
        </p:nvPicPr>
        <p:blipFill>
          <a:blip r:embed="rId1"/>
          <a:stretch/>
        </p:blipFill>
        <p:spPr>
          <a:xfrm>
            <a:off x="1908000" y="1725480"/>
            <a:ext cx="504036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Times New Roman"/>
              </a:rPr>
              <a:t>Шайбы! Шайбы! Шайбы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Picture 11" descr="Рисунок4"/>
          <p:cNvPicPr/>
          <p:nvPr/>
        </p:nvPicPr>
        <p:blipFill>
          <a:blip r:embed="rId1"/>
          <a:stretch/>
        </p:blipFill>
        <p:spPr>
          <a:xfrm>
            <a:off x="1835280" y="1666800"/>
            <a:ext cx="54734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46:53Z</dcterms:created>
  <dc:creator>user</dc:creator>
  <dc:description/>
  <dc:language>en-US</dc:language>
  <cp:lastModifiedBy>Няка</cp:lastModifiedBy>
  <dcterms:modified xsi:type="dcterms:W3CDTF">2014-12-02T17:18:08Z</dcterms:modified>
  <cp:revision>11</cp:revision>
  <dc:subject/>
  <dc:title>Слайд 1</dc:title>
</cp:coreProperties>
</file>