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DBB-C7AF-4AA5-A3AF-231BF2A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49D-C966-4308-828D-CBDAC57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0AA7-2132-4F52-883B-B90E784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072D-4CE1-4656-90B7-B621C1E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662E3-2C75-455C-BAA3-4B7F51D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28DF4-D8ED-46DA-84D9-9562251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8784-CAE6-4C7F-A323-2520A099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BDE61-7451-491E-8E58-A2444FB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B641-7DFA-4ACA-AB7A-3146B94B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6506-BA84-4C46-9C88-90DF28C7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B4C8-DF50-4C1D-AD84-0D1F8F87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46A83-6DCC-4BF6-BB35-7B633F8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FF1-FA9B-48AB-A807-67877B11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B101A-90EA-4D22-89B3-7E00C05F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01124-1D06-48AB-9680-0BF0C408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60CF-0885-466B-B73C-381CF192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B7997-07F4-4F17-96E4-D96EE83F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DE420-FC62-48B1-A67D-93B6594D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8DD7A-6F4D-4C30-8C39-3ADFBE4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AF941-BF6C-4B01-8536-4FB79675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7D15B-BC80-416D-8F04-82B5523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A7789-5E1B-4DD2-B8FD-9CFB448A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FD45-EC4D-4A6E-8A3B-B1658244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327-F0C7-44AA-B390-10EF2605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863F6-71FD-4349-A70C-E4C6C2B4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925D1-5BD6-49F6-BC09-C8B6EAF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4B4B0-1726-4D61-9404-0C80A2E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CC85B-5DFC-4262-9D5D-5FF9742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B6FD0-B7E5-49DB-948F-CC2DFE1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8C28D-DCBA-4540-86B4-042F3502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8F3B6-A680-4787-B103-66A3EA5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E918C-7A3F-4560-9951-FB8B7D67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A86F-31B9-470D-AE9D-AC514B1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50BC4-386E-4935-8A2B-9FD167B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E7961-CD5B-440B-A6E5-F0D2ADE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64718-C72A-4278-8730-E2F3B5D0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2BA8B-31FD-43D8-B3C3-FCF54869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84338-0A74-470D-B51C-2BC9BD7E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592C9-4C02-47C5-8545-3566563A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5A04C-53C2-47D7-8973-F8F3663F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66E4B-FFF1-4375-A65E-2C024D7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05FE7-0EC4-4605-BEAE-08F9E261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3AF6-E90E-47B7-835D-22B8B282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789F8-80A2-410D-93D4-79F5E32B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78CAC-EB32-4907-8C62-E83BC97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DC34F-6A6D-4EB8-AF04-46A699F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F4B49-EABF-42FC-AAC2-7965D55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8101B-9C10-48A5-9111-345A96E8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A6871-A975-4018-A55C-49EEB189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31DAF-950E-4D82-947F-5BCD64BE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C55C0-48EA-4DA2-BF4A-3369017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373D4-2124-4596-97C9-D236FE1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49EAD-B6D6-48D4-B4E9-3782BCE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102B9-9237-4C65-A5B5-DDA93A25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71493-6EAA-452A-830D-647606DD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A9C2E-02F2-4B68-9A98-CED6B53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DDCF7-B4D5-49DB-AB6A-65ED9DF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AA1B5-74DA-46F1-B157-C0CA2D5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4D5AC-BB5A-4322-B372-91612C3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81C8D-5472-4717-98BA-90CB8867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0094E-ABAA-496F-A201-5B889342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B6963-76A3-4495-8C7A-4532A586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E1AC1-AC30-439B-8E80-F5386239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F990E-8AF2-4E33-90A0-01BF1F66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24905-1DA2-4D87-B30C-F00CD7AC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E0980-9FB9-4599-BFA3-E166F8C1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B7654-7E6A-494B-8BD8-F205786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909A7-E947-47A2-B7DE-79A13E7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B8288-B4EE-41AD-850F-27F1BFD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D73E7-CAF7-4C28-9718-52190CF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F44C3-051F-4175-BF4C-D8377C62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7259C-8F03-4DB8-81CD-7E6EE736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8AC65-1053-4106-AB52-A39C5954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064-0337-4C79-B66E-99B8132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16FF9-2BB1-4064-957F-9448A4F0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E1708-E06F-4BCB-BAAD-D1422972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41CF6-044B-491D-B3B2-EE34313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A017A-4094-418C-8008-F5B12DA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693C6-3223-4F6D-993C-E4548E5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D89-928C-4365-AF38-44E9F448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D135D-314F-481A-9D4F-0EBDD59D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43BD8-BCA8-4319-A2FA-C97291A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F3E3B-F410-42EC-9C51-2B47173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3B513-CE1A-4BC0-90B0-FC89B3F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5877C-203B-47EB-A4A9-DFEA5888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601EC-B351-4CC4-A6E7-21338645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1515C-36C6-4A0D-B556-D1CCAFD5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15C-2C11-467A-A812-F937F31C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1CA-02E0-445C-921B-42F3470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5D1-64CB-4B9B-AA75-C8100E86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5547-CBA3-4508-8298-F92BB83F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FEDD-24AC-4ED0-8EA0-BE32D2BB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5B5A3-CE54-45DC-8B69-4557F7A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9864-AF2D-418C-BEB7-31DAE819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A796-81BB-4A6B-9C95-DF322121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2F6E8-0511-4F23-AC75-2E5E235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6942-3D21-4B13-895A-1CBCCC1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F60C-E87C-4E19-B6FD-839764B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81222-2DBB-48A8-8451-602D3A5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A89-ED4D-45F9-A32F-A9F583D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6C683-441A-4A1E-9C30-288D3A5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230B-1C63-4284-9994-B65AE01B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29075-8390-4EA1-9EF8-3145E4E9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DD76-4CE5-44B6-9898-F4F558F1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2C16-7CED-45E1-BE03-9E33FCDC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B0E2-ECAC-4667-B158-9BB0C9D5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6156-0564-4169-92E5-591B91B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1E3D-E91D-4EC7-B116-204FFBF4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4A1C-4E16-4C9B-94F5-0061132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88BD-1701-4A96-8486-93476D0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610-9931-4349-B115-705A2AA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210C-66C2-49DE-A4E6-F3BF34A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5C47E-51F4-4453-BBEA-7CDF4F70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2EA7-C1A7-4E65-BDF0-11FBA2E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26E3-C6F4-46B5-B703-74A6B0C1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8CA3-225E-4795-A95E-DAD54DE0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6384C-D9D7-4862-961B-388F5CF7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BB57-3C0A-4479-A71F-CF56FCA4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D8B1-5791-43C4-9A78-C10F284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BE42-6227-49AA-86D5-C6C0896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3272-C905-4644-A9FD-F4640F0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663-FCCC-439E-B56F-F130A1B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E5A58-D845-46FA-82CD-0319AD7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ABD8-8F87-4C82-920B-D5C1DEF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7D9C-6490-48BE-A183-E2EB182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4693-5A99-4D65-AE5B-B0D9F12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9742-5037-4278-830A-44BDA637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E3DE-611C-495D-BC01-98F723D8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1FF11-41DD-4D6B-81FB-A4D9F398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72BB9-7D51-4CFB-AA70-338F3EAA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92C4-6361-40D8-8BED-EFC8522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E0522-C900-4CD7-A58B-1FA201E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6CE-B592-424B-934F-5F2E1A5B8B42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1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391" name="Snip Diagonal Corner Rectangle 12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>
                <a:gd name="textAreaLeft" fmla="*/ 0 w 4251240"/>
                <a:gd name="textAreaRight" fmla="*/ 4251600 w 4251240"/>
                <a:gd name="textAreaTop" fmla="*/ -360 h 6388200"/>
                <a:gd name="textAreaBottom" fmla="*/ 6388200 h 6388200"/>
              </a:gdLst>
              <a:ahLst/>
              <a:rect l="textAreaLeft" t="textAreaTop" r="textAreaRight" b="textAreaBottom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154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2" name="Teardrop 13"/>
            <p:cNvSpPr/>
            <p:nvPr/>
          </p:nvSpPr>
          <p:spPr>
            <a:xfrm>
              <a:off x="3886200" y="431640"/>
              <a:ext cx="353880" cy="355320"/>
            </a:xfrm>
            <a:custGeom>
              <a:avLst/>
              <a:gdLst>
                <a:gd name="textAreaLeft" fmla="*/ 51840 w 353880"/>
                <a:gd name="textAreaRight" fmla="*/ 302040 w 353880"/>
                <a:gd name="textAreaTop" fmla="*/ 51840 h 355320"/>
                <a:gd name="textAreaBottom" fmla="*/ 303480 h 355320"/>
              </a:gdLst>
              <a:ahLst/>
              <a:rect l="textAreaLeft" t="textAreaTop" r="textAreaRight" b="textAreaBottom"/>
              <a:pathLst>
                <a:path w="354066" h="355558">
                  <a:moveTo>
                    <a:pt x="0" y="177779"/>
                  </a:moveTo>
                  <a:lnTo>
                    <a:pt x="0" y="177779"/>
                  </a:lnTo>
                  <a:arcTo wR="177033" hR="177779" stAng="10800000" swAng="5400000"/>
                  <a:lnTo>
                    <a:pt x="265549" y="0"/>
                  </a:lnTo>
                  <a:lnTo>
                    <a:pt x="354066" y="0"/>
                  </a:lnTo>
                  <a:lnTo>
                    <a:pt x="354066" y="133334"/>
                  </a:lnTo>
                  <a:arcTo wR="0" hR="44445" stAng="0" swAng="0"/>
                  <a:lnTo>
                    <a:pt x="328140" y="329523"/>
                  </a:lnTo>
                  <a:arcTo wR="-88517" hR="88890" stAng="2707228" swAng="10800000"/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93" name="Snip Diagonal Corner Rectangle 14"/>
          <p:cNvSpPr/>
          <p:nvPr/>
        </p:nvSpPr>
        <p:spPr>
          <a:xfrm flipV="1">
            <a:off x="4648320" y="227520"/>
            <a:ext cx="4251240" cy="6388200"/>
          </a:xfrm>
          <a:custGeom>
            <a:avLst/>
            <a:gdLst>
              <a:gd name="textAreaLeft" fmla="*/ 0 w 4251240"/>
              <a:gd name="textAreaRight" fmla="*/ 4251600 w 4251240"/>
              <a:gd name="textAreaTop" fmla="*/ -360 h 6388200"/>
              <a:gd name="textAreaBottom" fmla="*/ 6388200 h 6388200"/>
            </a:gdLst>
            <a:ahLst/>
            <a:rect l="textAreaLeft" t="textAreaTop" r="textAreaRight" b="textAreaBottom"/>
            <a:pathLst>
              <a:path w="4251325" h="6388100">
                <a:moveTo>
                  <a:pt x="0" y="0"/>
                </a:moveTo>
                <a:lnTo>
                  <a:pt x="4090030" y="0"/>
                </a:lnTo>
                <a:lnTo>
                  <a:pt x="4251325" y="161295"/>
                </a:lnTo>
                <a:lnTo>
                  <a:pt x="4251325" y="6388100"/>
                </a:lnTo>
                <a:lnTo>
                  <a:pt x="161295" y="6388100"/>
                </a:lnTo>
                <a:lnTo>
                  <a:pt x="0" y="6226805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762120" y="6297120"/>
            <a:ext cx="129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057400" y="6297120"/>
            <a:ext cx="234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304920" y="6297120"/>
            <a:ext cx="444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B55-0B87-4EFA-A919-6BBE7A077FA1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0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436" name="Snip Diagonal Corner Rectangle 11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>
                <a:gd name="textAreaLeft" fmla="*/ 0 w 4251240"/>
                <a:gd name="textAreaRight" fmla="*/ 4251600 w 4251240"/>
                <a:gd name="textAreaTop" fmla="*/ -360 h 6388200"/>
                <a:gd name="textAreaBottom" fmla="*/ 6388200 h 6388200"/>
              </a:gdLst>
              <a:ahLst/>
              <a:rect l="textAreaLeft" t="textAreaTop" r="textAreaRight" b="textAreaBottom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154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37" name="Teardrop 12"/>
            <p:cNvSpPr/>
            <p:nvPr/>
          </p:nvSpPr>
          <p:spPr>
            <a:xfrm>
              <a:off x="3886200" y="431640"/>
              <a:ext cx="353880" cy="355320"/>
            </a:xfrm>
            <a:custGeom>
              <a:avLst/>
              <a:gdLst>
                <a:gd name="textAreaLeft" fmla="*/ 51840 w 353880"/>
                <a:gd name="textAreaRight" fmla="*/ 302040 w 353880"/>
                <a:gd name="textAreaTop" fmla="*/ 51840 h 355320"/>
                <a:gd name="textAreaBottom" fmla="*/ 303480 h 355320"/>
              </a:gdLst>
              <a:ahLst/>
              <a:rect l="textAreaLeft" t="textAreaTop" r="textAreaRight" b="textAreaBottom"/>
              <a:pathLst>
                <a:path w="354066" h="355558">
                  <a:moveTo>
                    <a:pt x="0" y="177779"/>
                  </a:moveTo>
                  <a:lnTo>
                    <a:pt x="0" y="177779"/>
                  </a:lnTo>
                  <a:arcTo wR="177033" hR="177779" stAng="10800000" swAng="5400000"/>
                  <a:lnTo>
                    <a:pt x="265549" y="0"/>
                  </a:lnTo>
                  <a:lnTo>
                    <a:pt x="354066" y="0"/>
                  </a:lnTo>
                  <a:lnTo>
                    <a:pt x="354066" y="133334"/>
                  </a:lnTo>
                  <a:arcTo wR="0" hR="44445" stAng="0" swAng="0"/>
                  <a:lnTo>
                    <a:pt x="328140" y="329523"/>
                  </a:lnTo>
                  <a:arcTo wR="-88517" hR="88890" stAng="2707228" swAng="10800000"/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758520" y="6300720"/>
            <a:ext cx="1298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2057400" y="6300720"/>
            <a:ext cx="234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01320" y="6300720"/>
            <a:ext cx="44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9B76-CD1C-4FF2-84BB-D2A0A792F259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nip Diagonal Corner Rectangle 8"/>
          <p:cNvSpPr/>
          <p:nvPr/>
        </p:nvSpPr>
        <p:spPr>
          <a:xfrm flipV="1">
            <a:off x="228600" y="4647960"/>
            <a:ext cx="8686800" cy="1963440"/>
          </a:xfrm>
          <a:custGeom>
            <a:avLst/>
            <a:gdLst>
              <a:gd name="textAreaLeft" fmla="*/ 0 w 8686800"/>
              <a:gd name="textAreaRight" fmla="*/ 8687160 w 8686800"/>
              <a:gd name="textAreaTop" fmla="*/ 360 h 1963440"/>
              <a:gd name="textAreaBottom" fmla="*/ 1964160 h 1963440"/>
            </a:gdLst>
            <a:ahLst/>
            <a:rect l="textAreaLeft" t="textAreaTop" r="textAreaRight" b="textAreaBottom"/>
            <a:pathLst>
              <a:path w="8686800" h="1963738">
                <a:moveTo>
                  <a:pt x="0" y="0"/>
                </a:moveTo>
                <a:lnTo>
                  <a:pt x="8502739" y="0"/>
                </a:lnTo>
                <a:lnTo>
                  <a:pt x="8686800" y="184061"/>
                </a:lnTo>
                <a:lnTo>
                  <a:pt x="8686800" y="1963738"/>
                </a:lnTo>
                <a:lnTo>
                  <a:pt x="184061" y="1963738"/>
                </a:lnTo>
                <a:lnTo>
                  <a:pt x="0" y="1779677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4480-0897-4E57-B0F2-D8D3796955EF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nip Diagonal Corner Rectangle 8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4908600"/>
              <a:gd name="textAreaBottom" fmla="*/ 490860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Snip Diagonal Corner Rectangle 9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0 w 8686800"/>
              <a:gd name="textAreaRight" fmla="*/ 8687160 w 8686800"/>
              <a:gd name="textAreaTop" fmla="*/ 360 h 1278000"/>
              <a:gd name="textAreaBottom" fmla="*/ 127872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9EC-2F83-486A-93C8-C3804C89B4C2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nip Diagonal Corner Rectangle 7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6388200"/>
              <a:gd name="textAreaBottom" fmla="*/ 6388200 h 6388200"/>
            </a:gdLst>
            <a:ahLst/>
            <a:rect l="textAreaLeft" t="textAreaTop" r="textAreaRight" b="textAreaBottom"/>
            <a:pathLst>
              <a:path w="8686800" h="6388100">
                <a:moveTo>
                  <a:pt x="0" y="0"/>
                </a:moveTo>
                <a:lnTo>
                  <a:pt x="8525245" y="0"/>
                </a:lnTo>
                <a:lnTo>
                  <a:pt x="8686800" y="161555"/>
                </a:lnTo>
                <a:lnTo>
                  <a:pt x="8686800" y="6388100"/>
                </a:lnTo>
                <a:lnTo>
                  <a:pt x="161555" y="6388100"/>
                </a:lnTo>
                <a:lnTo>
                  <a:pt x="0" y="6226545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1247-9ABA-4B2C-B6E2-F526AF7E3873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43" name="Snip Single Corner Rectangle 14"/>
              <p:cNvSpPr/>
              <p:nvPr/>
            </p:nvSpPr>
            <p:spPr>
              <a:xfrm flipV="1">
                <a:off x="0" y="3391200"/>
                <a:ext cx="7543800" cy="2590920"/>
              </a:xfrm>
              <a:custGeom>
                <a:avLst/>
                <a:gdLst>
                  <a:gd name="textAreaLeft" fmla="*/ 0 w 7543800"/>
                  <a:gd name="textAreaRight" fmla="*/ 7544160 w 7543800"/>
                  <a:gd name="textAreaTop" fmla="*/ -360 h 2590920"/>
                  <a:gd name="textAreaBottom" fmla="*/ 259092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3154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  <p:sp>
            <p:nvSpPr>
              <p:cNvPr id="44" name="Straight Connector 15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sp>
          <p:nvSpPr>
            <p:cNvPr id="45" name="Teardrop 12"/>
            <p:cNvSpPr/>
            <p:nvPr/>
          </p:nvSpPr>
          <p:spPr>
            <a:xfrm>
              <a:off x="6818400" y="3620880"/>
              <a:ext cx="393480" cy="395280"/>
            </a:xfrm>
            <a:custGeom>
              <a:avLst/>
              <a:gdLst>
                <a:gd name="textAreaLeft" fmla="*/ 57600 w 393480"/>
                <a:gd name="textAreaRight" fmla="*/ 335880 w 393480"/>
                <a:gd name="textAreaTop" fmla="*/ 57600 h 395280"/>
                <a:gd name="textAreaBottom" fmla="*/ 337680 h 395280"/>
              </a:gdLst>
              <a:ahLst/>
              <a:rect l="textAreaLeft" t="textAreaTop" r="textAreaRight" b="textAreaBottom"/>
              <a:pathLst>
                <a:path w="393700" h="395400">
                  <a:moveTo>
                    <a:pt x="0" y="197700"/>
                  </a:moveTo>
                  <a:lnTo>
                    <a:pt x="0" y="197700"/>
                  </a:lnTo>
                  <a:arcTo wR="196850" hR="197700" stAng="10800000" swAng="5400000"/>
                  <a:lnTo>
                    <a:pt x="295275" y="0"/>
                  </a:lnTo>
                  <a:lnTo>
                    <a:pt x="393700" y="0"/>
                  </a:lnTo>
                  <a:lnTo>
                    <a:pt x="393700" y="148275"/>
                  </a:lnTo>
                  <a:arcTo wR="0" hR="49425" stAng="0" swAng="0"/>
                  <a:lnTo>
                    <a:pt x="364872" y="366448"/>
                  </a:lnTo>
                  <a:arcTo wR="-98425" hR="98850" stAng="2707406" swAng="10800000"/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8182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82a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nip Diagonal Corner Rectangle 8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4908600"/>
              <a:gd name="textAreaBottom" fmla="*/ 490860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Snip Diagonal Corner Rectangle 9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0 w 8686800"/>
              <a:gd name="textAreaRight" fmla="*/ 8687160 w 8686800"/>
              <a:gd name="textAreaTop" fmla="*/ 360 h 1278000"/>
              <a:gd name="textAreaBottom" fmla="*/ 127872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3DC-7155-4F4B-925F-AC119ED57286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130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131" name="Snip Single Corner Rectangle 16"/>
              <p:cNvSpPr/>
              <p:nvPr/>
            </p:nvSpPr>
            <p:spPr>
              <a:xfrm flipV="1">
                <a:off x="0" y="3391200"/>
                <a:ext cx="7543800" cy="2590920"/>
              </a:xfrm>
              <a:custGeom>
                <a:avLst/>
                <a:gdLst>
                  <a:gd name="textAreaLeft" fmla="*/ 0 w 7543800"/>
                  <a:gd name="textAreaRight" fmla="*/ 7544160 w 7543800"/>
                  <a:gd name="textAreaTop" fmla="*/ -360 h 2590920"/>
                  <a:gd name="textAreaBottom" fmla="*/ 259092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3154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  <p:sp>
            <p:nvSpPr>
              <p:cNvPr id="132" name="Straight Connector 17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sp>
          <p:nvSpPr>
            <p:cNvPr id="133" name="Teardrop 15"/>
            <p:cNvSpPr/>
            <p:nvPr/>
          </p:nvSpPr>
          <p:spPr>
            <a:xfrm>
              <a:off x="6818400" y="3620880"/>
              <a:ext cx="393480" cy="395280"/>
            </a:xfrm>
            <a:custGeom>
              <a:avLst/>
              <a:gdLst>
                <a:gd name="textAreaLeft" fmla="*/ 57600 w 393480"/>
                <a:gd name="textAreaRight" fmla="*/ 335880 w 393480"/>
                <a:gd name="textAreaTop" fmla="*/ 57600 h 395280"/>
                <a:gd name="textAreaBottom" fmla="*/ 337680 h 395280"/>
              </a:gdLst>
              <a:ahLst/>
              <a:rect l="textAreaLeft" t="textAreaTop" r="textAreaRight" b="textAreaBottom"/>
              <a:pathLst>
                <a:path w="393700" h="395400">
                  <a:moveTo>
                    <a:pt x="0" y="197700"/>
                  </a:moveTo>
                  <a:lnTo>
                    <a:pt x="0" y="197700"/>
                  </a:lnTo>
                  <a:arcTo wR="196850" hR="197700" stAng="10800000" swAng="5400000"/>
                  <a:lnTo>
                    <a:pt x="295275" y="0"/>
                  </a:lnTo>
                  <a:lnTo>
                    <a:pt x="393700" y="0"/>
                  </a:lnTo>
                  <a:lnTo>
                    <a:pt x="393700" y="148275"/>
                  </a:lnTo>
                  <a:arcTo wR="0" hR="49425" stAng="0" swAng="0"/>
                  <a:lnTo>
                    <a:pt x="364872" y="366448"/>
                  </a:lnTo>
                  <a:arcTo wR="-98425" hR="98850" stAng="2707406" swAng="10800000"/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8182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82a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599840" y="2127240"/>
            <a:ext cx="7543800" cy="2603160"/>
            <a:chOff x="1599840" y="2127240"/>
            <a:chExt cx="7543800" cy="2603160"/>
          </a:xfrm>
        </p:grpSpPr>
        <p:grpSp>
          <p:nvGrpSpPr>
            <p:cNvPr id="175" name="Group 11"/>
            <p:cNvGrpSpPr/>
            <p:nvPr/>
          </p:nvGrpSpPr>
          <p:grpSpPr>
            <a:xfrm>
              <a:off x="1599840" y="2127240"/>
              <a:ext cx="7543800" cy="2603160"/>
              <a:chOff x="1599840" y="2127240"/>
              <a:chExt cx="7543800" cy="2603160"/>
            </a:xfrm>
          </p:grpSpPr>
          <p:sp>
            <p:nvSpPr>
              <p:cNvPr id="176" name="Snip Single Corner Rectangle 9"/>
              <p:cNvSpPr/>
              <p:nvPr/>
            </p:nvSpPr>
            <p:spPr>
              <a:xfrm flipH="1" flipV="1">
                <a:off x="1599480" y="2139120"/>
                <a:ext cx="7543800" cy="2590920"/>
              </a:xfrm>
              <a:custGeom>
                <a:avLst/>
                <a:gdLst>
                  <a:gd name="textAreaLeft" fmla="*/ -360 w 7543800"/>
                  <a:gd name="textAreaRight" fmla="*/ 7543800 w 7543800"/>
                  <a:gd name="textAreaTop" fmla="*/ -360 h 2590920"/>
                  <a:gd name="textAreaBottom" fmla="*/ 259092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3154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  <p:sp>
            <p:nvSpPr>
              <p:cNvPr id="177" name="Straight Connector 10"/>
              <p:cNvSpPr/>
              <p:nvPr/>
            </p:nvSpPr>
            <p:spPr>
              <a:xfrm flipH="1">
                <a:off x="1599840" y="212724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sp>
          <p:nvSpPr>
            <p:cNvPr id="178" name="Teardrop 8"/>
            <p:cNvSpPr/>
            <p:nvPr/>
          </p:nvSpPr>
          <p:spPr>
            <a:xfrm>
              <a:off x="8521920" y="2368440"/>
              <a:ext cx="393480" cy="395280"/>
            </a:xfrm>
            <a:custGeom>
              <a:avLst/>
              <a:gdLst>
                <a:gd name="textAreaLeft" fmla="*/ 57600 w 393480"/>
                <a:gd name="textAreaRight" fmla="*/ 335880 w 393480"/>
                <a:gd name="textAreaTop" fmla="*/ 57600 h 395280"/>
                <a:gd name="textAreaBottom" fmla="*/ 337680 h 395280"/>
              </a:gdLst>
              <a:ahLst/>
              <a:rect l="textAreaLeft" t="textAreaTop" r="textAreaRight" b="textAreaBottom"/>
              <a:pathLst>
                <a:path w="393700" h="395401">
                  <a:moveTo>
                    <a:pt x="0" y="197701"/>
                  </a:moveTo>
                  <a:lnTo>
                    <a:pt x="0" y="197701"/>
                  </a:lnTo>
                  <a:arcTo wR="196850" hR="197701" stAng="10800000" swAng="5400000"/>
                  <a:lnTo>
                    <a:pt x="295275" y="0"/>
                  </a:lnTo>
                  <a:lnTo>
                    <a:pt x="393700" y="0"/>
                  </a:lnTo>
                  <a:lnTo>
                    <a:pt x="393700" y="148276"/>
                  </a:lnTo>
                  <a:arcTo wR="0" hR="49426" stAng="0" swAng="0"/>
                  <a:lnTo>
                    <a:pt x="364872" y="366449"/>
                  </a:lnTo>
                  <a:arcTo wR="-98425" hR="98851" stAng="2707415" swAng="10800000"/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 rot="16200000">
            <a:off x="80337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2"/>
          </p:nvPr>
        </p:nvSpPr>
        <p:spPr>
          <a:xfrm rot="16200000">
            <a:off x="76575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8182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82a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nip Diagonal Corner Rectangle 10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4908600"/>
              <a:gd name="textAreaBottom" fmla="*/ 490860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Snip Diagonal Corner Rectangle 11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0 w 8686800"/>
              <a:gd name="textAreaRight" fmla="*/ 8687160 w 8686800"/>
              <a:gd name="textAreaTop" fmla="*/ 360 h 1278000"/>
              <a:gd name="textAreaBottom" fmla="*/ 127872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0392-FD7C-4614-A429-0DEED5D186E4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nip Diagonal Corner Rectangle 11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4908600"/>
              <a:gd name="textAreaBottom" fmla="*/ 490860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Snip Diagonal Corner Rectangle 12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0 w 8686800"/>
              <a:gd name="textAreaRight" fmla="*/ 8687160 w 8686800"/>
              <a:gd name="textAreaTop" fmla="*/ 360 h 1278000"/>
              <a:gd name="textAreaBottom" fmla="*/ 127872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71C-793F-4C73-954C-F05ABF1C1ADB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Diagonal Corner Rectangle 8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4908600"/>
              <a:gd name="textAreaBottom" fmla="*/ 490860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Snip Diagonal Corner Rectangle 9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0 w 8686800"/>
              <a:gd name="textAreaRight" fmla="*/ 8687160 w 8686800"/>
              <a:gd name="textAreaTop" fmla="*/ 360 h 1278000"/>
              <a:gd name="textAreaBottom" fmla="*/ 127872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C2A-A083-44E5-9661-7F390754AF2E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nip Diagonal Corner Rectangle 5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>
              <a:gd name="textAreaLeft" fmla="*/ 0 w 8686800"/>
              <a:gd name="textAreaRight" fmla="*/ 8687160 w 8686800"/>
              <a:gd name="textAreaTop" fmla="*/ -360 h 6388200"/>
              <a:gd name="textAreaBottom" fmla="*/ 6388200 h 6388200"/>
            </a:gdLst>
            <a:ahLst/>
            <a:rect l="textAreaLeft" t="textAreaTop" r="textAreaRight" b="textAreaBottom"/>
            <a:pathLst>
              <a:path w="8686800" h="6388100">
                <a:moveTo>
                  <a:pt x="0" y="0"/>
                </a:moveTo>
                <a:lnTo>
                  <a:pt x="8525245" y="0"/>
                </a:lnTo>
                <a:lnTo>
                  <a:pt x="8686800" y="161555"/>
                </a:lnTo>
                <a:lnTo>
                  <a:pt x="8686800" y="6388100"/>
                </a:lnTo>
                <a:lnTo>
                  <a:pt x="161555" y="6388100"/>
                </a:lnTo>
                <a:lnTo>
                  <a:pt x="0" y="6226545"/>
                </a:lnTo>
                <a:lnTo>
                  <a:pt x="0" y="0"/>
                </a:lnTo>
                <a:close/>
              </a:path>
            </a:pathLst>
          </a:custGeom>
          <a:solidFill>
            <a:srgbClr val="103154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ffffff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a2037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a2037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CAE-70AA-4963-9289-7DCCD279FC78}" type="slidenum">
              <a:rPr b="1" lang="en-US" sz="1100" spc="-1" strike="noStrike">
                <a:solidFill>
                  <a:srgbClr val="0a2037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616/981/original.jpg" TargetMode="External"/><Relationship Id="rId2" Type="http://schemas.openxmlformats.org/officeDocument/2006/relationships/hyperlink" Target="http://www.xrest.ru/images/collection/00616/981/original.jpg" TargetMode="External"/><Relationship Id="rId3" Type="http://schemas.openxmlformats.org/officeDocument/2006/relationships/hyperlink" Target="http://www.xrest.ru/images/collection/00616/981/original.jpg" TargetMode="External"/><Relationship Id="rId4" Type="http://schemas.openxmlformats.org/officeDocument/2006/relationships/hyperlink" Target="http://www.xrest.ru/images/collection/00616/981/original.jpg" TargetMode="External"/><Relationship Id="rId5" Type="http://schemas.openxmlformats.org/officeDocument/2006/relationships/hyperlink" Target="http://www.xrest.ru/images/collection/00616/981/original.jpg" TargetMode="External"/><Relationship Id="rId6" Type="http://schemas.openxmlformats.org/officeDocument/2006/relationships/hyperlink" Target="http://www.xrest.ru/images/collection/00616/981/original.jpg" TargetMode="External"/><Relationship Id="rId7" Type="http://schemas.openxmlformats.org/officeDocument/2006/relationships/hyperlink" Target="http://www.xrest.ru/images/collection/00616/981/original.jpg" TargetMode="External"/><Relationship Id="rId8" Type="http://schemas.openxmlformats.org/officeDocument/2006/relationships/hyperlink" Target="http://www.xrest.ru/images/collection/00616/981/original.jpg" TargetMode="External"/><Relationship Id="rId9" Type="http://schemas.openxmlformats.org/officeDocument/2006/relationships/hyperlink" Target="http://www.xrest.ru/images/collection/00616/981/original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5"/>
          <p:cNvSpPr/>
          <p:nvPr/>
        </p:nvSpPr>
        <p:spPr>
          <a:xfrm>
            <a:off x="1679400" y="260280"/>
            <a:ext cx="552780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Прямоугольник 7"/>
          <p:cNvSpPr/>
          <p:nvPr/>
        </p:nvSpPr>
        <p:spPr>
          <a:xfrm>
            <a:off x="1312920" y="260280"/>
            <a:ext cx="55720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3849840" y="4221000"/>
            <a:ext cx="50353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 презентации: ученица 1 б клас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Излучинская ОСШУИОП №1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ченашенко Васили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.В. Грудачев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"/>
          <p:cNvSpPr/>
          <p:nvPr/>
        </p:nvSpPr>
        <p:spPr>
          <a:xfrm>
            <a:off x="3849840" y="979560"/>
            <a:ext cx="503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ЗИМУЮЩИЕ      ПТИЦИ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ашего края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63400" y="584280"/>
            <a:ext cx="2822760" cy="5497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"/>
          <p:cNvSpPr/>
          <p:nvPr/>
        </p:nvSpPr>
        <p:spPr>
          <a:xfrm>
            <a:off x="4476600" y="1538280"/>
            <a:ext cx="415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бирает он проворно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нутые ему зерн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гнездится на карнизе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ш любимый …………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"/>
          <p:cNvSpPr/>
          <p:nvPr/>
        </p:nvSpPr>
        <p:spPr>
          <a:xfrm>
            <a:off x="419040" y="5060880"/>
            <a:ext cx="847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УБ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рупная городская птица.   Живет рядом с человеком.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"/>
          <p:cNvSpPr/>
          <p:nvPr/>
        </p:nvSpPr>
        <p:spPr>
          <a:xfrm>
            <a:off x="419040" y="4403880"/>
            <a:ext cx="34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ОЛУБЬ - СИЗЫ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19040" y="407880"/>
            <a:ext cx="3486240" cy="353556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"/>
          <p:cNvSpPr/>
          <p:nvPr/>
        </p:nvSpPr>
        <p:spPr>
          <a:xfrm>
            <a:off x="1276200" y="5024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за стол среди берёз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 открытым небом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ощает он в мороз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тиц зерном и хлебом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3" name=""/>
          <p:cNvSpPr/>
          <p:nvPr/>
        </p:nvSpPr>
        <p:spPr>
          <a:xfrm>
            <a:off x="5410080" y="5865840"/>
            <a:ext cx="26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РМУШ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733400" y="361800"/>
            <a:ext cx="5220000" cy="436896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-488160" y="325440"/>
            <a:ext cx="91296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Список используемых источников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3"/>
              </a:rPr>
              <a:t>www.xrest.ru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5"/>
              </a:rPr>
              <a:t>images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7"/>
              </a:rPr>
              <a:t>collection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8"/>
              </a:rPr>
              <a:t>/00616/981/</a:t>
            </a:r>
            <a:r>
              <a:rPr b="0" lang="ru-RU" sz="1800" spc="-1" strike="noStrike" u="sng">
                <a:solidFill>
                  <a:srgbClr val="1286c9"/>
                </a:solidFill>
                <a:uFillTx/>
                <a:latin typeface="Corbel"/>
                <a:hlinkClick r:id="rId9"/>
              </a:rPr>
              <a:t>original.jpg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. http://900igr.net/datai/russkij-jazyk/Uroki-pisma-v-1-klasse/0007-004-Vorobej.jp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3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 http://www.artap.ru/animal/animal26.jp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4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 http://www.artap.ru/animal/animal26.jp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5. http://www.bio.vsu.ru/oriolus/ris43.jp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http://ru.wikipedia.org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7.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http://puzzles.amparlius.ru/new/rdl_child.asp?id=183&amp;a=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8.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http://www.kinder-sad.ru/zagadki/o-ptichka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666720" y="1390680"/>
            <a:ext cx="7886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все птицы улетают на зиму в тёплые края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, которые проводят зиму                     у нас, называются </a:t>
            </a:r>
            <a:r>
              <a:rPr b="1" i="1" lang="ru-RU" sz="4000" spc="-1" strike="noStrike" u="sng">
                <a:solidFill>
                  <a:srgbClr val="003366"/>
                </a:solidFill>
                <a:uFillTx/>
                <a:latin typeface="Arial"/>
              </a:rPr>
              <a:t>ЗИМУЮЩИМ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Изображение 1" descr=""/>
          <p:cNvPicPr/>
          <p:nvPr/>
        </p:nvPicPr>
        <p:blipFill>
          <a:blip r:embed="rId1"/>
          <a:stretch/>
        </p:blipFill>
        <p:spPr>
          <a:xfrm>
            <a:off x="419040" y="487440"/>
            <a:ext cx="4492800" cy="297972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  <p:sp>
        <p:nvSpPr>
          <p:cNvPr id="613" name=""/>
          <p:cNvSpPr/>
          <p:nvPr/>
        </p:nvSpPr>
        <p:spPr>
          <a:xfrm>
            <a:off x="5162400" y="887400"/>
            <a:ext cx="3733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енький мальчишк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ером армячишк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дворам шныряет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шки собирает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"/>
          <p:cNvSpPr/>
          <p:nvPr/>
        </p:nvSpPr>
        <p:spPr>
          <a:xfrm>
            <a:off x="419040" y="3943440"/>
            <a:ext cx="847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"/>
          <p:cNvSpPr/>
          <p:nvPr/>
        </p:nvSpPr>
        <p:spPr>
          <a:xfrm>
            <a:off x="666720" y="4843440"/>
            <a:ext cx="758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робей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ёт повсюду, кроме севера.                             Питается семенами травянистых растен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"/>
          <p:cNvSpPr/>
          <p:nvPr/>
        </p:nvSpPr>
        <p:spPr>
          <a:xfrm>
            <a:off x="1476360" y="368316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РОБЕ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191120" y="887400"/>
            <a:ext cx="470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сногрудый, чернокрылый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ит зёрнышки клевать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первым снегом на рябин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появится опять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"/>
          <p:cNvSpPr/>
          <p:nvPr/>
        </p:nvSpPr>
        <p:spPr>
          <a:xfrm>
            <a:off x="419040" y="4843440"/>
            <a:ext cx="847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ИРЬ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чующая птица.                           Питается плодами рябины, семенами деревь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"/>
          <p:cNvSpPr/>
          <p:nvPr/>
        </p:nvSpPr>
        <p:spPr>
          <a:xfrm>
            <a:off x="1171440" y="316404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НЕГИР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0" name="i" descr=""/>
          <p:cNvPicPr/>
          <p:nvPr/>
        </p:nvPicPr>
        <p:blipFill>
          <a:blip r:embed="rId1"/>
          <a:stretch/>
        </p:blipFill>
        <p:spPr>
          <a:xfrm>
            <a:off x="419040" y="347760"/>
            <a:ext cx="3524400" cy="265104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2" name="Изображение 1" descr=""/>
          <p:cNvPicPr/>
          <p:nvPr/>
        </p:nvPicPr>
        <p:blipFill>
          <a:blip r:embed="rId1"/>
          <a:stretch/>
        </p:blipFill>
        <p:spPr>
          <a:xfrm>
            <a:off x="501480" y="428760"/>
            <a:ext cx="3141720" cy="372420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  <p:sp>
        <p:nvSpPr>
          <p:cNvPr id="623" name=""/>
          <p:cNvSpPr/>
          <p:nvPr/>
        </p:nvSpPr>
        <p:spPr>
          <a:xfrm>
            <a:off x="4305240" y="762120"/>
            <a:ext cx="4484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щит он в дупло упорно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мена, орехи, зёрна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заправский кладовщик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йкий …………….. ямщик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4424400"/>
            <a:ext cx="2724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ПОЛЗ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"/>
          <p:cNvSpPr/>
          <p:nvPr/>
        </p:nvSpPr>
        <p:spPr>
          <a:xfrm>
            <a:off x="312840" y="5230800"/>
            <a:ext cx="847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меет передвигаться по стволам вниз  головой. Осенью запасает кор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"/>
          <p:cNvSpPr/>
          <p:nvPr/>
        </p:nvSpPr>
        <p:spPr>
          <a:xfrm>
            <a:off x="4305240" y="1327320"/>
            <a:ext cx="448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там прыгает, шуршит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вом шишки потрошит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лоском речистым, чистым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Клё! Клё! Клё!» -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ёт со свистом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"/>
          <p:cNvSpPr/>
          <p:nvPr/>
        </p:nvSpPr>
        <p:spPr>
          <a:xfrm>
            <a:off x="3676680" y="4373640"/>
            <a:ext cx="2724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ЛЁ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"/>
          <p:cNvSpPr/>
          <p:nvPr/>
        </p:nvSpPr>
        <p:spPr>
          <a:xfrm>
            <a:off x="312840" y="5230800"/>
            <a:ext cx="847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Ё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меет клюв в виде клещей. Таким клювом ему удобно вылущивать орешки из кедровых шишек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579600" y="399960"/>
            <a:ext cx="3097080" cy="449280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2" name=""/>
          <p:cNvSpPr/>
          <p:nvPr/>
        </p:nvSpPr>
        <p:spPr>
          <a:xfrm>
            <a:off x="4716360" y="762120"/>
            <a:ext cx="4179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инкою зеленова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ом желтовата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ёрненькая шапочк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зеленоватый шарфик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"/>
          <p:cNvSpPr/>
          <p:nvPr/>
        </p:nvSpPr>
        <p:spPr>
          <a:xfrm>
            <a:off x="419040" y="4878360"/>
            <a:ext cx="847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овкая, вертлявая птица. Уничтожает вредителей не только летом, но и зим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4" name="Изображение 1" descr=""/>
          <p:cNvPicPr/>
          <p:nvPr/>
        </p:nvPicPr>
        <p:blipFill>
          <a:blip r:embed="rId1"/>
          <a:stretch/>
        </p:blipFill>
        <p:spPr>
          <a:xfrm>
            <a:off x="419040" y="338040"/>
            <a:ext cx="3886200" cy="290664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1206360" y="3352680"/>
            <a:ext cx="20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НИЦ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"/>
          <p:cNvSpPr/>
          <p:nvPr/>
        </p:nvSpPr>
        <p:spPr>
          <a:xfrm>
            <a:off x="3924360" y="1447920"/>
            <a:ext cx="447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р-кар-кар! Кар-кар-кар! –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и весь репертуар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глашает крону клё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воим пением ………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"/>
          <p:cNvSpPr/>
          <p:nvPr/>
        </p:nvSpPr>
        <p:spPr>
          <a:xfrm>
            <a:off x="419040" y="5060880"/>
            <a:ext cx="847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Р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рупная птица.   Если вороны сидят на верхушках деревьев – будет мороз. Если сидят на нижних ветках – будет ветер.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"/>
          <p:cNvSpPr/>
          <p:nvPr/>
        </p:nvSpPr>
        <p:spPr>
          <a:xfrm>
            <a:off x="876240" y="414504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РОН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40" name="Изображение 1" descr=""/>
          <p:cNvPicPr/>
          <p:nvPr/>
        </p:nvPicPr>
        <p:blipFill>
          <a:blip r:embed="rId1"/>
          <a:stretch/>
        </p:blipFill>
        <p:spPr>
          <a:xfrm>
            <a:off x="419040" y="407880"/>
            <a:ext cx="2990880" cy="368316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2"/>
          <p:cNvSpPr/>
          <p:nvPr/>
        </p:nvSpPr>
        <p:spPr>
          <a:xfrm>
            <a:off x="3225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"/>
          <p:cNvSpPr/>
          <p:nvPr/>
        </p:nvSpPr>
        <p:spPr>
          <a:xfrm>
            <a:off x="3905280" y="1538280"/>
            <a:ext cx="455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трекочет и вертится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й на месте не сидится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иннохвоста, белобок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роватая 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"/>
          <p:cNvSpPr/>
          <p:nvPr/>
        </p:nvSpPr>
        <p:spPr>
          <a:xfrm>
            <a:off x="419040" y="5060880"/>
            <a:ext cx="847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рупная птица.   Если сорока громко стрекочет – будет мороз. Её внимание привлекают яркие, блестящие вещицы.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4" name=""/>
          <p:cNvSpPr/>
          <p:nvPr/>
        </p:nvSpPr>
        <p:spPr>
          <a:xfrm>
            <a:off x="876240" y="440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ОРО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19040" y="358920"/>
            <a:ext cx="2990880" cy="3786120"/>
          </a:xfrm>
          <a:prstGeom prst="rect">
            <a:avLst/>
          </a:prstGeom>
          <a:ln w="25560">
            <a:solidFill>
              <a:srgbClr val="1031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8:15:15Z</dcterms:created>
  <dc:creator>teacher Калмычкова</dc:creator>
  <dc:description/>
  <dc:language>en-US</dc:language>
  <cp:lastModifiedBy>Александр</cp:lastModifiedBy>
  <dcterms:modified xsi:type="dcterms:W3CDTF">2013-03-12T15:01:33Z</dcterms:modified>
  <cp:revision>36</cp:revision>
  <dc:subject/>
  <dc:title>Зимующие птицы</dc:title>
</cp:coreProperties>
</file>