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D5EC9-85EB-4F58-9A79-346CD710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7E026-ACC0-468E-9EED-9D292CE4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A1EE8-9812-44AA-AABA-6DD4DD34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10286-197E-42FE-986E-43938D69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D090-6CB4-421A-9DCC-962D455A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98BD-7984-4F1A-A711-5480AF3E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1C65-FF2D-4990-B547-E3A0C3FE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2EFD-2D17-4CC8-9AC3-25B10601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C675-E581-4369-B5BF-FE1BF202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B4CC-F091-40BD-96D3-161B498F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D66D-F306-4963-AB40-ADFD9604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A9533-D8DD-4BB2-B5EE-973434FC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3009-D449-431A-8877-A26B0FA9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D31C-17C6-4017-8AD8-9F07B818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BD03-DC5B-4705-8AEE-D42CCB94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674B-2A51-469C-830A-9AACB442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C798-8E32-4B10-A7B4-70B14F7F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5275C-5272-4D52-B451-366EAF56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5DF5D-6D8F-4813-A17C-AF72C956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8E11D-F838-497C-9D50-189372CD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06913-9518-4696-AD68-6F3B1893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DC120-E587-408B-B3F6-E40C5822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442CE-0B7C-47DA-9980-0A6E2910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AF854-BD6D-4ABB-A0F9-5E038DC2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115D-BDA7-4914-86FA-A780A3E9E5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6750-4D63-4979-B7C1-E57CBE3F36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100" spc="-1" strike="noStrike">
                <a:solidFill>
                  <a:srgbClr val="ffffff"/>
                </a:solidFill>
                <a:latin typeface="Arial"/>
              </a:rPr>
              <a:t>Архитектура </a:t>
            </a:r>
            <a:endParaRPr b="0" lang="en-US" sz="6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Arial"/>
              </a:rPr>
              <a:t>13-15 века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5300280"/>
            <a:ext cx="7010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лаговещенский собор – домовая церковь московских государей (1489 г. – псковские мастер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92360" y="476280"/>
            <a:ext cx="6983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260280"/>
            <a:ext cx="71434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4869000"/>
            <a:ext cx="701028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ятиглавый Архангельский собор – усыпальница московских великих князей (1505 1508 гг. – архитектор Алевиз Новый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7182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5373720"/>
            <a:ext cx="70102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В центре Соборной площади 81 – метровая колокольня Ивана Великого, достроенная при Борисе Годунов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705636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676160" y="476280"/>
            <a:ext cx="70102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еличественный ансамбль Московского Кремля стал символом могущества и достоинства столицы России. В окрестностях Москвы возводились одноглавые храмы в традициях Владимиро – суздальского зодчества: Успенский(1400 г.) и Рождественский соборы(1405 – 1429 гг.) Саввино Сторожевского монастыря в Звенигороде; Троицкий собор(1422 г.) Троице – Сергиева монастыря;Спасский собор(1427 г.) Андронникова монастыря в Моск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676160" y="1125000"/>
            <a:ext cx="701028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. Размах каменного строительства в 15 в. свидетельствовал об экономическом подъеме и культурном возрождении, обусловленном объединением русских земель и их освобождением от золотоордынского и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47280" y="457200"/>
            <a:ext cx="7139160" cy="53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Архитектура Руси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 после монгольского нашествия переживала период упадка – деревянные строения сожжены, каменные – разрушены, опытные мастера убиты или уведены в плен. Традиции каменного строительства были утрачены. Однако постепенное восстановление хозяйства привело к их возрождению.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676160" y="476280"/>
            <a:ext cx="34290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ое после монгольского нашествия сооружение из камня – храм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пасо – Преображения в Твери (конец 12 в.)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Однако разгром Твери при подавлении восстания 1327 г. экономически ослабил ее, и пальма первенства в каменном строительстве перешла к менее пострадавшим земл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57440" y="476280"/>
            <a:ext cx="34290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859280" y="476280"/>
            <a:ext cx="3960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ложились три архитектурные школ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ля новгородской характерно одноглавие церквей и пышный декор. В начале 14 в. в Новгороде заложили каменный Кремль, который впоследствии неоднократно перестраива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4581000"/>
            <a:ext cx="701028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1433 г. новгородские и немецкие мастера построили Грановитую палату для торжественных приемов и заседаний Совета господ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8508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4437000"/>
            <a:ext cx="70102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 второй половине 14 в. на средства новгородских бояр и купцов возводились небольшие одноглавые церкви – Федора Стратилата и Спаса на Ильине улице. Обилие декоративных украшений придавали им праздничность и наряд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7129440" cy="39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676160" y="404640"/>
            <a:ext cx="34290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сковская архитектура композиционно (одноглавие церквей) была близка к новгородской, но отличалась более скромным декором.Каменный Кремль в Пскове возник в 15 в. Культовые сооружения (одно из ранних – церковь Василия на Горке 1410 г.) выполнены в суровом, лаконичном стиле и почти лишены внешних украшений. Архитектурный облик Пскова, стоявшего на западных рубежах русской земли, долго сохранял вид креп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257800" y="333000"/>
            <a:ext cx="34178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76720" y="404640"/>
            <a:ext cx="37861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98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ля московской, сложившейся в 14 – 15 вв., были характерны многоглавие церквей, нарядный декор и использование белого камня в качестве строительного материала. При Дмитрии Донском в 1367 г. дубовые стены Московского Кремля, построенные Иваном Калитой, заменили белокаменными. Однако они были сильно повреждены в 1382 г. во время нападения Тохтамыша. В конце 15 – 16 в. завершилось создание грандиозного ансамбля Московского Кремля. Его стены из красного кирпича включали 18 башен. Возведенный по всем правилам тогдашней фортификационной науки, Кремль стал одной из крупнейших в мире крепос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ffffff"/>
                </a:solidFill>
                <a:latin typeface="Arial"/>
              </a:rPr>
              <a:t>В Кремле сохранились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160" y="5229000"/>
            <a:ext cx="701028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ятиглавый Успенский собор(1475 – 1479 – архитектор Аристотель Фиорованти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6840360" cy="367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17:47:10Z</dcterms:created>
  <dc:creator>GOE</dc:creator>
  <dc:description/>
  <dc:language>en-US</dc:language>
  <cp:lastModifiedBy>GOE</cp:lastModifiedBy>
  <dcterms:modified xsi:type="dcterms:W3CDTF">2015-01-13T18:22:16Z</dcterms:modified>
  <cp:revision>2</cp:revision>
  <dc:subject/>
  <dc:title>Архитектура </dc:title>
</cp:coreProperties>
</file>