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1E1-FCA8-4E76-8844-DED4C00E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B24-3E35-4C99-A7CC-3E0528F2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2B0-2EEA-47BF-AF47-0D1F50FC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4D6-15E1-4BF9-B057-96E81E3A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874-0EFE-4358-A16B-6AE9E6BF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CEC-A9FF-4582-A6D6-82182EF9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392-AFD7-4452-9BCC-95129920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AB8-4A03-409F-A062-2FE6F2F3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746-DB98-4E5D-A4EE-68175A8B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D97-5636-4853-977E-A35B2D76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8CA-DA53-4932-B529-70E42A8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15B-53BA-4D3E-B053-9925B2C3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BB5A-7969-4BCC-A4A2-EDD261671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68360" y="1052640"/>
            <a:ext cx="6696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Monotype Corsiva"/>
              </a:rPr>
              <a:t>Биолог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Monotype Corsiva"/>
              </a:rPr>
              <a:t>Хим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Monotype Corsiva"/>
              </a:rPr>
              <a:t>Эколог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411280" y="26028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Названия каких городов нашей страны созвучны названиям животны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484360" y="5607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Орёл, Вороне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?id=41811624-07"/>
          <p:cNvPicPr/>
          <p:nvPr/>
        </p:nvPicPr>
        <p:blipFill>
          <a:blip r:embed="rId1"/>
          <a:stretch/>
        </p:blipFill>
        <p:spPr>
          <a:xfrm>
            <a:off x="3857760" y="2890800"/>
            <a:ext cx="30906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2124000" y="1076400"/>
            <a:ext cx="47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Какая кислота всегда находится в желудке здорового человека, а при недостатке – её употребляют как лекарств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411280" y="5661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НСI - соляная кисл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?id=212865065-02"/>
          <p:cNvPicPr/>
          <p:nvPr/>
        </p:nvPicPr>
        <p:blipFill>
          <a:blip r:embed="rId1"/>
          <a:stretch/>
        </p:blipFill>
        <p:spPr>
          <a:xfrm>
            <a:off x="6897600" y="2133720"/>
            <a:ext cx="1925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411280" y="692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ем опасны нитраты для организма человек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411280" y="4365720"/>
            <a:ext cx="64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Нитраты превращаются в нитриты, а те переводят Fе</a:t>
            </a:r>
            <a:r>
              <a:rPr b="1" lang="ru-RU" sz="3200" spc="-1" strike="noStrike" baseline="30000">
                <a:solidFill>
                  <a:srgbClr val="4d4d4d"/>
                </a:solidFill>
                <a:latin typeface="Arial"/>
              </a:rPr>
              <a:t>2+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 в Fе</a:t>
            </a:r>
            <a:r>
              <a:rPr b="1" lang="ru-RU" sz="3200" spc="-1" strike="noStrike" baseline="30000">
                <a:solidFill>
                  <a:srgbClr val="4d4d4d"/>
                </a:solidFill>
                <a:latin typeface="Arial"/>
              </a:rPr>
              <a:t>3+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 в гемоглобине, что мешает переносу кисло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i?id=182226514-07"/>
          <p:cNvPicPr/>
          <p:nvPr/>
        </p:nvPicPr>
        <p:blipFill>
          <a:blip r:embed="rId1"/>
          <a:stretch/>
        </p:blipFill>
        <p:spPr>
          <a:xfrm>
            <a:off x="4356000" y="2060640"/>
            <a:ext cx="2108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484360" y="62064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оединением какого химического элемента был отравлен Наполе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11280" y="5589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Мышья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i?id=98825560-04"/>
          <p:cNvPicPr/>
          <p:nvPr/>
        </p:nvPicPr>
        <p:blipFill>
          <a:blip r:embed="rId1"/>
          <a:stretch/>
        </p:blipFill>
        <p:spPr>
          <a:xfrm>
            <a:off x="4572000" y="2708280"/>
            <a:ext cx="20685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484360" y="122400"/>
            <a:ext cx="64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писаны случаи, когда баобабы, растущие в зоне тропиков, в середине лета, в самую жару, сбрасывали листья. Почему? Дайте объяс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411280" y="4514760"/>
            <a:ext cx="65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В жару сильно повышается испарение влаги листьями. Чтобы избежать обезвоживания, баобаб сбрасывает листья – испарение воды резко пониж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i?id=55733800-06"/>
          <p:cNvPicPr/>
          <p:nvPr/>
        </p:nvPicPr>
        <p:blipFill>
          <a:blip r:embed="rId1"/>
          <a:stretch/>
        </p:blipFill>
        <p:spPr>
          <a:xfrm>
            <a:off x="4211640" y="2421000"/>
            <a:ext cx="2736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484360" y="69228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ереведите на греческий язык        «сам питаюс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268360" y="575136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Автотро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?id=62350883-00"/>
          <p:cNvPicPr/>
          <p:nvPr/>
        </p:nvPicPr>
        <p:blipFill>
          <a:blip r:embed="rId1"/>
          <a:stretch/>
        </p:blipFill>
        <p:spPr>
          <a:xfrm>
            <a:off x="4048200" y="2967120"/>
            <a:ext cx="282888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340000" y="83664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Какая певчая птица может нырять на дно водоема и бегать по дн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871640" y="5805360"/>
            <a:ext cx="67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Оля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i?id=27862340-02"/>
          <p:cNvPicPr/>
          <p:nvPr/>
        </p:nvPicPr>
        <p:blipFill>
          <a:blip r:embed="rId1"/>
          <a:stretch/>
        </p:blipFill>
        <p:spPr>
          <a:xfrm>
            <a:off x="3871800" y="2905200"/>
            <a:ext cx="3221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340000" y="54936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аменив первую букву в  названии элемента первой группы, получите название избыточно увлажнённого участка земли, заросшего раст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411280" y="558972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Золото - боло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i?id=10582969-02"/>
          <p:cNvPicPr/>
          <p:nvPr/>
        </p:nvPicPr>
        <p:blipFill>
          <a:blip r:embed="rId1"/>
          <a:stretch/>
        </p:blipFill>
        <p:spPr>
          <a:xfrm>
            <a:off x="4067280" y="2852640"/>
            <a:ext cx="31622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340000" y="4762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ереведите на греческий язык «совместная жиз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340000" y="5823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Симби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i?id=118288487-04"/>
          <p:cNvPicPr/>
          <p:nvPr/>
        </p:nvPicPr>
        <p:blipFill>
          <a:blip r:embed="rId1"/>
          <a:stretch/>
        </p:blipFill>
        <p:spPr>
          <a:xfrm>
            <a:off x="4067280" y="2852640"/>
            <a:ext cx="28749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411280" y="404640"/>
            <a:ext cx="6264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 каком соединении серы упоминал А.С.Пушкин в своем стихотвор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«Тогда услышал я (о, ди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апах сквер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к будто тухлое разбило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яйцо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627280" y="5516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Серовод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2411280" y="547920"/>
            <a:ext cx="64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акая собачка получится из 16 кг и хвойного дерева? 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0"/>
          <p:cNvGrpSpPr/>
          <p:nvPr/>
        </p:nvGrpSpPr>
        <p:grpSpPr>
          <a:xfrm>
            <a:off x="3203640" y="3141720"/>
            <a:ext cx="4968360" cy="1333440"/>
            <a:chOff x="3203640" y="3141720"/>
            <a:chExt cx="4968360" cy="1333440"/>
          </a:xfrm>
        </p:grpSpPr>
        <p:sp>
          <p:nvSpPr>
            <p:cNvPr id="44" name="Text Box 5"/>
            <p:cNvSpPr/>
            <p:nvPr/>
          </p:nvSpPr>
          <p:spPr>
            <a:xfrm>
              <a:off x="3203640" y="3429000"/>
              <a:ext cx="158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6600"/>
                  </a:solidFill>
                  <a:latin typeface="Arial"/>
                </a:rPr>
                <a:t>16 к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4716360" y="3459240"/>
              <a:ext cx="502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7" descr="i?id=70006457-05"/>
            <p:cNvPicPr/>
            <p:nvPr/>
          </p:nvPicPr>
          <p:blipFill>
            <a:blip r:embed="rId1"/>
            <a:stretch/>
          </p:blipFill>
          <p:spPr>
            <a:xfrm>
              <a:off x="5371920" y="3141720"/>
              <a:ext cx="9997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8"/>
            <p:cNvSpPr/>
            <p:nvPr/>
          </p:nvSpPr>
          <p:spPr>
            <a:xfrm>
              <a:off x="6588000" y="3502080"/>
              <a:ext cx="57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9"/>
            <p:cNvSpPr/>
            <p:nvPr/>
          </p:nvSpPr>
          <p:spPr>
            <a:xfrm>
              <a:off x="7164000" y="3429000"/>
              <a:ext cx="100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66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1"/>
          <p:cNvSpPr/>
          <p:nvPr/>
        </p:nvSpPr>
        <p:spPr>
          <a:xfrm>
            <a:off x="2340000" y="526860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d4d4d"/>
                </a:solidFill>
                <a:latin typeface="Arial"/>
              </a:rPr>
              <a:t>Пудел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411280" y="404640"/>
            <a:ext cx="655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зменив лишь одну букву в названии элемента семейства галогенов, получите  фамилию известного немецкого зоолога и путешественника, автора многотомного труда «Жизнь животных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40000" y="5619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Arial"/>
              </a:rPr>
              <a:t>Бром – Бр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i?id=218693969-00"/>
          <p:cNvPicPr/>
          <p:nvPr/>
        </p:nvPicPr>
        <p:blipFill>
          <a:blip r:embed="rId1"/>
          <a:stretch/>
        </p:blipFill>
        <p:spPr>
          <a:xfrm>
            <a:off x="5508720" y="3500280"/>
            <a:ext cx="2448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411280" y="476280"/>
            <a:ext cx="65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Употребляя молоко, человек примерно на 80% удовлетворяет потребность в этом элемен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050920" y="472428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Arial"/>
              </a:rPr>
              <a:t>Каль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i?id=123535464-00"/>
          <p:cNvPicPr/>
          <p:nvPr/>
        </p:nvPicPr>
        <p:blipFill>
          <a:blip r:embed="rId1"/>
          <a:stretch/>
        </p:blipFill>
        <p:spPr>
          <a:xfrm>
            <a:off x="6084720" y="3933720"/>
            <a:ext cx="21942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411280" y="47628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акие животные спят с открытыми глазам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627280" y="537372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Змеи, ры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i?id=80406511-06"/>
          <p:cNvPicPr/>
          <p:nvPr/>
        </p:nvPicPr>
        <p:blipFill>
          <a:blip r:embed="rId1"/>
          <a:stretch/>
        </p:blipFill>
        <p:spPr>
          <a:xfrm>
            <a:off x="3635280" y="2451240"/>
            <a:ext cx="36734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411280" y="765000"/>
            <a:ext cx="64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аким индикатором нельзя распознать кислот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411280" y="5516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Фенолфталеи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i?id=53960627-03"/>
          <p:cNvPicPr/>
          <p:nvPr/>
        </p:nvPicPr>
        <p:blipFill>
          <a:blip r:embed="rId1"/>
          <a:stretch/>
        </p:blipFill>
        <p:spPr>
          <a:xfrm>
            <a:off x="3857760" y="2890800"/>
            <a:ext cx="38098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4643280" y="2349360"/>
            <a:ext cx="42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Хобот – это нос или губ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84360" y="5084640"/>
            <a:ext cx="59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Arial"/>
              </a:rPr>
              <a:t>Гу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i?id=54352410-03"/>
          <p:cNvPicPr/>
          <p:nvPr/>
        </p:nvPicPr>
        <p:blipFill>
          <a:blip r:embed="rId1"/>
          <a:stretch/>
        </p:blipFill>
        <p:spPr>
          <a:xfrm>
            <a:off x="2556000" y="1268280"/>
            <a:ext cx="2124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340000" y="33336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Алхимик Брандт в 1669 году получил светящееся в темноте вещество. Назовите это веще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84360" y="57340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Белый фос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i?id=186708075-06"/>
          <p:cNvPicPr/>
          <p:nvPr/>
        </p:nvPicPr>
        <p:blipFill>
          <a:blip r:embed="rId1"/>
          <a:stretch/>
        </p:blipFill>
        <p:spPr>
          <a:xfrm>
            <a:off x="4067280" y="3141720"/>
            <a:ext cx="24667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411280" y="333360"/>
            <a:ext cx="64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очему весной запрещен промысел пушных звер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556000" y="522936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Наступает брачный пери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i?id=222724626-03"/>
          <p:cNvPicPr/>
          <p:nvPr/>
        </p:nvPicPr>
        <p:blipFill>
          <a:blip r:embed="rId1"/>
          <a:stretch/>
        </p:blipFill>
        <p:spPr>
          <a:xfrm>
            <a:off x="6300720" y="2997360"/>
            <a:ext cx="2370240" cy="157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i?id=11532758-02"/>
          <p:cNvPicPr/>
          <p:nvPr/>
        </p:nvPicPr>
        <p:blipFill>
          <a:blip r:embed="rId2"/>
          <a:stretch/>
        </p:blipFill>
        <p:spPr>
          <a:xfrm>
            <a:off x="2771640" y="2994120"/>
            <a:ext cx="21114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340000" y="54936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акой оксид называют угарным газ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411280" y="53737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Монооксид углерода 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i?id=20067962-02"/>
          <p:cNvPicPr/>
          <p:nvPr/>
        </p:nvPicPr>
        <p:blipFill>
          <a:blip r:embed="rId1"/>
          <a:stretch/>
        </p:blipFill>
        <p:spPr>
          <a:xfrm>
            <a:off x="4140360" y="2421000"/>
            <a:ext cx="23954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195640" y="1341360"/>
            <a:ext cx="424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Массовый сброс листьев у деревье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484360" y="5445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Arial"/>
              </a:rPr>
              <a:t>Листо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i?id=97404905-06"/>
          <p:cNvPicPr/>
          <p:nvPr/>
        </p:nvPicPr>
        <p:blipFill>
          <a:blip r:embed="rId1"/>
          <a:stretch/>
        </p:blipFill>
        <p:spPr>
          <a:xfrm>
            <a:off x="6227640" y="1884240"/>
            <a:ext cx="25146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пурина Антонина, учитель высшей категор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кровской средней шко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411280" y="187920"/>
            <a:ext cx="64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итамин Д или кальциферол участвует в обмене кальция и фосфора в организме. Укажите другое название данного витамина и почему его так называю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gvk"/>
          <p:cNvPicPr/>
          <p:nvPr/>
        </p:nvPicPr>
        <p:blipFill>
          <a:blip r:embed="rId1"/>
          <a:stretch/>
        </p:blipFill>
        <p:spPr>
          <a:xfrm>
            <a:off x="2268360" y="3357720"/>
            <a:ext cx="6696360" cy="184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2340000" y="54064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Антирахитический витам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556000" y="475920"/>
            <a:ext cx="374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акой химический элемент состоит из названий двух животных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i?id=66793397-06"/>
          <p:cNvPicPr/>
          <p:nvPr/>
        </p:nvPicPr>
        <p:blipFill>
          <a:blip r:embed="rId1"/>
          <a:stretch/>
        </p:blipFill>
        <p:spPr>
          <a:xfrm>
            <a:off x="6130800" y="1341360"/>
            <a:ext cx="2556000" cy="3095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2340000" y="526860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d4d4d"/>
                </a:solidFill>
                <a:latin typeface="Arial"/>
              </a:rPr>
              <a:t>Мышьяк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411280" y="331560"/>
            <a:ext cx="65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де на Земле грибы бывают выше окружающих деревьев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?id=117992357-00"/>
          <p:cNvPicPr/>
          <p:nvPr/>
        </p:nvPicPr>
        <p:blipFill>
          <a:blip r:embed="rId1"/>
          <a:stretch/>
        </p:blipFill>
        <p:spPr>
          <a:xfrm>
            <a:off x="2700360" y="32130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i?id=198431577-00"/>
          <p:cNvPicPr/>
          <p:nvPr/>
        </p:nvPicPr>
        <p:blipFill>
          <a:blip r:embed="rId2"/>
          <a:stretch/>
        </p:blipFill>
        <p:spPr>
          <a:xfrm>
            <a:off x="6372360" y="321300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2340000" y="555732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d4d4d"/>
                </a:solidFill>
                <a:latin typeface="Arial"/>
              </a:rPr>
              <a:t>Тундра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484360" y="692280"/>
            <a:ext cx="619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ереведите на греческий язык «учение о жилищ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?id=27552974-03"/>
          <p:cNvPicPr/>
          <p:nvPr/>
        </p:nvPicPr>
        <p:blipFill>
          <a:blip r:embed="rId1"/>
          <a:stretch/>
        </p:blipFill>
        <p:spPr>
          <a:xfrm>
            <a:off x="2484360" y="3357720"/>
            <a:ext cx="3240000" cy="2417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5796000" y="450864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d4d4d"/>
                </a:solidFill>
                <a:latin typeface="Arial"/>
              </a:rPr>
              <a:t>Эколог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411280" y="297360"/>
            <a:ext cx="65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Заменив одну букву в названии химического элемента семейства актиноидов на другую, получите название летучей мыши с большими уш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i?id=59039670-00"/>
          <p:cNvPicPr/>
          <p:nvPr/>
        </p:nvPicPr>
        <p:blipFill>
          <a:blip r:embed="rId1"/>
          <a:stretch/>
        </p:blipFill>
        <p:spPr>
          <a:xfrm>
            <a:off x="4284720" y="3645000"/>
            <a:ext cx="2735280" cy="1666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2340000" y="555732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d4d4d"/>
                </a:solidFill>
                <a:latin typeface="Arial"/>
              </a:rPr>
              <a:t>Уран - ушан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411280" y="1515960"/>
            <a:ext cx="655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411280" y="265680"/>
            <a:ext cx="65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Этот грызун живёт в Венесуэле и Колумбии. На местном наречии его название означает “господин травы”. Питаясь травой на болотах, этот “господин” набирает 50 – 60 кг веса и 1,5 м длины. Самый крупный грызу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411280" y="5750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Капибара - водосвинка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i?id=116000180-07"/>
          <p:cNvPicPr/>
          <p:nvPr/>
        </p:nvPicPr>
        <p:blipFill>
          <a:blip r:embed="rId1"/>
          <a:stretch/>
        </p:blipFill>
        <p:spPr>
          <a:xfrm>
            <a:off x="3851280" y="3573360"/>
            <a:ext cx="324180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268360" y="404640"/>
            <a:ext cx="66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то тяжелее: самая большая акула или слон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11280" y="511812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Китовая акула весит 30 тонн, слон 6 тон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i?id=118563210-02"/>
          <p:cNvPicPr/>
          <p:nvPr/>
        </p:nvPicPr>
        <p:blipFill>
          <a:blip r:embed="rId1"/>
          <a:stretch/>
        </p:blipFill>
        <p:spPr>
          <a:xfrm>
            <a:off x="6156360" y="2708280"/>
            <a:ext cx="2217600" cy="1879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i?id=175865711-03"/>
          <p:cNvPicPr/>
          <p:nvPr/>
        </p:nvPicPr>
        <p:blipFill>
          <a:blip r:embed="rId2"/>
          <a:stretch/>
        </p:blipFill>
        <p:spPr>
          <a:xfrm>
            <a:off x="2700360" y="2708280"/>
            <a:ext cx="208764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21:50Z</dcterms:created>
  <dc:creator>Alhimik</dc:creator>
  <dc:description/>
  <dc:language>en-US</dc:language>
  <cp:lastModifiedBy>777</cp:lastModifiedBy>
  <dcterms:modified xsi:type="dcterms:W3CDTF">2014-08-04T02:08:44Z</dcterms:modified>
  <cp:revision>7</cp:revision>
  <dc:subject/>
  <dc:title>Слайд 1</dc:title>
</cp:coreProperties>
</file>