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E77-0BA9-46DC-9F8E-5F6EEADE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D2A-8581-4206-A559-AD0BFAB5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1BC-ABDD-41A9-819C-3D2EB3E4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FB1-6B2B-46D7-9094-CD8BE84F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65A7-D080-4A2B-A9BF-58BB4865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0B76-9F75-42C8-9203-3D547F8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A31-B10D-4992-8664-4C227E3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75DD-2564-4114-B1E3-16197CD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F78D-3317-45F0-A59C-8751F8D7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2137-CC82-48E6-A1D5-55F8DE3F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0D5B-8CCF-4352-BF57-56ECDBD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19C-7939-4E69-B17D-B1580732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29A-CBA3-4249-881F-C9A3DF0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017C-E4C1-4764-BC7E-F7E8360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B526-58E8-4597-B319-C3B6DF9A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720-34B7-4FA0-895C-D63CAA95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CDB8-33A7-4B34-B6D1-0C4BBFA9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7F9A-EBC2-47DF-BB1A-9322CC1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660B-DA3C-4676-8D8B-E63ABBCA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E92A-07B0-472C-8651-83EB808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D8FC-43B2-4D2B-B17B-328739E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98F3-B5A0-4F97-B07F-4065747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F8B-F0B8-43D6-9F22-D59F909B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3DA2-C269-40D1-B44F-4B7F8C5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4AC1-2229-4135-9607-F485531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230B-E361-4478-8C47-0167F64F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57E4-C4F7-46D4-B618-D826CD4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B82C-789B-45A1-A8C8-84FF3A9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FF20-FC2B-48C4-9112-77C6B22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997B-0712-4DEC-9C70-D51F212F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DE5F-01D6-4F9C-8E2D-7E771B16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B154-F3A5-4052-BEAB-FF3F04E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7B9E-52A0-4BC0-BD6E-081FCE7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612-715D-442A-A93F-CBD7CC41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0F4C-FA98-41CB-B948-B62BBC7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17DB-6BB6-440A-B834-2DD7532D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761E-912E-4EB6-B5F6-6A73057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7E4D-05D2-4DFB-A5BF-8DBD42F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EEA3-2B52-47B1-B688-E7E426E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4934-7F75-403A-A0D6-1CE1184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5DA2-3127-4415-AE23-0D3E082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D449-727D-4267-832D-48F455FD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1F14-A717-4B54-84A6-1544A32C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069F-6B6E-4BC6-8A64-54CF005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2F4-207B-4F4D-AC06-84150CAC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ED05-0D2A-495E-AD84-CB34406F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BADD-D19D-426B-8126-9875049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DAA4-19B2-4A16-ACFF-583B1A9E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6C98-1E53-4CD5-AF85-C562F24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DB5C-D9D1-48B0-B401-0AD7E38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1D61-D8CB-42A3-95B5-2DAD01C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F7FCC-87F5-421D-867B-94A464C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3ED9-A0C1-4D5B-8A94-7E46801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61AE-4301-4D8F-ACE9-6388B58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8045-4984-4E48-AC55-6B2A1379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873-5A2A-4495-8D2E-02D6ED6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C2F2-D2CB-4675-83CC-C18C1474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176E-83E5-44B3-AC3C-6C4E75D0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021FA-0A5E-4892-9861-FF4EFEB9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1B01-3487-40BC-9677-A4DAFAD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8158-62A1-40B3-A09D-3A8C45F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05F5-9C0C-4160-8067-9491B23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50CF9-D8DB-4CAC-8435-D0B06737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7D97-F080-408B-8404-B96D4F97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1047-6C60-499B-8FE1-5124081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BA90-9DCA-49B3-BEDE-67F32A0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81C-3096-4E0E-B968-CCB4C37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2320-21DF-4778-98D8-AD5AFCCC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5F6B-7B66-4EEE-A0F5-F5F21D14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ABF60-0423-43AC-BA34-3FD3A8DD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F987-2535-4F44-A422-79118928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726F-BAC8-437C-B50B-CE364EEF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B403-A069-492D-8EEE-386A980D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07A7-5493-4238-A20F-CD4FF79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6062-B896-4BA0-BE20-7DBE472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C3DB-8D34-408D-8C5E-5DFF346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77050-9EE0-472D-9A4B-DBF6DAA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17E-138D-4958-952D-D189CDE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FC36-0260-42FC-8428-9850FB2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19F8-ECCD-4F84-A7BE-886003A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4834-46F0-4A9F-A07B-25AED255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9E25-1356-4B41-AFB8-E1D79AEF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FA54-7F85-4FF0-A04A-9D764B53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BAD-461E-42FF-A6EF-A198FC3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D88-C910-4B0E-BD5A-B45CBF1B46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94C-E792-4A3A-871D-0685DCACCB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0F8-32DC-47D3-9E4F-3708719DCF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215A-315C-43B0-B771-C555D8409E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659-2DF6-4B8E-9994-891849BB33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5D4-97D0-4BD3-A321-200E4866AD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C61-C53F-4A59-B9A6-C46D59EC01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99760" y="1000080"/>
            <a:ext cx="46436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Times New Roman"/>
              </a:rPr>
              <a:t>Движение крови в организме. Органы кровообращения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720" y="3499920"/>
            <a:ext cx="5214960" cy="1428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Подготовила учитель биологии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МБОУ «Красноузельская СОШ» 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Косякова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606600"/>
            <a:ext cx="22860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Задание №5. Круги кровообраще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600" y="1447560"/>
            <a:ext cx="3351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В каком отделе сердца  начинается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В каком отделе сердца  заканчивается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Какая кровь течет по артериям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Какая кровь течет по венам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Какова цель кровообращения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2" name="Object 2"/>
          <p:cNvGraphicFramePr/>
          <p:nvPr/>
        </p:nvGraphicFramePr>
        <p:xfrm>
          <a:off x="5214960" y="1022400"/>
          <a:ext cx="371484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022400"/>
                    <a:ext cx="371484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Схема кругов кровообращ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Рисунок 7" descr="clip_image005.jpg"/>
          <p:cNvPicPr/>
          <p:nvPr/>
        </p:nvPicPr>
        <p:blipFill>
          <a:blip r:embed="rId1"/>
          <a:stretch/>
        </p:blipFill>
        <p:spPr>
          <a:xfrm>
            <a:off x="1214280" y="2071800"/>
            <a:ext cx="3571920" cy="36432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clip_image006.jpg"/>
          <p:cNvPicPr/>
          <p:nvPr/>
        </p:nvPicPr>
        <p:blipFill>
          <a:blip r:embed="rId2"/>
          <a:stretch/>
        </p:blipFill>
        <p:spPr>
          <a:xfrm>
            <a:off x="5143680" y="2071800"/>
            <a:ext cx="3786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Лабораторная работа                      «Функция клапанов вен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Правую руку поднимите наверх, а левую опустите свободно вниз. Через 1 мин сравнит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Почему поднятая рука бледнеет, а опущенная краснеет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 какой руке вены набухши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- В какой руке клапаны были закрыты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Выводы к опыту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Опущенная рука покраснела, потому что клапаны вен опущенной руки закрыты, а так как в опущенной руке произошёл прилив крови по артериям, она сконцентрировалась в сосудах. Клапаны раскрываются лишь после того, как в нижележащих сегментах накопится достаточное количество крови, чтобы открыть венозный клапан и пропустить кровь вверх, в следующий сегмент. Вены, по которым кровь движется против силы тяжести,  набухшие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rbel"/>
              </a:rPr>
              <a:t>Поднятая рука побледнела, так как клапаны открыты и кровь не застаивается, а свободно оттекает. </a:t>
            </a:r>
            <a:r>
              <a:rPr b="1" i="1" lang="ru-RU" sz="2700" spc="-1" strike="noStrike">
                <a:solidFill>
                  <a:srgbClr val="c00000"/>
                </a:solidFill>
                <a:latin typeface="Corbel"/>
              </a:rPr>
              <a:t>(подтверждение гипотезы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Закреплени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Кровеносная система человека состоит из  органов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Движение крови называется 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Различают … и … (легочный) круг кровообращ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В организме человека имеются сосуды 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Большой круг кровообращения начинается от …и заканчивается в ..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6.Малый круг кровообращения начинается от … и заканчивается в 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.В большом кругу кровообращения по артериям течет …, а в малом - …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.В малом кругу кровообращения по венам течет …, а в большом - 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9.В капиллярах происходит 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Читать с.126-129, устный ответ на вопросы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Лабораторная работа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Определение влияния тугой повязки на движение кров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уго завяжите палец ниткой и обратите внимание на изменение цвета кож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чему сначала палец краснеет, потом бледнеет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чему уменьшается чувствительность пальца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чему нельзя носить тесную обувь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чему в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XIX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веке вышли из моды женские корсеты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Эпиграф к урок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«</a:t>
            </a:r>
            <a:r>
              <a:rPr b="1" i="1" lang="be-BY" sz="4000" spc="-1" strike="noStrike">
                <a:solidFill>
                  <a:srgbClr val="002060"/>
                </a:solidFill>
                <a:latin typeface="Corbel"/>
              </a:rPr>
              <a:t>Мне необходимо разобраться самому, а чтобы разобраться самому,</a:t>
            </a:r>
            <a:r>
              <a:rPr b="1" i="1" lang="en-US" sz="40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1" i="1" lang="be-BY" sz="4000" spc="-1" strike="noStrike">
                <a:solidFill>
                  <a:srgbClr val="002060"/>
                </a:solidFill>
                <a:latin typeface="Corbel"/>
              </a:rPr>
              <a:t>думать сообща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2060"/>
                </a:solidFill>
                <a:latin typeface="Corbel"/>
              </a:rPr>
              <a:t>Борис Василье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1214280" y="981000"/>
            <a:ext cx="760572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rbel"/>
              </a:rPr>
              <a:t>Органы кровообращ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7"/>
          <p:cNvCxnSpPr>
            <a:stCxn id="323" idx="2"/>
            <a:endCxn id="325" idx="0"/>
          </p:cNvCxnSpPr>
          <p:nvPr/>
        </p:nvCxnSpPr>
        <p:spPr>
          <a:xfrm flipH="1">
            <a:off x="2034720" y="2085480"/>
            <a:ext cx="298224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Line 19"/>
          <p:cNvSpPr/>
          <p:nvPr/>
        </p:nvSpPr>
        <p:spPr>
          <a:xfrm>
            <a:off x="4498920" y="2085840"/>
            <a:ext cx="2881440" cy="91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1071720" y="3071880"/>
            <a:ext cx="192852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3500280" y="3022560"/>
            <a:ext cx="5032440" cy="10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Кровеносные сосу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16"/>
          <p:cNvCxnSpPr>
            <a:stCxn id="327" idx="2"/>
            <a:endCxn id="329" idx="0"/>
          </p:cNvCxnSpPr>
          <p:nvPr/>
        </p:nvCxnSpPr>
        <p:spPr>
          <a:xfrm flipH="1">
            <a:off x="3706920" y="4071960"/>
            <a:ext cx="231012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AutoShape 17"/>
          <p:cNvCxnSpPr>
            <a:stCxn id="327" idx="2"/>
            <a:endCxn id="331" idx="0"/>
          </p:cNvCxnSpPr>
          <p:nvPr/>
        </p:nvCxnSpPr>
        <p:spPr>
          <a:xfrm flipH="1">
            <a:off x="5795280" y="4071960"/>
            <a:ext cx="2214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18"/>
          <p:cNvCxnSpPr>
            <a:stCxn id="327" idx="2"/>
            <a:endCxn id="333" idx="0"/>
          </p:cNvCxnSpPr>
          <p:nvPr/>
        </p:nvCxnSpPr>
        <p:spPr>
          <a:xfrm>
            <a:off x="6016680" y="4071960"/>
            <a:ext cx="186768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Rectangle 23"/>
          <p:cNvSpPr/>
          <p:nvPr/>
        </p:nvSpPr>
        <p:spPr>
          <a:xfrm>
            <a:off x="2770200" y="4670280"/>
            <a:ext cx="187164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Ар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4859280" y="4670280"/>
            <a:ext cx="187164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В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6946920" y="4670280"/>
            <a:ext cx="187164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апилля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Ответы к заданию №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Аорта – самая крупная артер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Артерии – сосуды, несущие кровь от сердц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Вены – сосуды, несущие кровь к сердцу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Капилляры – мельчайшие кровеносные сосуд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Артериальная кровь – кровь, насыщенная кислород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Венозная кровь –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 кровь</a:t>
            </a:r>
            <a:r>
              <a:rPr b="1" lang="be-BY" sz="3000" spc="-1" strike="noStrike">
                <a:solidFill>
                  <a:srgbClr val="002060"/>
                </a:solidFill>
                <a:latin typeface="Corbel"/>
              </a:rPr>
              <a:t>, насыщенная углекислым газо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14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Задание №3.                                  Сравнение структуры сосуд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34960" y="1447920"/>
          <a:ext cx="7499520" cy="425268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822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лля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590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слой стенки толстый, состоит из эластических тканей и мышечных воло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слой от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слой тонкий, содержит мало мышечных воло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31292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лап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лунные клапаны от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лунные клапаны от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лунные клапаны имеются по всей д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3"/>
          <p:cNvSpPr/>
          <p:nvPr/>
        </p:nvSpPr>
        <p:spPr>
          <a:xfrm>
            <a:off x="1428840" y="692280"/>
            <a:ext cx="75358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rbel"/>
              </a:rPr>
              <a:t>Кровеносные сосу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6"/>
          <p:cNvGrpSpPr/>
          <p:nvPr/>
        </p:nvGrpSpPr>
        <p:grpSpPr>
          <a:xfrm>
            <a:off x="1000080" y="2708280"/>
            <a:ext cx="2357640" cy="2941560"/>
            <a:chOff x="1000080" y="2708280"/>
            <a:chExt cx="2357640" cy="2941560"/>
          </a:xfrm>
        </p:grpSpPr>
        <p:sp>
          <p:nvSpPr>
            <p:cNvPr id="340" name="AutoShape 14"/>
            <p:cNvSpPr/>
            <p:nvPr/>
          </p:nvSpPr>
          <p:spPr>
            <a:xfrm>
              <a:off x="1000080" y="2708280"/>
              <a:ext cx="2357640" cy="1514520"/>
            </a:xfrm>
            <a:prstGeom prst="downArrowCallout">
              <a:avLst>
                <a:gd name="adj1" fmla="val 38921"/>
                <a:gd name="adj2" fmla="val 38917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Арте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1000080" y="4424400"/>
              <a:ext cx="22345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rbel"/>
                </a:rPr>
                <a:t>Сосуды, по которым кровь движется от серд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7"/>
          <p:cNvGrpSpPr/>
          <p:nvPr/>
        </p:nvGrpSpPr>
        <p:grpSpPr>
          <a:xfrm>
            <a:off x="3714840" y="2687760"/>
            <a:ext cx="2081160" cy="2972880"/>
            <a:chOff x="3714840" y="2687760"/>
            <a:chExt cx="2081160" cy="2972880"/>
          </a:xfrm>
        </p:grpSpPr>
        <p:sp>
          <p:nvSpPr>
            <p:cNvPr id="343" name="AutoShape 15"/>
            <p:cNvSpPr/>
            <p:nvPr/>
          </p:nvSpPr>
          <p:spPr>
            <a:xfrm>
              <a:off x="3714840" y="2687760"/>
              <a:ext cx="2081160" cy="1514160"/>
            </a:xfrm>
            <a:prstGeom prst="downArrowCallout">
              <a:avLst>
                <a:gd name="adj1" fmla="val 34365"/>
                <a:gd name="adj2" fmla="val 34362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Вен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3780000" y="4435200"/>
              <a:ext cx="197244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rbel"/>
                </a:rPr>
                <a:t>Сосуды, по которым кровь движется к сердц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8"/>
          <p:cNvGrpSpPr/>
          <p:nvPr/>
        </p:nvGrpSpPr>
        <p:grpSpPr>
          <a:xfrm>
            <a:off x="6143760" y="2714760"/>
            <a:ext cx="2714040" cy="2955960"/>
            <a:chOff x="6143760" y="2714760"/>
            <a:chExt cx="2714040" cy="2955960"/>
          </a:xfrm>
        </p:grpSpPr>
        <p:sp>
          <p:nvSpPr>
            <p:cNvPr id="346" name="AutoShape 16"/>
            <p:cNvSpPr/>
            <p:nvPr/>
          </p:nvSpPr>
          <p:spPr>
            <a:xfrm>
              <a:off x="6143760" y="2714760"/>
              <a:ext cx="2714040" cy="1514520"/>
            </a:xfrm>
            <a:prstGeom prst="downArrowCallout">
              <a:avLst>
                <a:gd name="adj1" fmla="val 44804"/>
                <a:gd name="adj2" fmla="val 44800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Капилля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6152760" y="4444920"/>
              <a:ext cx="2572920" cy="122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rbel"/>
                </a:rPr>
                <a:t>Мелкие сосуды, где происходит обмен веществ  и газ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AutoShape 20"/>
          <p:cNvCxnSpPr>
            <a:stCxn id="338" idx="2"/>
            <a:endCxn id="340" idx="0"/>
          </p:cNvCxnSpPr>
          <p:nvPr/>
        </p:nvCxnSpPr>
        <p:spPr>
          <a:xfrm flipH="1">
            <a:off x="2177280" y="1700280"/>
            <a:ext cx="30186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AutoShape 21"/>
          <p:cNvCxnSpPr>
            <a:stCxn id="338" idx="2"/>
            <a:endCxn id="343" idx="0"/>
          </p:cNvCxnSpPr>
          <p:nvPr/>
        </p:nvCxnSpPr>
        <p:spPr>
          <a:xfrm flipH="1">
            <a:off x="4754160" y="1699920"/>
            <a:ext cx="442080" cy="98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AutoShape 22"/>
          <p:cNvCxnSpPr>
            <a:stCxn id="338" idx="2"/>
            <a:endCxn id="346" idx="0"/>
          </p:cNvCxnSpPr>
          <p:nvPr/>
        </p:nvCxnSpPr>
        <p:spPr>
          <a:xfrm>
            <a:off x="5194800" y="1700280"/>
            <a:ext cx="230544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Кровеносные сосу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Определите кровеносные сосу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Для чего необходимы клапаны венам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"/>
          <a:stretch/>
        </p:blipFill>
        <p:spPr>
          <a:xfrm>
            <a:off x="1176480" y="2714760"/>
            <a:ext cx="7538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02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Задание №4. Строение сердц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800" y="1071720"/>
            <a:ext cx="7929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итральный – двустворчатый клапан Трикуспидальный – трехстворчатый клапан Аортальный – полулунный  клап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Одинаковы ли стенки желудочков? Почему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C:\Documents and Settings\777\Мои документы\Мои рисунки\кровь и кровообращение\f_c3-91.jpg"/>
          <p:cNvPicPr/>
          <p:nvPr/>
        </p:nvPicPr>
        <p:blipFill>
          <a:blip r:embed="rId1"/>
          <a:stretch/>
        </p:blipFill>
        <p:spPr>
          <a:xfrm>
            <a:off x="2000160" y="2928960"/>
            <a:ext cx="5429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orbel"/>
              </a:rPr>
              <a:t>Историческая справ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14880" y="1447560"/>
            <a:ext cx="492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Гарвей  экспериментально доказал, что в теле человека кровь находится в постоянном движении по замкнутому пути в результате давления, создаваемого сокращениями сердца. Его учение о кровообращении изложено в  труде «Анатомическое исследование движения сердца и крови у животных). Книга Гарвея перевернула представления о человеческом организме и на многие десятилетия определила направления дальнейших исследований. Его в клад в развитие медицины был оценен современниками, которые еще при жизни ученого поставили ему памятник в Лондоне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10" descr="Уильям Гарвей"/>
          <p:cNvPicPr/>
          <p:nvPr/>
        </p:nvPicPr>
        <p:blipFill>
          <a:blip r:embed="rId1"/>
          <a:stretch/>
        </p:blipFill>
        <p:spPr>
          <a:xfrm>
            <a:off x="1143000" y="1571760"/>
            <a:ext cx="333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02:32:21Z</dcterms:created>
  <dc:creator>user</dc:creator>
  <dc:description/>
  <dc:language>en-US</dc:language>
  <cp:lastModifiedBy>user</cp:lastModifiedBy>
  <dcterms:modified xsi:type="dcterms:W3CDTF">2015-01-13T16:23:39Z</dcterms:modified>
  <cp:revision>10</cp:revision>
  <dc:subject/>
  <dc:title>Движение крови в организме. Органы кровообращения.</dc:title>
</cp:coreProperties>
</file>