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577-FA76-4800-9761-15087A3C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136-1282-4D11-AFC3-4B3A6B25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9E3-CE38-4AE5-9368-A78BDA60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505-B043-4908-8849-3A1B199C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1BD-BCF2-4EA8-A7BC-1C073FE1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3C8-1250-446B-B056-B147AD82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99A-6024-4A20-BA5A-FB1CAC4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AE1-4D9A-468A-B382-B2BDF1EA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E80-AB4E-4717-9E46-10C646C8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741-5FB0-445E-AE21-ABEDC129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A44-D96A-48DE-B036-A60DB8E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A5F-75D0-4C5F-A8E0-804EFDD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B462-2F5E-4E92-B42A-ACBB46C41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Зачем нужны школьные тесты. - Женсовет - Релакс!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981000"/>
            <a:ext cx="8497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а «Об образовании»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основные компоненты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000" y="558972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В, Мих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В. Салыг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Новости Коломны - В Коломне проходит акция &quot;Триколор&quot; - Новости и организации Коломны: Справка по Коломне и Коломенскому району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0"/>
            <a:ext cx="8820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Об образовании в Российской Федерации"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2421000"/>
            <a:ext cx="70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 29 декабря  2012  №  273-Ф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42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т    Государственной Думой     21 декабря 2012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4437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обрен   Советом Федерации    26 декабря 2012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5589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 Президентом РФ  29 декабря 201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12175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03280" y="404640"/>
            <a:ext cx="75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бразованием в настоящем Законе понимается целенаправленный процесс воспитания и обучения в интересах человека, общества, государства, сопровождающийся констатацией достижения гражданином (обучающимся) установленных государством образовательных уровней (образовательных ценз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8920" y="2708280"/>
            <a:ext cx="87850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олучением гражданином (обучающимся) образования понимается достижение и подтверждение им определенного образовательного ценза, которое удостоверяется соответствующим доку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образование является одним из основных и неотъемлемых конституционных прав граждан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в Российской Федерации осуществляется в соответствии с законодательством Российской Федерации и нормами международн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5640" y="260280"/>
            <a:ext cx="67690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оне Российской Федерации «Об образовании» содержаться основные принципы и положения, на основе которых будет строиться и стратегия и тактика реализации законодательно закрепленных идей развития образования 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7280" y="2565360"/>
            <a:ext cx="8856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: -  гуманистический характер образова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оритет общечеловеческих ценност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бодное развитие лич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доступность образова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платность общего образова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есторонняя защита потребителя образов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89000"/>
            <a:ext cx="8713800" cy="68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значение в управлении функционированием и развитием школы име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ные единства федерального, культурного и образовательного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остранст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и плюрализм в образова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 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ческий, государственно-общественный характер управления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бразова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ий характер образования в государственно-муниципальных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бразовательных учрежд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образования на родном язы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образования с национальными и региональными культурами 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радиц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 образовательных програ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 образования; разграничение компетенций субъектов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476280"/>
            <a:ext cx="77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Федерального закон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ей, представленных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ьях, которые объединены в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773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. Общие положения – содержит 9 статей (с 1 по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. Система образования – содержит 11 статей (с10 по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3. Лица, осуществляющие образовательную деятельность – содержи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2 статей (с  21  по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4. Обучающиеся и их родители (законные представители) – содержит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13 статей (с 33 по 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5. Педагогические, руководящие и иные работники организация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осуществляющие образовательную деятельность – содержит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7 статей (с 46 по 5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6. Основания возникновения, изменения и прекращения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образовательных отношений – содержит  10 статей (с 53 по 6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7. Общее образование – содержит  5 статей (с 63 по 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8. Профессиональное образование – содержит 5 статей (с 68 по 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9. Профессиональное обучение – содержит 2 статьи (с 73 по 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0. Дополнительное образование – содержит 2 статьи (с 75 по 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333360"/>
            <a:ext cx="84978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1. Особенности реализации некоторых видов образовательных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программ и получения образования отдельными категориям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обучающихся – содержит 12 статей (с 77  по  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2. Управление системой образования. Государственная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регламентация образовательной деятельности – содержи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0 статей (с 89 по 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3. Экономическая деятельность и финансовое обеспечение в сфер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образования – содержит 6 статей (с 99 по 1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4. Международное сотрудничество в сфере образования – содержи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3 статьи (с 105 по 1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5. Заключительные положения – содержит  4 статьи ( с 108 по 1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Зодиак: Федеральный закон &quot;Об образовании в Российской Федер…"/>
          <p:cNvPicPr/>
          <p:nvPr/>
        </p:nvPicPr>
        <p:blipFill>
          <a:blip r:embed="rId1"/>
          <a:stretch/>
        </p:blipFill>
        <p:spPr>
          <a:xfrm>
            <a:off x="3924360" y="4724280"/>
            <a:ext cx="13176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16480" y="2614680"/>
            <a:ext cx="6188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xed.ru/praktika/realizatsiya-273-f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3500280"/>
            <a:ext cx="792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N 273-ФЗ"Об образовании в Российской Федерации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484280"/>
            <a:ext cx="81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portal.iv-edu.ru/dep/mouofurmn/commondocs/BblcTynJIeHuR/273-Q3_poquTeJIRM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62064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otherreferats.allbest.ru/pedagogics/00060809_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13:44:28Z</dcterms:created>
  <dc:creator>Марина</dc:creator>
  <dc:description/>
  <dc:language>en-US</dc:language>
  <cp:lastModifiedBy>Admin</cp:lastModifiedBy>
  <dcterms:modified xsi:type="dcterms:W3CDTF">2014-09-20T03:43:40Z</dcterms:modified>
  <cp:revision>9</cp:revision>
  <dc:subject/>
  <dc:title>Слайд 1</dc:title>
</cp:coreProperties>
</file>