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718-FCC5-46CB-9199-EC27DE9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CAC-ED2F-4360-A4D5-CE8C0DF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2E9-C64E-4B70-A77F-AEDBDE71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C03-B321-4248-9952-967F7B44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BE7-6D9E-4D2B-9525-26828E6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DEA-7684-4023-9F4C-D52BC076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985-2D2F-4467-ABF6-BE28895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795-B467-4CE8-8F86-5E195D2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7D0-1D4E-4354-90AC-8CE61DA3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E6F-F63D-4C04-A069-19E9C75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05D-4437-4DC8-8B84-114A2ACE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B96-AAC3-4837-9661-3DED9A0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6050-05BD-4D52-BCA7-1EE6FFEE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0.wav" TargetMode="External"/><Relationship Id="rId2" Type="http://schemas.microsoft.com/office/2007/relationships/media" Target="file:///tmp/home/.config/libreoffice/4/user/gallery/0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0" spc="-1" strike="noStrike">
                <a:solidFill>
                  <a:srgbClr val="0000ff"/>
                </a:solidFill>
                <a:latin typeface="Arial"/>
              </a:rPr>
              <a:t>географи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99320" cy="419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0872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27903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200" spc="-1" strike="noStrike">
                <a:solidFill>
                  <a:srgbClr val="0000ff"/>
                </a:solidFill>
                <a:latin typeface="Arial"/>
              </a:rPr>
              <a:t>океаны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72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2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35560" cy="5185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Тихий оке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4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533920" cy="5567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Атлантический оке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740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27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124600" cy="511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Индийский оке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56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886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еверный Ледовитый оке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32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Европ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405" t="5360" r="4054" b="5360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36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28960" y="0"/>
            <a:ext cx="5315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6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239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4204" t="8562" r="3675" b="3423"/>
          <a:stretch/>
        </p:blipFill>
        <p:spPr>
          <a:xfrm>
            <a:off x="3294000" y="0"/>
            <a:ext cx="585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08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5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еверная Америка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198" t="4488" r="3198" b="3265"/>
          <a:stretch/>
        </p:blipFill>
        <p:spPr>
          <a:xfrm>
            <a:off x="3817800" y="0"/>
            <a:ext cx="53262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9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923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Южная</a:t>
            </a:r>
            <a:r>
              <a:rPr b="1" lang="en-US" sz="18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2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Америка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1417"/>
          <a:stretch/>
        </p:blipFill>
        <p:spPr>
          <a:xfrm>
            <a:off x="3797280" y="0"/>
            <a:ext cx="534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24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9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4676"/>
          <a:stretch/>
        </p:blipFill>
        <p:spPr>
          <a:xfrm>
            <a:off x="1835280" y="260280"/>
            <a:ext cx="5397480" cy="540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2472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9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нтаркти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545080" cy="544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1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кеан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506" t="4806" r="2506" b="3005"/>
          <a:stretch/>
        </p:blipFill>
        <p:spPr>
          <a:xfrm>
            <a:off x="684360" y="404640"/>
            <a:ext cx="7864200" cy="530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41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2:02:34Z</dcterms:created>
  <dc:creator>Interbaby</dc:creator>
  <dc:description/>
  <dc:language>en-US</dc:language>
  <cp:lastModifiedBy>Татьяна</cp:lastModifiedBy>
  <dcterms:modified xsi:type="dcterms:W3CDTF">2015-01-18T12:41:53Z</dcterms:modified>
  <cp:revision>5</cp:revision>
  <dc:subject/>
  <dc:title>География 15</dc:title>
</cp:coreProperties>
</file>