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635-9D83-41CF-867F-FA74BA48E2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E1D-0BEF-4E0E-B257-3222786EDED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58D-8D7B-4396-8655-AC8D7C18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854-3D85-47C0-9DDA-CD039EC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760-7D7A-42D2-9C0C-70F109A0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B5A-3C7D-42FF-8DC9-BFF1B9DF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C226-4D19-4B41-BA85-11A111C4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B407-0CB8-4856-A50F-772BAC3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38B-1873-4084-8FFB-0E9EFEEB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F6C0-9449-4058-BD9A-03033226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DCB-BEDB-47AB-9C8F-9E1EB81A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94FD-53DD-4A5C-8623-A7C085CF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099D-C31F-4274-856E-805F2CE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2A3-6F6B-457F-9952-8992D686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135C-0E59-4571-AB6C-25358428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26A4-41E5-41C2-9557-F9093D8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5B2-A1DE-47C0-842A-6228E19B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A786-9B62-4EC3-8843-D009B695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2047-998C-407F-988F-F3244B6A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32D70-205C-4CC0-B2ED-074498A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5F98C-ADDE-4D46-A094-D10CF6B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19627-20D2-44FB-B026-FE291705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11EA6-B1E3-4984-8B21-6FEA268E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91A6C-1DB0-47C8-BF80-1E3ED2D5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F75-F09A-47A9-B5B8-09C8118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BFE7-3C48-43C2-8811-957DCFEC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298B1-F200-4F3A-802B-040AB61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08087-6F7D-40E3-9F42-E8996BD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07039-CF41-4060-98BF-5A172DE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18032-682E-42DA-A647-80F91DFD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635C7-0707-4F2F-A8EB-5FBD897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70675-6367-4B84-A76D-8AC39991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13DF-3BE5-4474-A123-5A0781FF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7F2E-4BE9-4E33-849D-B424CAA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375B-F6F6-462B-B530-63659DB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6B6-EB11-4D49-86F0-2A0CDC9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DDEC-C8EF-43EA-A89F-40A17C0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7017-7ACA-45FD-BD46-5FBDF24A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1D1C-CF73-4DF0-8442-0393F33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14B4-DEE3-4DD8-BDD4-BC631DD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DEE5-4600-49F4-B488-32B700F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EDE4-0E00-47D5-9775-219BA5D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0EDD-7556-407C-8611-030BD25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E024-D896-49C5-BD8A-94046D68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9FA5-E96D-45F4-98E9-3094AA70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883-0545-47E5-9798-5DCBB552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A02-31E9-4730-B0EA-4EC9375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794-15D3-4D60-9572-52005D9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12C-B260-43AE-BF94-D2D3D16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AF2-DA45-4323-BA30-60C8CBC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58D-3C79-4DA7-8079-B2FC70D7FB0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B57-31FD-4A42-BC4E-5BD648E04DBC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7C0-0CE2-4720-B9FA-B6BF54E40FF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5372-39C0-4006-A4D0-C7A6D7DAC80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25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4c600"/>
                </a:solidFill>
                <a:latin typeface="Century Gothic"/>
              </a:rPr>
              <a:t>Урок русского языка в 4 Б класс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итель: Прошивалко Марина Викторовна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БОУ «Знаменская средняя школа»</a:t>
            </a:r>
            <a:br>
              <a:rPr sz="1500"/>
            </a:b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Прямоугольник 3" descr=""/>
          <p:cNvPicPr/>
          <p:nvPr/>
        </p:nvPicPr>
        <p:blipFill>
          <a:blip r:embed="rId1"/>
          <a:stretch/>
        </p:blipFill>
        <p:spPr>
          <a:xfrm>
            <a:off x="981000" y="571680"/>
            <a:ext cx="6791400" cy="5713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4"/>
          <p:cNvSpPr/>
          <p:nvPr/>
        </p:nvSpPr>
        <p:spPr>
          <a:xfrm>
            <a:off x="714240" y="1225440"/>
            <a:ext cx="692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Потянуться,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Отдохнуть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Глубоко теперь вздохнуть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Встать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Попрыгать,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Поклонитьс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И опять начать трудитьс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Picture 9" descr="F:\z39bb2.gif"/>
          <p:cNvPicPr/>
          <p:nvPr/>
        </p:nvPicPr>
        <p:blipFill>
          <a:blip r:embed="rId2"/>
          <a:stretch/>
        </p:blipFill>
        <p:spPr>
          <a:xfrm>
            <a:off x="6000840" y="1214280"/>
            <a:ext cx="27144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7D5C147B.mp3" descr=""/>
          <p:cNvPicPr/>
          <p:nvPr/>
        </p:nvPicPr>
        <p:blipFill>
          <a:blip r:embed="rId3"/>
          <a:stretch/>
        </p:blipFill>
        <p:spPr>
          <a:xfrm>
            <a:off x="7848720" y="503712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1915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714240" y="100008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4c600"/>
                </a:solidFill>
                <a:latin typeface="Century Gothic"/>
              </a:rPr>
              <a:t>Работа по карточкам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Picture 2" descr="http://im5-tub-ru.yandex.net/i?id=148504664-53-72"/>
          <p:cNvPicPr/>
          <p:nvPr/>
        </p:nvPicPr>
        <p:blipFill>
          <a:blip r:embed="rId1"/>
          <a:stretch/>
        </p:blipFill>
        <p:spPr>
          <a:xfrm>
            <a:off x="3143160" y="2357280"/>
            <a:ext cx="35006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500040" y="1755720"/>
            <a:ext cx="557208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ть стремление -…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испытывают  волнение-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ть ошибки -…  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спытывает радость-… 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2643120" y="928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entury Gothic"/>
              </a:rPr>
              <a:t>Проверим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4857840" y="19288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тремит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4143240" y="35719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ошибат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5929200" y="27860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волнуютс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4857840" y="42148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радуетс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356240" y="6072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2"/>
          <p:cNvSpPr/>
          <p:nvPr/>
        </p:nvSpPr>
        <p:spPr>
          <a:xfrm>
            <a:off x="1559880" y="100008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Работа по учебнику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6" descr="7"/>
          <p:cNvPicPr/>
          <p:nvPr/>
        </p:nvPicPr>
        <p:blipFill>
          <a:blip r:embed="rId1"/>
          <a:stretch/>
        </p:blipFill>
        <p:spPr>
          <a:xfrm>
            <a:off x="4786200" y="3786120"/>
            <a:ext cx="3875040" cy="244944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5"/>
          <p:cNvSpPr/>
          <p:nvPr/>
        </p:nvSpPr>
        <p:spPr>
          <a:xfrm>
            <a:off x="857160" y="17146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21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2143080" y="785880"/>
            <a:ext cx="61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4c600"/>
                </a:solidFill>
                <a:latin typeface="Century Gothic"/>
              </a:rPr>
              <a:t>Самопроверк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85920" y="2035080"/>
          <a:ext cx="6929280" cy="2897280"/>
        </p:xfrm>
        <a:graphic>
          <a:graphicData uri="http://schemas.openxmlformats.org/drawingml/2006/table">
            <a:tbl>
              <a:tblPr/>
              <a:tblGrid>
                <a:gridCol w="3209760"/>
                <a:gridCol w="3719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ваю</a:t>
                      </a:r>
                      <a:r>
                        <a:rPr b="1" lang="ru-RU" sz="3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ва</a:t>
                      </a:r>
                      <a:r>
                        <a:rPr b="1" lang="ru-RU" sz="3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и</a:t>
                      </a:r>
                      <a:r>
                        <a:rPr b="1" lang="ru-RU" sz="3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уди</a:t>
                      </a:r>
                      <a:r>
                        <a:rPr b="1" lang="ru-RU" sz="3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Прямоугольник 4"/>
          <p:cNvSpPr/>
          <p:nvPr/>
        </p:nvSpPr>
        <p:spPr>
          <a:xfrm>
            <a:off x="6927840" y="57862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7"/>
          <p:cNvSpPr/>
          <p:nvPr/>
        </p:nvSpPr>
        <p:spPr>
          <a:xfrm>
            <a:off x="1428840" y="428760"/>
            <a:ext cx="5184720" cy="2565360"/>
          </a:xfrm>
          <a:prstGeom prst="cloudCallout">
            <a:avLst>
              <a:gd name="adj1" fmla="val 63504"/>
              <a:gd name="adj2" fmla="val 40472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WordArt 4"/>
          <p:cNvSpPr txBox="1"/>
          <p:nvPr/>
        </p:nvSpPr>
        <p:spPr>
          <a:xfrm>
            <a:off x="1979640" y="189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042920" y="142884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ую цель ставили на начало урока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3786120" y="3571920"/>
            <a:ext cx="5113440" cy="2376360"/>
          </a:xfrm>
          <a:prstGeom prst="cloudCallout">
            <a:avLst>
              <a:gd name="adj1" fmla="val -57421"/>
              <a:gd name="adj2" fmla="val 4412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4140360" y="4076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, когда в конце глаголов следует писать  - тся, а когда – ться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246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работ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2920" y="2000160"/>
            <a:ext cx="3643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5" name="Рисунок 5" descr=""/>
          <p:cNvPicPr/>
          <p:nvPr/>
        </p:nvPicPr>
        <p:blipFill>
          <a:blip r:embed="rId1"/>
          <a:stretch/>
        </p:blipFill>
        <p:spPr>
          <a:xfrm>
            <a:off x="4286160" y="3714840"/>
            <a:ext cx="4357800" cy="29336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1071720" y="11210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18-17 баллов-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«5»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16- 14 баллов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«4»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13- 9 баллов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«3»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928800" y="407196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иже 9 балло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- «2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Домашнее задание 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по выбор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99680" y="2323800"/>
            <a:ext cx="7319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. С. 60-61, упр.138  или 139 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ыбору)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0" name="Рисунок 4" descr=""/>
          <p:cNvPicPr/>
          <p:nvPr/>
        </p:nvPicPr>
        <p:blipFill>
          <a:blip r:embed="rId1"/>
          <a:stretch/>
        </p:blipFill>
        <p:spPr>
          <a:xfrm>
            <a:off x="5000760" y="2643120"/>
            <a:ext cx="447660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11280" y="-426600"/>
            <a:ext cx="2952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2600" y="1484280"/>
            <a:ext cx="80010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e3d2d"/>
                </a:solidFill>
                <a:latin typeface="Century Gothic"/>
              </a:rPr>
              <a:t>«</a:t>
            </a:r>
            <a:r>
              <a:rPr b="0" lang="ru-RU" sz="6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Если мы будем хорошо знать русский язык, то сможем …»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2952720" cy="4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Повторим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71680" y="1484280"/>
            <a:ext cx="8215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34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Что называется глаголом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На какие вопросы отвечает неопределенная форма глагола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Какие глаголы называются возвратными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На какие вопросы отвечает глагол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 лица ед. и мн. числа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7000920" y="5357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42600" y="1557000"/>
            <a:ext cx="742932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d2d"/>
                </a:solidFill>
                <a:latin typeface="Century Gothic"/>
              </a:rPr>
              <a:t>Тот труда не бои(т…ся),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d2d"/>
                </a:solidFill>
                <a:latin typeface="Century Gothic"/>
              </a:rPr>
              <a:t>Кто умеет труди(т…ся).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064000" y="1557000"/>
            <a:ext cx="7956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430560"/>
            <a:ext cx="70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Oval 21"/>
          <p:cNvSpPr/>
          <p:nvPr/>
        </p:nvSpPr>
        <p:spPr>
          <a:xfrm>
            <a:off x="2643120" y="3786120"/>
            <a:ext cx="314316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ся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или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ьс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6856200" y="5643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3567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           </a:t>
            </a:r>
            <a:r>
              <a:rPr b="1" lang="ru-RU" sz="48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8400" y="2313000"/>
            <a:ext cx="87152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« Правописание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- тся   </a:t>
            </a:r>
            <a:r>
              <a:rPr b="1" lang="ru-RU" sz="5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ться </a:t>
            </a:r>
            <a:r>
              <a:rPr b="1" lang="ru-RU" sz="5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в  возвратных глаголах »</a:t>
            </a:r>
            <a:br>
              <a:rPr sz="5400"/>
            </a:b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143480" y="2313000"/>
            <a:ext cx="9205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7" name="Picture 6" descr="7"/>
          <p:cNvPicPr/>
          <p:nvPr/>
        </p:nvPicPr>
        <p:blipFill>
          <a:blip r:embed="rId1"/>
          <a:stretch/>
        </p:blipFill>
        <p:spPr>
          <a:xfrm>
            <a:off x="785880" y="214200"/>
            <a:ext cx="173196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2960" y="1928520"/>
            <a:ext cx="785808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знакомиться с правилом правописания –тся, - ться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 возвратных глаголах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Picture 6" descr="7"/>
          <p:cNvPicPr/>
          <p:nvPr/>
        </p:nvPicPr>
        <p:blipFill>
          <a:blip r:embed="rId1"/>
          <a:stretch/>
        </p:blipFill>
        <p:spPr>
          <a:xfrm>
            <a:off x="6929280" y="285840"/>
            <a:ext cx="173196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57200" y="1026720"/>
            <a:ext cx="671040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Работа в группа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1857240"/>
            <a:ext cx="2376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c600"/>
                </a:solidFill>
                <a:latin typeface="Century Gothic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.ф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Gothic"/>
              </a:rPr>
              <a:t>Что</a:t>
            </a: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entury Gothic"/>
              </a:rPr>
              <a:t>дела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entury Gothic"/>
              </a:rPr>
              <a:t>ть</a:t>
            </a: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99640" y="3071880"/>
            <a:ext cx="25290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са</a:t>
            </a:r>
            <a:r>
              <a:rPr b="1" lang="ru-RU" sz="3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ть</a:t>
            </a: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я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па</a:t>
            </a:r>
            <a:r>
              <a:rPr b="1" lang="ru-RU" sz="3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ть</a:t>
            </a: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я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тара</a:t>
            </a:r>
            <a:r>
              <a:rPr b="1" lang="ru-RU" sz="3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ть</a:t>
            </a: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я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4840" y="1856880"/>
            <a:ext cx="5929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-е л., ед.ч., мн.ч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c600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entury Gothic"/>
              </a:rPr>
              <a:t>Что делает?      Что делают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99920" y="3071520"/>
            <a:ext cx="600084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сае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         </a:t>
            </a: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саю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пае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         </a:t>
            </a: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упаю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тарае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        </a:t>
            </a:r>
            <a:r>
              <a:rPr b="0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тараю</a:t>
            </a:r>
            <a:r>
              <a:rPr b="1" lang="ru-RU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тся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Рисунок 5" descr=""/>
          <p:cNvPicPr/>
          <p:nvPr/>
        </p:nvPicPr>
        <p:blipFill>
          <a:blip r:embed="rId1"/>
          <a:stretch/>
        </p:blipFill>
        <p:spPr>
          <a:xfrm>
            <a:off x="-142920" y="0"/>
            <a:ext cx="2760840" cy="2076480"/>
          </a:xfrm>
          <a:prstGeom prst="rect">
            <a:avLst/>
          </a:prstGeom>
          <a:ln w="0">
            <a:noFill/>
          </a:ln>
        </p:spPr>
      </p:pic>
      <p:sp>
        <p:nvSpPr>
          <p:cNvPr id="367" name="Oval 21"/>
          <p:cNvSpPr/>
          <p:nvPr/>
        </p:nvSpPr>
        <p:spPr>
          <a:xfrm>
            <a:off x="2714760" y="5072040"/>
            <a:ext cx="3857400" cy="15145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авило стр.10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7213320" y="59292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7"/>
          <p:cNvSpPr/>
          <p:nvPr/>
        </p:nvSpPr>
        <p:spPr>
          <a:xfrm>
            <a:off x="642960" y="642960"/>
            <a:ext cx="6264360" cy="4249800"/>
          </a:xfrm>
          <a:prstGeom prst="wedgeRectCallout">
            <a:avLst>
              <a:gd name="adj1" fmla="val 59754"/>
              <a:gd name="adj2" fmla="val 3490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714240" y="1143000"/>
            <a:ext cx="5929560" cy="31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жде чем глагол пис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забудь вопрос зада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мягкий знак в вопросе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 в глагол его внос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71" name="Picture 2" descr="http://im5-tub-ru.yandex.net/i?id=148504664-53-72"/>
          <p:cNvPicPr/>
          <p:nvPr/>
        </p:nvPicPr>
        <p:blipFill>
          <a:blip r:embed="rId1"/>
          <a:stretch/>
        </p:blipFill>
        <p:spPr>
          <a:xfrm>
            <a:off x="6572160" y="457200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4"/>
          <p:cNvSpPr txBox="1"/>
          <p:nvPr/>
        </p:nvSpPr>
        <p:spPr>
          <a:xfrm>
            <a:off x="928800" y="260280"/>
            <a:ext cx="7786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latin typeface="Arial"/>
              </a:rPr>
              <a:t>распределить слова в два столб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latin typeface="Arial"/>
              <a:ea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27280" y="1989000"/>
          <a:ext cx="3898800" cy="1611360"/>
        </p:xfrm>
        <a:graphic>
          <a:graphicData uri="http://schemas.openxmlformats.org/drawingml/2006/table">
            <a:tbl>
              <a:tblPr/>
              <a:tblGrid>
                <a:gridCol w="1979640"/>
                <a:gridCol w="19191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 Box 17"/>
          <p:cNvSpPr/>
          <p:nvPr/>
        </p:nvSpPr>
        <p:spPr>
          <a:xfrm>
            <a:off x="714240" y="364500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хвалит…ся, вращат…ся, качат…ся, она боит…ся,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нравят…ся, прощат…ся.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14200" y="1670040"/>
          <a:ext cx="8569440" cy="4330800"/>
        </p:xfrm>
        <a:graphic>
          <a:graphicData uri="http://schemas.openxmlformats.org/drawingml/2006/table">
            <a:tbl>
              <a:tblPr/>
              <a:tblGrid>
                <a:gridCol w="4283280"/>
                <a:gridCol w="4286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ли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а</a:t>
                      </a:r>
                      <a:r>
                        <a:rPr b="0" lang="ru-RU" sz="4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ь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и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</a:t>
                      </a:r>
                      <a:r>
                        <a:rPr b="0" lang="ru-RU" sz="4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ь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я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ща</a:t>
                      </a:r>
                      <a:r>
                        <a:rPr b="0" lang="ru-RU" sz="4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ьс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WordArt 143"/>
          <p:cNvSpPr txBox="1"/>
          <p:nvPr/>
        </p:nvSpPr>
        <p:spPr>
          <a:xfrm>
            <a:off x="2071800" y="178596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WordArt 144"/>
          <p:cNvSpPr txBox="1"/>
          <p:nvPr/>
        </p:nvSpPr>
        <p:spPr>
          <a:xfrm>
            <a:off x="6357960" y="178596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Прямоугольник 8"/>
          <p:cNvSpPr/>
          <p:nvPr/>
        </p:nvSpPr>
        <p:spPr>
          <a:xfrm>
            <a:off x="7284960" y="61437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ценит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21:47Z</dcterms:created>
  <dc:creator>Александр Одинцов</dc:creator>
  <dc:description/>
  <dc:language>en-US</dc:language>
  <cp:lastModifiedBy>User</cp:lastModifiedBy>
  <dcterms:modified xsi:type="dcterms:W3CDTF">2014-10-19T06:06:51Z</dcterms:modified>
  <cp:revision>88</cp:revision>
  <dc:subject/>
  <dc:title>Презентация PowerPoint</dc:title>
</cp:coreProperties>
</file>