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347-2B13-450E-92E9-0FB0B810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A32-FA23-445E-A385-BDE65D0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587-153D-46CD-8BC1-1FB056A0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DD5-A740-495E-B387-86BE89DB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A04-123E-4DBA-A782-8422BD6E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B13-E95F-41F8-81EE-A5367BF9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BA3-08E4-4738-A467-486CDDE7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06E-7D55-4647-B396-75EE988F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C2A-7484-4ACA-B203-CFF124EC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6C2-26FB-48C1-8F98-3E8B42D2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3A8-8606-44EF-98F4-EDDD83B0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DF6-D5D7-44FD-9BBD-740B5D8F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644-1991-4805-A561-00BE01EF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lackadder ITC"/>
              </a:rPr>
              <a:t>ГОРОДЕТСКАЯ РОС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6913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-17640"/>
            <a:ext cx="8964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5520" cy="626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88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86756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doni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doni MT Condensed"/>
              </a:rPr>
              <a:t>На левом берегу Волги, чуть выше Нижнего Новгорода, раскинулось большое село Городец, основанное еще в XII веке. Изделия небольшого размера или утилитарного назначения (солонка,сундучок для детских игрушек), как правило, расписаны растительными узорами, в которых белыми штрихами разделаныцветок розы, листья, ветки, оперение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103640" cy="335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-3240"/>
            <a:ext cx="69487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4162320" cy="690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27400" y="0"/>
            <a:ext cx="501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2007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9360"/>
            <a:ext cx="8496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20:26:22Z</dcterms:created>
  <dc:creator>Admin</dc:creator>
  <dc:description/>
  <dc:language>en-US</dc:language>
  <cp:lastModifiedBy>Admin</cp:lastModifiedBy>
  <dcterms:modified xsi:type="dcterms:W3CDTF">2015-01-18T10:33:19Z</dcterms:modified>
  <cp:revision>3</cp:revision>
  <dc:subject/>
  <dc:title>ГОРОДЕТСКАЯ РОСПИСЬ</dc:title>
</cp:coreProperties>
</file>